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E836-85AA-423D-BC67-3849952B0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E3F0-153C-4FAB-80C3-3791AE24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BC2F-ADBA-4D37-9D64-42B1D342A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D32D-B01E-4301-99E9-A859B9D11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0EC5-5D7E-443C-BA62-D208D3648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866C-48A1-493E-B469-3BD8B80D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AE42-5473-486E-8F57-BB42098E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88009-A78C-4293-A1F0-EF4A55C0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E83E-5C7A-4B63-9AB4-F9F72E4E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8C2D-4831-46E3-85DB-D9849A71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759B-9D14-441C-98D2-303B399B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66B9-2E2A-4284-B867-51E54A52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EFF7-83B4-4A90-B3E9-12ECEA27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D842D-F483-4440-B2F9-BCDC43DE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1F72-7A90-4B14-A641-58F8658C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649F-0747-413C-AB6E-DDFCB3D70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92D8-74CD-43C4-9377-5C11F144E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D003F-87A2-4144-9EF0-EEE375DBA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83913-796E-47F3-B539-18FB351D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4C0C7-1385-4E54-BC4F-CBD7BD9E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72B2F-79F9-41D7-ADAA-9B857FC7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363F6-A91D-4085-BEB3-3CC184C9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BB84-2E53-40A8-B2D4-3F57370D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66208-E55E-4F10-B498-587B5FB2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EF1AD-2DC5-4AB5-94B1-03F4223C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AA93C-5431-4CE1-9433-6E31CCD5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1501A-B8B4-4558-969B-59B73289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5F4CA-89FB-4198-916F-3014E256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FCC40-DD6A-4512-8690-2A609B8FA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C180B-B397-4B10-A1DB-778170FC3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0E4D8-A368-4519-B928-E17FFF731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E3F4C-C2BB-4210-9DA7-0AA38145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5B239-387D-4A57-8BD5-4FE1A6E3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D7DD-9F78-4121-9606-D8D2A38F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4CB79-9482-46F2-A45D-D7844665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5ABBA-9E15-4194-8915-CA2FEE81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82344-390F-40DF-836B-F8454A49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D2E75-CF9F-4634-B491-DC96A239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D900E-2297-450F-B134-BBA7C396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7CCEF-B3FD-4CF1-A329-BFB3A9CF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D1504-E9D3-4DB7-A7AE-EC285A83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E3956-8AAD-4D3B-9C18-64A2350FA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D05B4-CDA8-4B7E-B240-9365B57E2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54A1B-EE69-4BC1-80D8-828DFDFB8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2ADE-8E09-4431-9F12-2DAB78F7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16837-89ED-4151-9307-38E22E6E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9B2C5-44A5-4A27-BEAE-AC96E5C5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C2AC3-520C-4B4D-8FC1-C836DF54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FBE70-393D-4CF8-932D-A99AC35A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F885B-3AA5-4F09-A726-9697789F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D7DC9-1AC1-444B-AC44-E07D379B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A67C0-C7BB-4598-89DE-A55F6F56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B7E5D-2C9D-4445-83D9-BC64FC0F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6D65B-EE20-4C11-8116-84896810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8613E-2341-4C8D-B4FB-01AF45488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3C73-52F0-49F7-8087-011AC034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8FB3C-81ED-44A0-BA99-FFC2C2EA8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5D280-5DB1-401E-88B0-58EF83CBF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D9CE2-EDE4-4FEA-8697-45CE3F5B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E4E36-B6C5-4E3D-91D8-AEAA8331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79C58-EA70-4B5B-A1A8-CB8D6CB6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DADC3-F043-4AAE-B043-76406B6A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9659F-4536-40FF-8790-81A710D5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14178-0073-4769-8A9F-CFCAC685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AFE1E-B7CC-4738-81D6-525450C3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7D681-F42C-4E69-9119-2694EC92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1BE7-68DA-465C-8DDD-981E05AB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D733D-A0E6-4508-81DF-1B1163E1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AEB91-A7D0-4A5B-96CD-807D9DD21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4EFE9-F5A7-4B6C-BDA5-AF020402D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663E-1645-46CC-A02F-E72C522F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CBCC-6746-46CF-8025-46F8079B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52D4-5179-4072-A329-8792AB91C19E}" type="slidenum"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3E0D-4036-49CA-8068-669FFD596956}" type="slidenum"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6EC2-7AF1-4B59-8B0C-52C26FF932CB}" type="slidenum"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64C6-FB82-47E8-BA5C-E109D6A527FA}" type="slidenum"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496F-7A46-426E-8BE5-26BF22DB9390}" type="slidenum"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7A62-665A-442D-A42C-10A3D1D83B46}" type="slidenum"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Прямоугольник 5"/>
          <p:cNvSpPr/>
          <p:nvPr/>
        </p:nvSpPr>
        <p:spPr>
          <a:xfrm>
            <a:off x="762120" y="609480"/>
            <a:ext cx="769608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Georgia"/>
                <a:ea typeface="Arial"/>
              </a:rPr>
              <a:t>Бережливые технологии в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Georgia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0070c0"/>
                </a:solidFill>
                <a:latin typeface="Georgia"/>
                <a:ea typeface="Arial"/>
              </a:rPr>
              <a:t>МБДОУ «Детский сад № 14»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 улучшений в ДОУ: предметно-пространственная среда в ДОУ.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66" name="Прямоугольник 7"/>
          <p:cNvSpPr/>
          <p:nvPr/>
        </p:nvSpPr>
        <p:spPr>
          <a:xfrm>
            <a:off x="1295280" y="2743200"/>
            <a:ext cx="701064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668c4"/>
                </a:solidFill>
                <a:latin typeface="Georgia"/>
                <a:ea typeface="Arial"/>
              </a:rPr>
              <a:t>Проект «Оптимизация игрового пространства в группах раннего возраста»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1 г.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pic>
        <p:nvPicPr>
          <p:cNvPr id="267" name="Picture 23" descr=""/>
          <p:cNvPicPr/>
          <p:nvPr/>
        </p:nvPicPr>
        <p:blipFill>
          <a:blip r:embed="rId1"/>
          <a:stretch/>
        </p:blipFill>
        <p:spPr>
          <a:xfrm>
            <a:off x="5943600" y="4495680"/>
            <a:ext cx="2209680" cy="12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609480" y="1600200"/>
          <a:ext cx="7925040" cy="2103480"/>
        </p:xfrm>
        <a:graphic>
          <a:graphicData uri="http://schemas.openxmlformats.org/drawingml/2006/table">
            <a:tbl>
              <a:tblPr/>
              <a:tblGrid>
                <a:gridCol w="1981440"/>
                <a:gridCol w="1981080"/>
                <a:gridCol w="1676520"/>
                <a:gridCol w="2286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ходное состоя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левое состоя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лученный резуль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тимизация игрового пространства в группах раннего возра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овой материал  в группе  (на полках в шкафах) размещен не рациональн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уборки игрового материала – 12 ми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уборки игрового материала – 6 ми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 для организации игровой деятельности систематизирова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и  экономят время, игровой материал быстро  размещают в игровых  центра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sp>
        <p:nvSpPr>
          <p:cNvPr id="269" name="Стрелка вправо 4"/>
          <p:cNvSpPr/>
          <p:nvPr/>
        </p:nvSpPr>
        <p:spPr>
          <a:xfrm>
            <a:off x="4343400" y="4800600"/>
            <a:ext cx="685800" cy="484200"/>
          </a:xfrm>
          <a:prstGeom prst="rightArrow">
            <a:avLst>
              <a:gd name="adj1" fmla="val 97213"/>
              <a:gd name="adj2" fmla="val 49998"/>
            </a:avLst>
          </a:prstGeom>
          <a:solidFill>
            <a:srgbClr val="fe8637"/>
          </a:solidFill>
          <a:ln w="424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70" name="Прямоугольник 5"/>
          <p:cNvSpPr/>
          <p:nvPr/>
        </p:nvSpPr>
        <p:spPr>
          <a:xfrm>
            <a:off x="914400" y="6094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Georgia"/>
                <a:ea typeface="Arial"/>
              </a:rPr>
              <a:t>Бережливые технологии в МБДОУ «Детский сад № 14»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 улучшений в ДОУ: предметно-пространственная среда в ДОУ.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71" name="Прямоугольник 7"/>
          <p:cNvSpPr/>
          <p:nvPr/>
        </p:nvSpPr>
        <p:spPr>
          <a:xfrm>
            <a:off x="2364480" y="6095880"/>
            <a:ext cx="39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72" name="Прямоугольник 9"/>
          <p:cNvSpPr/>
          <p:nvPr/>
        </p:nvSpPr>
        <p:spPr>
          <a:xfrm>
            <a:off x="6483600" y="6019920"/>
            <a:ext cx="64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</p:txBody>
      </p:sp>
      <p:pic>
        <p:nvPicPr>
          <p:cNvPr id="273" name="Picture 26" descr=""/>
          <p:cNvPicPr/>
          <p:nvPr/>
        </p:nvPicPr>
        <p:blipFill>
          <a:blip r:embed="rId1"/>
          <a:stretch/>
        </p:blipFill>
        <p:spPr>
          <a:xfrm>
            <a:off x="1015920" y="4114800"/>
            <a:ext cx="2465640" cy="18493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7" descr=""/>
          <p:cNvPicPr/>
          <p:nvPr/>
        </p:nvPicPr>
        <p:blipFill>
          <a:blip r:embed="rId2"/>
          <a:stretch/>
        </p:blipFill>
        <p:spPr>
          <a:xfrm>
            <a:off x="5562720" y="4057560"/>
            <a:ext cx="2490840" cy="18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Прямоугольник 5"/>
          <p:cNvSpPr/>
          <p:nvPr/>
        </p:nvSpPr>
        <p:spPr>
          <a:xfrm>
            <a:off x="914400" y="152280"/>
            <a:ext cx="7391520" cy="916920"/>
          </a:xfrm>
          <a:prstGeom prst="rect">
            <a:avLst/>
          </a:prstGeom>
          <a:solidFill>
            <a:srgbClr val="fdf5d5"/>
          </a:solidFill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  <a:ea typeface="Arial"/>
              </a:rPr>
              <a:t>Карта текущего состояния процесса 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  <a:ea typeface="Arial"/>
              </a:rPr>
              <a:t>«Оптимизация игрового пространства»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76" name="Прямоугольник 11"/>
          <p:cNvSpPr/>
          <p:nvPr/>
        </p:nvSpPr>
        <p:spPr>
          <a:xfrm>
            <a:off x="536760" y="1981080"/>
            <a:ext cx="212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 игрового материала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группе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77" name="Прямоугольник 16"/>
          <p:cNvSpPr/>
          <p:nvPr/>
        </p:nvSpPr>
        <p:spPr>
          <a:xfrm>
            <a:off x="2666880" y="205740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ференциация игрового материала по игровым центрам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78" name="Пятно 1 19"/>
          <p:cNvSpPr/>
          <p:nvPr/>
        </p:nvSpPr>
        <p:spPr>
          <a:xfrm>
            <a:off x="2971800" y="1219320"/>
            <a:ext cx="3733920" cy="914400"/>
          </a:xfrm>
          <a:prstGeom prst="irregularSeal1">
            <a:avLst/>
          </a:prstGeom>
          <a:solidFill>
            <a:srgbClr val="92d050"/>
          </a:solidFill>
          <a:ln w="424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еспорядочное размещение игрового материала</a:t>
            </a: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79" name="Прямоугольник 20"/>
          <p:cNvSpPr/>
          <p:nvPr/>
        </p:nvSpPr>
        <p:spPr>
          <a:xfrm>
            <a:off x="5943600" y="198108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ение игрушек, игрового материала на полках, в шкафах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</p:txBody>
      </p:sp>
      <p:cxnSp>
        <p:nvCxnSpPr>
          <p:cNvPr id="280" name="AutoShape 92"/>
          <p:cNvCxnSpPr/>
          <p:nvPr/>
        </p:nvCxnSpPr>
        <p:spPr>
          <a:xfrm>
            <a:off x="838080" y="2743200"/>
            <a:ext cx="751680" cy="218160"/>
          </a:xfrm>
          <a:prstGeom prst="bentConnector3">
            <a:avLst>
              <a:gd name="adj1" fmla="val 4988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1" name="AutoShape 94"/>
          <p:cNvCxnSpPr/>
          <p:nvPr/>
        </p:nvCxnSpPr>
        <p:spPr>
          <a:xfrm flipV="1">
            <a:off x="1905120" y="2742840"/>
            <a:ext cx="576360" cy="218160"/>
          </a:xfrm>
          <a:prstGeom prst="bentConnector3">
            <a:avLst>
              <a:gd name="adj1" fmla="val 4987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2" name="AutoShape 95"/>
          <p:cNvCxnSpPr/>
          <p:nvPr/>
        </p:nvCxnSpPr>
        <p:spPr>
          <a:xfrm>
            <a:off x="2514240" y="2743200"/>
            <a:ext cx="469080" cy="218160"/>
          </a:xfrm>
          <a:prstGeom prst="bentConnector3">
            <a:avLst>
              <a:gd name="adj1" fmla="val 4976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3" name="AutoShape 97"/>
          <p:cNvCxnSpPr/>
          <p:nvPr/>
        </p:nvCxnSpPr>
        <p:spPr>
          <a:xfrm>
            <a:off x="5105520" y="297144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4" name="AutoShape 98"/>
          <p:cNvCxnSpPr/>
          <p:nvPr/>
        </p:nvCxnSpPr>
        <p:spPr>
          <a:xfrm flipV="1">
            <a:off x="3733920" y="2742840"/>
            <a:ext cx="559080" cy="218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5" name="AutoShape 100"/>
          <p:cNvCxnSpPr/>
          <p:nvPr/>
        </p:nvCxnSpPr>
        <p:spPr>
          <a:xfrm>
            <a:off x="2742840" y="2971440"/>
            <a:ext cx="1235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6" name="AutoShape 99"/>
          <p:cNvCxnSpPr/>
          <p:nvPr/>
        </p:nvCxnSpPr>
        <p:spPr>
          <a:xfrm>
            <a:off x="4419360" y="2743200"/>
            <a:ext cx="407160" cy="218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7" name="AutoShape 101"/>
          <p:cNvCxnSpPr/>
          <p:nvPr/>
        </p:nvCxnSpPr>
        <p:spPr>
          <a:xfrm flipV="1">
            <a:off x="5562360" y="2742840"/>
            <a:ext cx="363960" cy="218160"/>
          </a:xfrm>
          <a:prstGeom prst="bentConnector3">
            <a:avLst>
              <a:gd name="adj1" fmla="val 4970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88" name="Rectangle 10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pic>
        <p:nvPicPr>
          <p:cNvPr id="289" name="Диаграмма 53" descr=""/>
          <p:cNvPicPr/>
          <p:nvPr/>
        </p:nvPicPr>
        <p:blipFill>
          <a:blip r:embed="rId1"/>
          <a:stretch/>
        </p:blipFill>
        <p:spPr>
          <a:xfrm>
            <a:off x="2514600" y="3581280"/>
            <a:ext cx="4286160" cy="2416320"/>
          </a:xfrm>
          <a:prstGeom prst="rect">
            <a:avLst/>
          </a:prstGeom>
          <a:ln w="0">
            <a:noFill/>
          </a:ln>
        </p:spPr>
      </p:pic>
      <p:cxnSp>
        <p:nvCxnSpPr>
          <p:cNvPr id="290" name="AutoShape 93"/>
          <p:cNvCxnSpPr/>
          <p:nvPr/>
        </p:nvCxnSpPr>
        <p:spPr>
          <a:xfrm>
            <a:off x="1600200" y="2971440"/>
            <a:ext cx="316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1" name="AutoShape 93"/>
          <p:cNvCxnSpPr/>
          <p:nvPr/>
        </p:nvCxnSpPr>
        <p:spPr>
          <a:xfrm>
            <a:off x="4800600" y="2971440"/>
            <a:ext cx="316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2" name="AutoShape 93"/>
          <p:cNvCxnSpPr/>
          <p:nvPr/>
        </p:nvCxnSpPr>
        <p:spPr>
          <a:xfrm>
            <a:off x="4114800" y="2742840"/>
            <a:ext cx="316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3" name="Прямоугольник 58"/>
          <p:cNvSpPr/>
          <p:nvPr/>
        </p:nvSpPr>
        <p:spPr>
          <a:xfrm>
            <a:off x="1452240" y="251460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мин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94" name="Прямоугольник 59"/>
          <p:cNvSpPr/>
          <p:nvPr/>
        </p:nvSpPr>
        <p:spPr>
          <a:xfrm>
            <a:off x="2900160" y="259092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мин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95" name="Прямоугольник 60"/>
          <p:cNvSpPr/>
          <p:nvPr/>
        </p:nvSpPr>
        <p:spPr>
          <a:xfrm>
            <a:off x="4957560" y="251460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мин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Прямоугольник 5"/>
          <p:cNvSpPr/>
          <p:nvPr/>
        </p:nvSpPr>
        <p:spPr>
          <a:xfrm>
            <a:off x="914400" y="152280"/>
            <a:ext cx="7391520" cy="916920"/>
          </a:xfrm>
          <a:prstGeom prst="rect">
            <a:avLst/>
          </a:prstGeom>
          <a:solidFill>
            <a:srgbClr val="fdf5d5"/>
          </a:solidFill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  <a:ea typeface="Arial"/>
              </a:rPr>
              <a:t>Карта целевого состояния процесса 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  <a:ea typeface="Arial"/>
              </a:rPr>
              <a:t>«Оптимизация игрового пространства»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97" name="Прямоугольник 11"/>
          <p:cNvSpPr/>
          <p:nvPr/>
        </p:nvSpPr>
        <p:spPr>
          <a:xfrm>
            <a:off x="536760" y="1981080"/>
            <a:ext cx="212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 игрового материала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группе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98" name="Прямоугольник 16"/>
          <p:cNvSpPr/>
          <p:nvPr/>
        </p:nvSpPr>
        <p:spPr>
          <a:xfrm>
            <a:off x="2743200" y="1981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ференциация игрового материала по игровым центрам (в контейнерах  с обозначением содержимого)</a:t>
            </a: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99" name="Пятно 1 19"/>
          <p:cNvSpPr/>
          <p:nvPr/>
        </p:nvSpPr>
        <p:spPr>
          <a:xfrm>
            <a:off x="2362320" y="1219320"/>
            <a:ext cx="4800600" cy="914400"/>
          </a:xfrm>
          <a:prstGeom prst="irregularSeal1">
            <a:avLst/>
          </a:prstGeom>
          <a:solidFill>
            <a:srgbClr val="92d050"/>
          </a:solidFill>
          <a:ln w="424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истематизация игрового материала, обозначение содержимого на контейнерах</a:t>
            </a: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00" name="Прямоугольник 20"/>
          <p:cNvSpPr/>
          <p:nvPr/>
        </p:nvSpPr>
        <p:spPr>
          <a:xfrm>
            <a:off x="5943600" y="198108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ение контейнеров с игровым материалом на полках, в шкафах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</p:txBody>
      </p:sp>
      <p:cxnSp>
        <p:nvCxnSpPr>
          <p:cNvPr id="301" name="AutoShape 92"/>
          <p:cNvCxnSpPr/>
          <p:nvPr/>
        </p:nvCxnSpPr>
        <p:spPr>
          <a:xfrm>
            <a:off x="838080" y="2743200"/>
            <a:ext cx="751680" cy="218160"/>
          </a:xfrm>
          <a:prstGeom prst="bentConnector3">
            <a:avLst>
              <a:gd name="adj1" fmla="val 4988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2" name="AutoShape 94"/>
          <p:cNvCxnSpPr/>
          <p:nvPr/>
        </p:nvCxnSpPr>
        <p:spPr>
          <a:xfrm flipV="1">
            <a:off x="1905120" y="2742840"/>
            <a:ext cx="576360" cy="218160"/>
          </a:xfrm>
          <a:prstGeom prst="bentConnector3">
            <a:avLst>
              <a:gd name="adj1" fmla="val 4987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AutoShape 95"/>
          <p:cNvCxnSpPr/>
          <p:nvPr/>
        </p:nvCxnSpPr>
        <p:spPr>
          <a:xfrm>
            <a:off x="2514240" y="2743200"/>
            <a:ext cx="469080" cy="218160"/>
          </a:xfrm>
          <a:prstGeom prst="bentConnector3">
            <a:avLst>
              <a:gd name="adj1" fmla="val 4976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4" name="AutoShape 97"/>
          <p:cNvCxnSpPr/>
          <p:nvPr/>
        </p:nvCxnSpPr>
        <p:spPr>
          <a:xfrm>
            <a:off x="5105520" y="297144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5" name="AutoShape 98"/>
          <p:cNvCxnSpPr/>
          <p:nvPr/>
        </p:nvCxnSpPr>
        <p:spPr>
          <a:xfrm flipV="1">
            <a:off x="3733920" y="2742840"/>
            <a:ext cx="559080" cy="218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6" name="AutoShape 100"/>
          <p:cNvCxnSpPr/>
          <p:nvPr/>
        </p:nvCxnSpPr>
        <p:spPr>
          <a:xfrm>
            <a:off x="2742840" y="2971440"/>
            <a:ext cx="1235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7" name="AutoShape 99"/>
          <p:cNvCxnSpPr/>
          <p:nvPr/>
        </p:nvCxnSpPr>
        <p:spPr>
          <a:xfrm>
            <a:off x="4419360" y="2743200"/>
            <a:ext cx="407160" cy="218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8" name="AutoShape 101"/>
          <p:cNvCxnSpPr/>
          <p:nvPr/>
        </p:nvCxnSpPr>
        <p:spPr>
          <a:xfrm flipV="1">
            <a:off x="5562360" y="2742840"/>
            <a:ext cx="363960" cy="218160"/>
          </a:xfrm>
          <a:prstGeom prst="bentConnector3">
            <a:avLst>
              <a:gd name="adj1" fmla="val 4970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9" name="Rectangle 10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cxnSp>
        <p:nvCxnSpPr>
          <p:cNvPr id="310" name="AutoShape 93"/>
          <p:cNvCxnSpPr/>
          <p:nvPr/>
        </p:nvCxnSpPr>
        <p:spPr>
          <a:xfrm>
            <a:off x="1600200" y="2971440"/>
            <a:ext cx="316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1" name="AutoShape 93"/>
          <p:cNvCxnSpPr/>
          <p:nvPr/>
        </p:nvCxnSpPr>
        <p:spPr>
          <a:xfrm>
            <a:off x="4800600" y="2971440"/>
            <a:ext cx="316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AutoShape 93"/>
          <p:cNvCxnSpPr/>
          <p:nvPr/>
        </p:nvCxnSpPr>
        <p:spPr>
          <a:xfrm>
            <a:off x="4114800" y="2742840"/>
            <a:ext cx="316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13" name="Прямоугольник 58"/>
          <p:cNvSpPr/>
          <p:nvPr/>
        </p:nvSpPr>
        <p:spPr>
          <a:xfrm>
            <a:off x="1452240" y="251460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мин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14" name="Прямоугольник 59"/>
          <p:cNvSpPr/>
          <p:nvPr/>
        </p:nvSpPr>
        <p:spPr>
          <a:xfrm>
            <a:off x="2900160" y="259092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мин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15" name="Прямоугольник 60"/>
          <p:cNvSpPr/>
          <p:nvPr/>
        </p:nvSpPr>
        <p:spPr>
          <a:xfrm>
            <a:off x="4957560" y="251460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мин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pic>
        <p:nvPicPr>
          <p:cNvPr id="316" name="Диаграмма 23" descr=""/>
          <p:cNvPicPr/>
          <p:nvPr/>
        </p:nvPicPr>
        <p:blipFill>
          <a:blip r:embed="rId1"/>
          <a:stretch/>
        </p:blipFill>
        <p:spPr>
          <a:xfrm>
            <a:off x="2590920" y="3581280"/>
            <a:ext cx="4286160" cy="23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Прямоугольник 4"/>
          <p:cNvSpPr/>
          <p:nvPr/>
        </p:nvSpPr>
        <p:spPr>
          <a:xfrm>
            <a:off x="2743200" y="274320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_vospitatel</dc:creator>
  <dc:description/>
  <dc:language>en-US</dc:language>
  <cp:lastModifiedBy>g_vospitatel</cp:lastModifiedBy>
  <dcterms:modified xsi:type="dcterms:W3CDTF">2021-11-24T10:17:10Z</dcterms:modified>
  <cp:revision>78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