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CAB2-2CA0-4D25-AEF5-FA5859AB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7931-EBC8-48DD-B446-8D1EB1E8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07C4-E5E3-4E73-82C9-1B58EEC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83B7-79A7-46E7-9A2A-06B08F75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ACEB-E922-49C4-9F48-06F84974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0573-9672-48FC-9540-CC06EFC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E11E-8AD9-44BD-86FD-031D74DA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33CB-D1DB-4F1C-90EA-5092334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27D-0501-4775-BDFE-5209690D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7707-EF47-4FD5-93A3-17FC4B2F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D06D-7EC6-4282-9749-2426DCF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ED9F-054D-4C63-B929-11438DA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DDC2-5617-4673-915C-5B3DD1A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84D5-A028-4AF8-933C-A091B2F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40D6-4151-48BF-8417-3A83232A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AFA-4829-4584-95D0-1ED1B2ED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C64-2DDF-47C4-8A98-CF7D4770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8406-DE0B-4F42-9004-D6A7827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C313-3DB9-4F94-8029-2438E11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78D6-EFE1-4584-85D1-A7DAA20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07CA-3FFC-494F-B2B1-BE1C8AD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0547-140B-4C93-9FC2-B341DEB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2E0B-3A9F-40F1-B45D-E92DD92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CBFE-C503-4EB6-A874-CAE4FF36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2EC6-AC93-437F-B1B6-1BCE9BFD0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BCCB-DA2A-4E1E-A8A1-F7CB4D31A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тегия воспитания в условиях внедр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льных Государственных Образовательных Стандар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A5BF-8D11-458C-B46B-722E2B23D4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554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труктур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граммы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ховно-нравственного развития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 воспитания обучающихся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7396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и ценностные основы духовно-нравственного развит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нципы и особенности организаци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содержания духовно-нравственного развития и воспитания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ное содержани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иды деятельности и формы занятий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с обучающим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вместная деятельность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школы, семьи и общественности по духовно-нравственному развитию и воспит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овышение педагогической культур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родителей (законных представителей)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F58C-4DAA-4BA9-8D8C-D4479BB101AE}" type="slidenum">
              <a:t>10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471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одержание програм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новные направления духовно-нравственного развития и воспита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воспитание гражданственности, патриотизма, уважения к правам, свободам и обязанностям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воспитание нравственных чувств и этического созн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воспитание трудолюбия, творческого отношения к учению, труду, жизн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воспитание ценностного отношения к природе, окружающей среде (экологическое воспитан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воспитание ценностного отношения к прекрасному, формирование представлений об эстетических идеалах и ценностях (эстетическое воспит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093F-A60D-40C6-9C26-D3A832545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уховно-нрав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бщеинтеллекту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бщекульту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Спортивно-оздоро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Раздел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Внеурочная деятельност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является неотъемлемой частью образовательного процесса в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303B-E8AC-4555-B53A-1E33E0B450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"/>
                            </p:stCondLst>
                            <p:childTnLst>
                              <p:par>
                                <p:cTn id="2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60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1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600"/>
                            </p:stCondLst>
                            <p:childTnLst>
                              <p:par>
                                <p:cTn id="247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18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неурочн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316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Духовно-нрав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ще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щекульту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портивно-оздоро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0720" y="981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ы организаци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примерный учебный пл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оенно-патрио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экологические 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оциа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оект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едметные кру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узыкальные кружки, театральная 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портивные кружки, с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894E-5E42-455D-9484-69B0D51465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мерный учебный план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628640"/>
          <a:ext cx="8209080" cy="4992840"/>
        </p:xfrm>
        <a:graphic>
          <a:graphicData uri="http://schemas.openxmlformats.org/drawingml/2006/table">
            <a:tbl>
              <a:tblPr/>
              <a:tblGrid>
                <a:gridCol w="2562120"/>
                <a:gridCol w="1081080"/>
                <a:gridCol w="1081080"/>
                <a:gridCol w="1081080"/>
                <a:gridCol w="1035360"/>
                <a:gridCol w="1368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20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20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20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20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е кружки, с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патриотические, экологические клу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кру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е кружки, театральная сту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к финансир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 flipV="1">
            <a:off x="395280" y="1628640"/>
            <a:ext cx="259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239C-4B8D-4A91-B5CB-7188554648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ри организа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неурочной деятель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У могут использоваться возможности учреждений ДОД, культуры, спорта;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лагерных смен, летних школ.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8E64-B02D-41E0-965D-6EE32FC5E0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результате реализации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рограмм воспитани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неурочной деятельност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должно обеспечиваться достижение детьми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питательных результа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духовно-нравственных приобретений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знаний, представлений; опыта эмоциональных отношений, переживаний; опыта действия;  опыта ценностного постижения, присвоения ценности и пр.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питательных эффект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ледствий воспитательных результато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формирование социальной компетентности, гражданской идентичности, личностное развитие, формирование толерантности, развитие трудолюбия, формирование нравственной компетентности, и пр.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FE4E-3C1D-4AE9-9970-C4E02CD5F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476280"/>
          </a:xfrm>
          <a:prstGeom prst="rect">
            <a:avLst/>
          </a:prstGeom>
          <a:ln w="0">
            <a:noFill/>
          </a:ln>
        </p:spPr>
      </p:pic>
      <p:sp>
        <p:nvSpPr>
          <p:cNvPr id="147" name="Содержимое 2"/>
          <p:cNvSpPr/>
          <p:nvPr/>
        </p:nvSpPr>
        <p:spPr>
          <a:xfrm>
            <a:off x="108000" y="1052640"/>
            <a:ext cx="8856720" cy="558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остижения – планируемые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цен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, метапредметных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чностных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 внутренней и внешней 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нестандартизированных работ: проектов, практических работ, самоанализа, самооценк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невый подход  в инструментарии, в представлен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опительная система оценки индивидуальных дости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ртфоли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иторинг состояния  воспитания  должен содерж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плексную оценку воспитательной деятельности образовательного учрежд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основе  показателей результати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  диагностического инструментар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76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истема оценки: основные 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01E7-BBA6-4E9C-B9D5-F6453DFB6B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333360"/>
            <a:ext cx="8496360" cy="35892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ОУ  ДПО Н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1268280"/>
            <a:ext cx="468000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борник метод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2276640"/>
            <a:ext cx="2880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fffff">
                  <a:alpha val="95294"/>
                </a:srgbClr>
              </a:gs>
            </a:gsLst>
            <a:lin ang="135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о разработке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уховно-нрав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развити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8000" y="2276640"/>
            <a:ext cx="230508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о разработ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неуроч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32360" y="2133720"/>
            <a:ext cx="34920" cy="34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3789360"/>
            <a:ext cx="8640720" cy="2590920"/>
          </a:xfrm>
          <a:prstGeom prst="roundRect">
            <a:avLst>
              <a:gd name="adj" fmla="val 16667"/>
            </a:avLst>
          </a:prstGeom>
          <a:solidFill>
            <a:srgbClr val="99ffcc">
              <a:alpha val="91000"/>
            </a:srgbClr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я воспитания  в условиях внедрения  ФГ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я  внеур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ятельности в условиях внед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Г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духовно-нравственных це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тей и молодеж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197000"/>
            <a:ext cx="2879640" cy="1944720"/>
          </a:xfrm>
          <a:prstGeom prst="wedgeRoundRectCallout">
            <a:avLst>
              <a:gd name="adj1" fmla="val 33680"/>
              <a:gd name="adj2" fmla="val 76449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8880" y="1268280"/>
            <a:ext cx="2276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валификацио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модульные к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Аттестация педаг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527A-E789-43E5-8E2F-F013C6903B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ГОУ ДПО НИРО</a:t>
            </a: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Кафедра теории и практики воспитания и дополнительного образования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435 – 46 – 72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ospitanie-niro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46FD-E4F0-450F-9BF8-B6FFDC90CD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1946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ые государственны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тельные стандарт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br>
              <a:rPr sz="2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тивные правовые акты федерального уровн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ставляющие собой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упность требований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язательных при реализации основных образовательных програм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ачального общего, основного общего, среднего (полного) общего, начального профессиональног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и высшего профессионального образовани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ыми учреждениями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еющими государственную аккреди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5AA4-5650-4F2B-89A9-0B182D6839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ИНИСТЕРСТВО ОБРАЗОВАНИЯ И НАУКИ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 Р И К А З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«6»__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ктября ____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г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№__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373__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Об утверждении и введении в действие федерального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государственного образовательного стандарта начального общего образован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 соответствии пунктом 7 Правил разработки и утверждения федеральных государственных образовательных стандартов, утвержденных постановлением Правительства Российской Федерации от 24 февраля 2009 г. № 142 ,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приказываю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твердить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лагаемый федеральный государственный образовательный стандарт начального общего образования.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вести в действие с 1 января 2010 год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федеральный государственный образовательный стандарт, утвержденный настоящим приказ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инистр                                                                                                    А. Фурс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3400" y="0"/>
            <a:ext cx="2190600" cy="5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1F6B-D1D3-4435-942C-678569259DAF}" type="slidenum">
              <a:t>3</a:t>
            </a:fld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62643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оритетность 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НЦЕПЦИЯ ДУХОВНО-НРАВСТВЕННОГО  РАЗВИТИЯ И ВОСПИТАНИЯ ЛИЧНОСТИ ГРАЖДАНИН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–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</a:rPr>
              <a:t>это методологическая ос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ЕДЕРАЛЬНОГО ГОСУДАРСТВЕННОГО ОБРАЗОВАТЕЛЬНОГО СТАНДАРТА ОБЩЕГО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17E5-4C32-41B2-AE28-5BE967685AB2}" type="slidenum">
              <a:t>4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Национальный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воспитательный иде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соконравственный, творческий, компетентный гражданин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нимающий судьбу Отечества как свою личную, осознающий ответственность за настоящее и будущее своей стр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корененный в духовных и культурных традициях многонационального народ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«Концепци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я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духовно-нравственного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развития и                         воспитания гражданина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A766-67E6-4715-9DF0-854591CB89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ФГОС НОО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сновная образовательная программа начального общего образования должна содержать следующие разде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ояснительная записк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освоения обучающимися основной образовательной программы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чебный план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а формирования универсальных учебных действий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у 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 отдельных учебных предметов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 к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программа духовно-нравственного развития, воспитания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рограмма формирования культуры здорового и безопасного образа 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рограмма коррекционной работы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истема оценки достижения планируемых результатов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освоения основной образовательной программы начального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3DF0-EFF1-4699-92E3-40B12C62A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имерная программа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уховно-нравственного развития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воспитания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является ориентиром для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формирования всех разделов основной образовательной программы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онцептуальной и методической основой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азработки образовательным учреждением соб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1AF5-ACEA-41F6-8C8D-61CC9253A7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197000"/>
            <a:ext cx="42116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1197000"/>
            <a:ext cx="4249800" cy="180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00000" y="3500280"/>
            <a:ext cx="7632720" cy="259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готовность и способность к саморазвит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сформированность мотивации к обучению и позн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ценностно-смысловые  установ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социальные компетенции;  личностные ка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сформированность ос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гражданской идентич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402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Результаты освоения основной образователь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54520" y="30780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871A-E9A5-4CBC-BD92-6F5EBBDD2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уются не только за счёт реализации программы духовно-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их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и за счёт учебных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1DC1-56D6-4F01-9F3F-4C16839CE1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10:15Z</dcterms:created>
  <dc:creator>comp</dc:creator>
  <dc:description/>
  <dc:language>en-US</dc:language>
  <cp:lastModifiedBy>Фадеев</cp:lastModifiedBy>
  <dcterms:modified xsi:type="dcterms:W3CDTF">2010-09-15T10:26:14Z</dcterms:modified>
  <cp:revision>99</cp:revision>
  <dc:subject/>
  <dc:title>Разработка основной образовательной программы образовательного  учреждения на основе Примерной основной образовательной программы </dc:title>
</cp:coreProperties>
</file>