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200-BD2C-4BC9-BF6C-85BC117A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637-B685-4A9E-81E8-2B11F232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7E2-C6CE-4E03-9186-CECB35C8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3E5-8AD4-458E-9938-8739F1FA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C8129-19DA-4CB3-990A-5F6B1F1568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C68EC-B102-42AB-AE77-8CE9FABA07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162C0-0410-460D-AD96-23A38534D4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29B98-E0FA-45DD-939D-8927E3AFD0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08229-B974-4490-B444-238CD8F572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49126-3827-43AC-882B-3BE12A43FF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686E4-CFC5-4D7E-BFE8-2AF0EC061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256-6D8F-40DF-8632-F856E166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C34EB-0BED-48EC-8CC8-54F3899FA3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008F6-1DAF-464F-A094-73DDAED348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C06DD-9006-4AF8-BF9C-A4538F1CEA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96FA7-3FE4-4E2D-B717-B277A09468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8841F-464D-4645-9478-5AB5601E38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0A6-9ED7-431D-88E7-FF17CB0A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587-7589-4E38-9E68-BE253810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451-3C61-402F-B39D-40CE4AC5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7E8-5F43-4230-99BF-90ADC6FF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B29-19E4-448D-BC28-6DCA04EC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9C2-7767-4880-8A8F-52842323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0DD-C303-4F93-8916-2CA753D1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ED63-2F5C-4DDB-83B4-1D0F403BEC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D:\работа\презы\новая\шапка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Скругленный прямоугольник 8"/>
          <p:cNvSpPr/>
          <p:nvPr/>
        </p:nvSpPr>
        <p:spPr>
          <a:xfrm>
            <a:off x="214200" y="214200"/>
            <a:ext cx="8715600" cy="714600"/>
          </a:xfrm>
          <a:prstGeom prst="roundRect">
            <a:avLst>
              <a:gd name="adj" fmla="val 11856"/>
            </a:avLst>
          </a:prstGeom>
          <a:noFill/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933520" y="900000"/>
            <a:ext cx="30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нститут управления образованием РА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6724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663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2EBF-9D32-41F4-ADD0-A5E557558F96}" type="slidenum">
              <a:rPr b="1" lang="ru-RU" sz="1400" spc="-1" strike="noStrike">
                <a:solidFill>
                  <a:srgbClr val="1663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работа\фрэшборд\тема сиреневая\обл4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250560" y="1856880"/>
            <a:ext cx="8569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0ca4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1e0ca4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1e0ca4"/>
                </a:solidFill>
                <a:latin typeface="Arial"/>
              </a:rPr>
              <a:t>Нормативно-правово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0ca4"/>
                </a:solidFill>
                <a:latin typeface="Arial"/>
              </a:rPr>
              <a:t>финансово- экономическое обеспечение профильного обучения»</a:t>
            </a:r>
            <a:r>
              <a:rPr b="1" i="1" lang="ru-RU" sz="3200" spc="-1" strike="noStrike">
                <a:solidFill>
                  <a:srgbClr val="1e0ca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6"/>
          <p:cNvSpPr/>
          <p:nvPr/>
        </p:nvSpPr>
        <p:spPr>
          <a:xfrm>
            <a:off x="500040" y="5857920"/>
            <a:ext cx="184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26920" y="4292640"/>
            <a:ext cx="5545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326b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326b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326b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00040" y="285840"/>
            <a:ext cx="835812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0ca4"/>
                </a:solidFill>
                <a:latin typeface="Arial"/>
              </a:rPr>
              <a:t>Всероссийская научно-педагогическая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0ca4"/>
                </a:solidFill>
                <a:latin typeface="Arial"/>
              </a:rPr>
              <a:t>«Профильное обучение: содержание, технологии, эффектив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571680" y="4572000"/>
            <a:ext cx="492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ca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e0ca4"/>
                </a:solidFill>
                <a:latin typeface="Arial"/>
              </a:rPr>
              <a:t>директор Учреждения РА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ca4"/>
                </a:solidFill>
                <a:latin typeface="Arial"/>
              </a:rPr>
              <a:t>«Институт управления образование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ca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e0ca4"/>
                </a:solidFill>
                <a:latin typeface="Arial"/>
              </a:rPr>
              <a:t>д.п.н. С.С. Кравц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«ОБ ОЦЕНКЕ ИНДИВИДУАЛЬНЫХ ОБРАЗОВАТЕЛЬНЫХ ДОСТИЖЕНИЙ УЧАЩЕГОСЯ В ПРОФИЛЬНОМ ОБУЧЕНИИ» (2009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фильном обучении используются внешняя и внутренняя система оценки качества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яду со стандартизированными внешними экзаменами применятся новые методы оценивания, отражающие индивидуальные творческие образовательные достижен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Verdana"/>
              </a:rPr>
              <a:t>Индивидуальные образовательные достижения учащихся в системе профильного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2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2C22-5286-44B5-BA42-0047D6D62EBA}" type="slidenum">
              <a:rPr b="1" lang="ru-RU" sz="1400" spc="-1" strike="noStrike">
                <a:solidFill>
                  <a:srgbClr val="1663a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285840" y="1071720"/>
            <a:ext cx="8643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ебные результаты по предметам, входящим в инвариантный и вариативный набор учебных к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ы прохождения социальных, производственных и других прак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Результаты внеучебной деятель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4704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«О привлечении для педагогической работы в системе профильного обучения кадров из системы профессионального образования и из необразовательной сферы, в т.ч. не имеющих педагогического образования» (2009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324000" y="1268280"/>
            <a:ext cx="583236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целях обеспечения качества и результативности образовательного процесса предпрофильной подготовки и профильного обучения в отношении привлекаемых для педагогической работы в общеобразовательных учреждениях специалистов, не имеющих  педагогического образования, необходима реализация особой кадровой полит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1908000" y="3284640"/>
            <a:ext cx="5472360" cy="1441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системы методической работы с данной категорией кадров профильного обучения (наставничество, внутришкольное повышение квалификации, участие в работе методических объединений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3203640" y="4869000"/>
            <a:ext cx="5688000" cy="187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а и реализация в региональных учреждениях педагогического образования (ИПК) специальных, в том числе краткосрочных программ повышения квалификации для данной категории кадров профильного обучения, нацеленных на повышение их педагогической и психолого-педагогической компете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«О РЕАЛИЗАЦИИ ЭЛЕКТИВНЫХ КУРСОВ ПРЕДПРОФИЛЬНОЙ ПОДГОТОВКИ И ПРОФИЛЬНОГО ОБУЧЕНИЯ» (2009-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5840" y="2349360"/>
            <a:ext cx="8678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ые виды элективных учебных кур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профильной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e0ca4"/>
                </a:solidFill>
                <a:latin typeface="Arial"/>
              </a:rPr>
              <a:t>Ориентацион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ивные курсы – создаются для оказания помощи учащемуся в его профильном профессиональном и социальном самоопреде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e0ca4"/>
                </a:solidFill>
                <a:latin typeface="Arial"/>
              </a:rPr>
              <a:t>Проб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ктивные курсы - создаются для того, чтобы ученик утвердился или отказался от сделанного им выбора направления дальнейшего 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 два под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метно-ориентированные проб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фессиональные про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50920" y="1198440"/>
            <a:ext cx="8642160" cy="1150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ктивные курсы являются неотъемлемыми компонентами вариативной системы образовательного процесса основной и старшей школы, обеспечивающими успешное профильное и професиональное самоопределение обучающих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Охват школ предпрофильной подготовкой</a:t>
            </a:r>
            <a:br>
              <a:rPr sz="2000"/>
            </a:b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 (по федеральным округ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4200" y="1285920"/>
          <a:ext cx="8472600" cy="5357880"/>
        </p:xfrm>
        <a:graphic>
          <a:graphicData uri="http://schemas.openxmlformats.org/drawingml/2006/table">
            <a:tbl>
              <a:tblPr/>
              <a:tblGrid>
                <a:gridCol w="847800"/>
                <a:gridCol w="2416320"/>
                <a:gridCol w="803160"/>
                <a:gridCol w="706320"/>
                <a:gridCol w="779760"/>
                <a:gridCol w="609480"/>
                <a:gridCol w="790560"/>
                <a:gridCol w="692280"/>
                <a:gridCol w="826920"/>
              </a:tblGrid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З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офильная подготовка в це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 раб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ивные кур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Основные виды элективных учебных курсов</a:t>
            </a:r>
            <a:br>
              <a:rPr sz="2000"/>
            </a:b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 профильного обучен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8400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1e0ca4"/>
                </a:solidFill>
                <a:latin typeface="Arial"/>
              </a:rPr>
              <a:t>Предметные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ивные курсы решают задачи углубления, расширения знания учебного предмета, входящего в базисный Учебный план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1e0ca4"/>
                </a:solidFill>
                <a:latin typeface="Arial"/>
              </a:rPr>
              <a:t>Межпредметные и надпредмет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ивные курсы выполняют функции общекультурного развития и удовлетворение интересов учащихся к различным областям знаний, отстутставующих в традиционном учебном пл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1e0ca4"/>
                </a:solidFill>
                <a:latin typeface="Arial"/>
              </a:rPr>
              <a:t>Приклад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ивные курсы имеют своей целью обеспечить знакомство учащихся с важнейшими применениями знаний по предмету на практике, развитие интереса учащихся к современной профессио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1e0ca4"/>
                </a:solidFill>
                <a:latin typeface="Arial"/>
              </a:rPr>
              <a:t>Социальная прак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неурочная форма организации образовательной деятель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ca4"/>
                </a:solidFill>
                <a:latin typeface="Arial"/>
              </a:rPr>
              <a:t>«ОБ ОРГАНИЗАЦИИ ВЗАИМОДЕЙСТВИЯ ОБЩЕГО И ДОПОЛНИТЕЛЬНОГО ОБРАЗОВАНИЯ В РАМКАХ ПРОФИЛЬНОГО ОБУЧЕНИЯ УЧАЩИХСЯ В ОБЩЕОБРАЗОВАТЕЛЬНЫХ УЧРЕЖДЕНИЯХ, РЕАЛИЗУЮЩИХ ПРОГРАММЫ СРЕДНЕГО (ПОЛНОГО) ОБЩЕГО ОБРАЗОВАНИЯ»  (проект письма, 201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93320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полнительное образование нацелено на решение проблем социальной адаптации и профессионального самоопределения школьников, которые являются одними из центральных в системе профильного обучения и предпрофильной подгото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Verdana"/>
              </a:rPr>
              <a:t>Механизмы взаимодействия общего и дополнительно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2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C2EF-A55A-45C0-93B6-38FEFB3716DF}" type="slidenum">
              <a:rPr b="1" lang="ru-RU" sz="1400" spc="-1" strike="noStrike">
                <a:solidFill>
                  <a:srgbClr val="1663a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3"/>
          <p:cNvSpPr/>
          <p:nvPr/>
        </p:nvSpPr>
        <p:spPr>
          <a:xfrm>
            <a:off x="357120" y="1071720"/>
            <a:ext cx="84297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ация программ предпрофильной подготовки и профильного обучения на основе сетевого взаимодействия общеобразовательных школ и учреждений дополнительного образовани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творческих объединений дополнительного образования детей непосредственно в общеобразовательных школах и вовлечение их в решение задач предпрофильной подготовки и профильного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МЕТОДИЧЕСКИЕ РЕКОМЕНДАЦИИ </a:t>
            </a:r>
            <a:br>
              <a:rPr sz="2000"/>
            </a:b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ПО ФОРМИРОВАНИЮ УЧЕБНОГО ПЛАНА ШКОЛЫ, РЕАЛИЗУЮЩЕЙ ПРОФИЛЬНОЕ ОБУЧЕНИЕ СТАРШЕКЛАССНИКОВ (на основе ИУП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13840" y="1071720"/>
            <a:ext cx="89298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 (2004 г.) на основе всех его компонентов предоставляет возможность старшекласснику сформировать свой проф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йся может иметь или не иметь право самостоятельного выбора элективных курсов из школьного компонента ОУ.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вариативности при ИУП ограничивается только числом предложений, которые делает школа (или группа школ) своим учени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34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Возможность выбора профиля </a:t>
            </a:r>
            <a:br>
              <a:rPr sz="2000"/>
            </a:b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выпускниками основной школы (исследования 2009 г.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85840" y="1143000"/>
          <a:ext cx="8400960" cy="5430960"/>
        </p:xfrm>
        <a:graphic>
          <a:graphicData uri="http://schemas.openxmlformats.org/drawingml/2006/table">
            <a:tbl>
              <a:tblPr/>
              <a:tblGrid>
                <a:gridCol w="2408040"/>
                <a:gridCol w="1506600"/>
                <a:gridCol w="1523880"/>
                <a:gridCol w="1405080"/>
                <a:gridCol w="155736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ыпускников 9-х классов, которым доступен выбо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рай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гаполи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целом по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по ИУ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6 профи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 профи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проф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филь или универса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ко универса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фортные ситуации выб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комфортные ситуации выб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e0ca4"/>
                </a:solidFill>
                <a:latin typeface="Arial"/>
              </a:rPr>
              <a:t>Профильное обучение на старшей ступени общего образования – комплексная педагогическая инновация</a:t>
            </a:r>
            <a:r>
              <a:rPr b="0" lang="ru-RU" sz="2200" spc="-1" strike="noStrike">
                <a:solidFill>
                  <a:srgbClr val="1e0ca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3296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ая  идея профильного обучения –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овление третьей ступени школьной практики для расширения возможности выбора и определения каждым школьником необходимого содержания образования, его объёма, индивидуальной траектории движения в образовательном пространстве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Социальные эффекты,</a:t>
            </a:r>
            <a:br>
              <a:rPr sz="2000"/>
            </a:b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вызванные введением профильн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rganization Chart 5"/>
          <p:cNvGrpSpPr/>
          <p:nvPr/>
        </p:nvGrpSpPr>
        <p:grpSpPr>
          <a:xfrm>
            <a:off x="179280" y="1600200"/>
            <a:ext cx="8506080" cy="4677480"/>
            <a:chOff x="179280" y="1600200"/>
            <a:chExt cx="8506080" cy="4677480"/>
          </a:xfrm>
        </p:grpSpPr>
        <p:cxnSp>
          <p:nvCxnSpPr>
            <p:cNvPr id="222" name="_s2052"/>
            <p:cNvCxnSpPr>
              <a:stCxn id="223" idx="3"/>
              <a:endCxn id="224" idx="2"/>
            </p:cNvCxnSpPr>
            <p:nvPr/>
          </p:nvCxnSpPr>
          <p:spPr>
            <a:xfrm flipV="1">
              <a:off x="5283000" y="2450160"/>
              <a:ext cx="851040" cy="340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3"/>
            <p:cNvCxnSpPr>
              <a:stCxn id="226" idx="3"/>
              <a:endCxn id="224" idx="2"/>
            </p:cNvCxnSpPr>
            <p:nvPr/>
          </p:nvCxnSpPr>
          <p:spPr>
            <a:xfrm flipV="1">
              <a:off x="5283000" y="2450160"/>
              <a:ext cx="851040" cy="212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4"/>
            <p:cNvCxnSpPr>
              <a:stCxn id="228" idx="3"/>
              <a:endCxn id="224" idx="2"/>
            </p:cNvCxnSpPr>
            <p:nvPr/>
          </p:nvCxnSpPr>
          <p:spPr>
            <a:xfrm flipV="1">
              <a:off x="5283000" y="2450160"/>
              <a:ext cx="851040" cy="85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5"/>
            <p:cNvSpPr/>
            <p:nvPr/>
          </p:nvSpPr>
          <p:spPr>
            <a:xfrm>
              <a:off x="3581640" y="1600200"/>
              <a:ext cx="5103720" cy="850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1e0ca4"/>
                  </a:solidFill>
                  <a:uFillTx/>
                  <a:latin typeface="Arial"/>
                </a:rPr>
                <a:t>Внутренние эффект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e0ca4"/>
                  </a:solidFill>
                  <a:latin typeface="Arial"/>
                </a:rPr>
                <a:t>(относительно системы образования)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6"/>
            <p:cNvSpPr/>
            <p:nvPr/>
          </p:nvSpPr>
          <p:spPr>
            <a:xfrm>
              <a:off x="179280" y="2875680"/>
              <a:ext cx="5103720" cy="850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уменьшение учебных перегрузок, повышение степени учебной мотивации и качества подготовки старшеклассников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7"/>
            <p:cNvSpPr/>
            <p:nvPr/>
          </p:nvSpPr>
          <p:spPr>
            <a:xfrm>
              <a:off x="179280" y="4151520"/>
              <a:ext cx="5103720" cy="850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Arial"/>
                </a:rPr>
                <a:t>увеличение степени комфортности образовательной деятельности педагогов;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"/>
            <p:cNvSpPr/>
            <p:nvPr/>
          </p:nvSpPr>
          <p:spPr>
            <a:xfrm>
              <a:off x="179280" y="5427360"/>
              <a:ext cx="5103720" cy="850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нижение дополнительной нагрузки на бюджеты домохозяйств, вызванной затратами на подготовку детей к поступлению в вузы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Социальные эффекты, </a:t>
            </a:r>
            <a:br>
              <a:rPr sz="2000"/>
            </a:b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вызванные введением профильн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Organization Chart 5"/>
          <p:cNvGrpSpPr/>
          <p:nvPr/>
        </p:nvGrpSpPr>
        <p:grpSpPr>
          <a:xfrm>
            <a:off x="457200" y="1484280"/>
            <a:ext cx="8228160" cy="4525200"/>
            <a:chOff x="457200" y="1484280"/>
            <a:chExt cx="8228160" cy="4525200"/>
          </a:xfrm>
        </p:grpSpPr>
        <p:cxnSp>
          <p:nvCxnSpPr>
            <p:cNvPr id="231" name="_s3076"/>
            <p:cNvCxnSpPr>
              <a:stCxn id="232" idx="1"/>
              <a:endCxn id="233" idx="2"/>
            </p:cNvCxnSpPr>
            <p:nvPr/>
          </p:nvCxnSpPr>
          <p:spPr>
            <a:xfrm rot="10800000">
              <a:off x="2925000" y="2129760"/>
              <a:ext cx="82332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_s3077"/>
            <p:cNvCxnSpPr>
              <a:stCxn id="235" idx="1"/>
              <a:endCxn id="233" idx="2"/>
            </p:cNvCxnSpPr>
            <p:nvPr/>
          </p:nvCxnSpPr>
          <p:spPr>
            <a:xfrm rot="10800000">
              <a:off x="2925000" y="2129760"/>
              <a:ext cx="82332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3078"/>
            <p:cNvCxnSpPr>
              <a:stCxn id="237" idx="1"/>
              <a:endCxn id="233" idx="2"/>
            </p:cNvCxnSpPr>
            <p:nvPr/>
          </p:nvCxnSpPr>
          <p:spPr>
            <a:xfrm rot="10800000">
              <a:off x="2925000" y="2129760"/>
              <a:ext cx="82332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3079"/>
            <p:cNvCxnSpPr>
              <a:stCxn id="239" idx="1"/>
              <a:endCxn id="233" idx="2"/>
            </p:cNvCxnSpPr>
            <p:nvPr/>
          </p:nvCxnSpPr>
          <p:spPr>
            <a:xfrm rot="10800000">
              <a:off x="2925000" y="2129760"/>
              <a:ext cx="82332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_s3080"/>
            <p:cNvSpPr/>
            <p:nvPr/>
          </p:nvSpPr>
          <p:spPr>
            <a:xfrm>
              <a:off x="457200" y="14842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1e0ca4"/>
                  </a:solidFill>
                  <a:uFillTx/>
                  <a:latin typeface="Arial"/>
                </a:rPr>
                <a:t>Внешние социальные эффекты:</a:t>
              </a:r>
              <a:r>
                <a:rPr b="1" lang="en-US" sz="1800" spc="-1" strike="noStrike">
                  <a:solidFill>
                    <a:srgbClr val="1e0ca4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081"/>
            <p:cNvSpPr/>
            <p:nvPr/>
          </p:nvSpPr>
          <p:spPr>
            <a:xfrm>
              <a:off x="3748320" y="245376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повышение сбалансированности распределения выпускников школ по профилям и по уровням образования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3082"/>
            <p:cNvSpPr/>
            <p:nvPr/>
          </p:nvSpPr>
          <p:spPr>
            <a:xfrm>
              <a:off x="3748320" y="34236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уменьшение издержек, связанных с ошибочным выбором профессионально-образовательного маршрута, профессии и специальности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083"/>
            <p:cNvSpPr/>
            <p:nvPr/>
          </p:nvSpPr>
          <p:spPr>
            <a:xfrm>
              <a:off x="3748320" y="439344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повышение учебной успешности деятельности студентов колледжей и вузов за счёт сформированности у них общих компетенций, самостоятельности и ответственности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084"/>
            <p:cNvSpPr/>
            <p:nvPr/>
          </p:nvSpPr>
          <p:spPr>
            <a:xfrm>
              <a:off x="3748320" y="53632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повышение эффективности трудовой деятельности работнико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56760" y="1213920"/>
            <a:ext cx="834084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700" spc="-1" strike="noStrike">
                <a:solidFill>
                  <a:srgbClr val="1e0ca4"/>
                </a:solidFill>
                <a:latin typeface="Arial"/>
              </a:rPr>
              <a:t>ВОПРОСЫ  ФИНАНСИРОВАНИЯ СЕТЕВОГО ВЗАИМОДЕЙСТВИЯ ОБРАЗОВАТЕЛЬНЫХ УЧРЕЖДЕНИЙ В МУНИЦИПАЛЬНЫХ ОБРАЗОВАНИЯХ</a:t>
            </a:r>
            <a:br>
              <a:rPr sz="29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одзаголовок 2"/>
          <p:cNvSpPr/>
          <p:nvPr/>
        </p:nvSpPr>
        <p:spPr>
          <a:xfrm>
            <a:off x="324000" y="4149720"/>
            <a:ext cx="5327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ИНАНСИРОВАНИЕ СЕТЕВОГО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2"/>
          <p:cNvSpPr/>
          <p:nvPr/>
        </p:nvSpPr>
        <p:spPr>
          <a:xfrm>
            <a:off x="357120" y="1096920"/>
            <a:ext cx="8318520" cy="53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дель 1- внутришкольная профи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дель 2 – централизованная профи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деляется норматив подушевого финансирования профильного обучения одного обучающегося в год по соответствующим профил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701640" y="1989000"/>
            <a:ext cx="863640" cy="648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1835280" y="1989000"/>
            <a:ext cx="863640" cy="648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5"/>
          <p:cNvSpPr/>
          <p:nvPr/>
        </p:nvSpPr>
        <p:spPr>
          <a:xfrm>
            <a:off x="2987640" y="1989000"/>
            <a:ext cx="857160" cy="6429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6"/>
          <p:cNvSpPr/>
          <p:nvPr/>
        </p:nvSpPr>
        <p:spPr>
          <a:xfrm>
            <a:off x="773280" y="3132000"/>
            <a:ext cx="3000240" cy="1150920"/>
          </a:xfrm>
          <a:prstGeom prst="roundRect">
            <a:avLst>
              <a:gd name="adj" fmla="val 27861"/>
            </a:avLst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Ресурсный центр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8"/>
          <p:cNvCxnSpPr>
            <a:stCxn id="244" idx="2"/>
          </p:cNvCxnSpPr>
          <p:nvPr/>
        </p:nvCxnSpPr>
        <p:spPr>
          <a:xfrm>
            <a:off x="1133640" y="2649600"/>
            <a:ext cx="792720" cy="50400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49" name="Прямая со стрелкой 39"/>
          <p:cNvCxnSpPr>
            <a:stCxn id="246" idx="2"/>
          </p:cNvCxnSpPr>
          <p:nvPr/>
        </p:nvCxnSpPr>
        <p:spPr>
          <a:xfrm flipH="1">
            <a:off x="2842920" y="2644560"/>
            <a:ext cx="573840" cy="50868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50" name="Прямая со стрелкой 43"/>
          <p:cNvCxnSpPr>
            <a:stCxn id="245" idx="2"/>
            <a:endCxn id="247" idx="0"/>
          </p:cNvCxnSpPr>
          <p:nvPr/>
        </p:nvCxnSpPr>
        <p:spPr>
          <a:xfrm>
            <a:off x="2266920" y="2649240"/>
            <a:ext cx="7200" cy="47052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51" name="Скругленный прямоугольник 19"/>
          <p:cNvSpPr/>
          <p:nvPr/>
        </p:nvSpPr>
        <p:spPr>
          <a:xfrm>
            <a:off x="4857840" y="3143160"/>
            <a:ext cx="2857320" cy="1143000"/>
          </a:xfrm>
          <a:prstGeom prst="roundRect">
            <a:avLst>
              <a:gd name="adj" fmla="val 27056"/>
            </a:avLst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Ресурсный центр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0"/>
          <p:cNvSpPr/>
          <p:nvPr/>
        </p:nvSpPr>
        <p:spPr>
          <a:xfrm>
            <a:off x="4643280" y="2000160"/>
            <a:ext cx="857520" cy="6429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1"/>
          <p:cNvSpPr/>
          <p:nvPr/>
        </p:nvSpPr>
        <p:spPr>
          <a:xfrm>
            <a:off x="5929200" y="2000160"/>
            <a:ext cx="857520" cy="6429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2"/>
          <p:cNvSpPr/>
          <p:nvPr/>
        </p:nvSpPr>
        <p:spPr>
          <a:xfrm>
            <a:off x="7072200" y="2000160"/>
            <a:ext cx="928800" cy="6429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25"/>
          <p:cNvCxnSpPr>
            <a:stCxn id="252" idx="2"/>
          </p:cNvCxnSpPr>
          <p:nvPr/>
        </p:nvCxnSpPr>
        <p:spPr>
          <a:xfrm>
            <a:off x="5070960" y="2642760"/>
            <a:ext cx="429480" cy="50076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56" name="Прямая со стрелкой 27"/>
          <p:cNvCxnSpPr>
            <a:stCxn id="253" idx="2"/>
          </p:cNvCxnSpPr>
          <p:nvPr/>
        </p:nvCxnSpPr>
        <p:spPr>
          <a:xfrm flipH="1">
            <a:off x="6000480" y="2642760"/>
            <a:ext cx="357840" cy="50076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57" name="Прямая со стрелкой 29"/>
          <p:cNvCxnSpPr/>
          <p:nvPr/>
        </p:nvCxnSpPr>
        <p:spPr>
          <a:xfrm flipH="1">
            <a:off x="6928560" y="2642040"/>
            <a:ext cx="715320" cy="50076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ИНАНСИРОВАНИЕ СЕТЕВОГО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одержимое 2"/>
          <p:cNvSpPr/>
          <p:nvPr/>
        </p:nvSpPr>
        <p:spPr>
          <a:xfrm>
            <a:off x="250920" y="1197000"/>
            <a:ext cx="85690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дель 3 – сетевая профи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деляются нормативы профильного обучения  одного обучающегося  в час по каждому профи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547640" y="1916280"/>
            <a:ext cx="914400" cy="5047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3635280" y="2205000"/>
            <a:ext cx="914400" cy="50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5580000" y="2924280"/>
            <a:ext cx="914400" cy="5047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6"/>
          <p:cNvSpPr/>
          <p:nvPr/>
        </p:nvSpPr>
        <p:spPr>
          <a:xfrm>
            <a:off x="2556000" y="3213000"/>
            <a:ext cx="1008000" cy="50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entury School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8"/>
          <p:cNvCxnSpPr>
            <a:stCxn id="260" idx="3"/>
          </p:cNvCxnSpPr>
          <p:nvPr/>
        </p:nvCxnSpPr>
        <p:spPr>
          <a:xfrm>
            <a:off x="2475000" y="2168280"/>
            <a:ext cx="886320" cy="104508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65" name="Прямая со стрелкой 15"/>
          <p:cNvCxnSpPr>
            <a:endCxn id="260" idx="2"/>
          </p:cNvCxnSpPr>
          <p:nvPr/>
        </p:nvCxnSpPr>
        <p:spPr>
          <a:xfrm flipH="1" flipV="1">
            <a:off x="2004120" y="2432880"/>
            <a:ext cx="910440" cy="79308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66" name="Прямая со стрелкой 17"/>
          <p:cNvCxnSpPr>
            <a:stCxn id="260" idx="3"/>
            <a:endCxn id="261" idx="1"/>
          </p:cNvCxnSpPr>
          <p:nvPr/>
        </p:nvCxnSpPr>
        <p:spPr>
          <a:xfrm>
            <a:off x="2461680" y="2168640"/>
            <a:ext cx="1173960" cy="28800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67" name="Прямая со стрелкой 19"/>
          <p:cNvCxnSpPr>
            <a:stCxn id="261" idx="3"/>
          </p:cNvCxnSpPr>
          <p:nvPr/>
        </p:nvCxnSpPr>
        <p:spPr>
          <a:xfrm>
            <a:off x="4562640" y="2457000"/>
            <a:ext cx="1389600" cy="46908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68" name="Прямая со стрелкой 21"/>
          <p:cNvCxnSpPr>
            <a:stCxn id="262" idx="1"/>
            <a:endCxn id="263" idx="3"/>
          </p:cNvCxnSpPr>
          <p:nvPr/>
        </p:nvCxnSpPr>
        <p:spPr>
          <a:xfrm flipH="1">
            <a:off x="3563640" y="3176640"/>
            <a:ext cx="2016720" cy="28944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28400" y="1000080"/>
            <a:ext cx="8258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ение  методики расчета  НБФ ( выделение норматива на профильное обуч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ирование наполняемости  классов(груп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понятия  «повышенный уровень» применительно к профильному обуч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 условий оплаты труда учителей в профильных классах (группа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порядка и условий финансирования дистанционного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оптимального соотношения базовых и профильных учебных ча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85840" y="856800"/>
            <a:ext cx="8400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ьное обучение по каждому (или группе) профилю оформляется как отдельная образовательная усл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ется  государственное (муниципальное) задание на профильное 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авливается право ОУ на передачу средств в другое ОУ (или другую организацию) по дого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объема средств производится на основе норматива профильного обучения и численности обучающихся по соответствующему профи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ативы устанавливаются на обучение одного ученика в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Информационная поддержка профильного обучения в РФ</a:t>
            </a:r>
            <a:r>
              <a:rPr b="0" lang="ru-RU" sz="2000" spc="-1" strike="noStrike">
                <a:solidFill>
                  <a:srgbClr val="1e0ca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2071800" y="3786120"/>
            <a:ext cx="6838920" cy="79236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ofile-edu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2286000" y="3929040"/>
            <a:ext cx="3311640" cy="48744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13"/>
          <p:cNvSpPr/>
          <p:nvPr/>
        </p:nvSpPr>
        <p:spPr>
          <a:xfrm>
            <a:off x="857160" y="2143080"/>
            <a:ext cx="6000840" cy="79236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УО РАО        http://www.iuorao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5"/>
          <p:cNvSpPr/>
          <p:nvPr/>
        </p:nvSpPr>
        <p:spPr>
          <a:xfrm>
            <a:off x="6877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63a5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2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62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Профильная школа - одна из институциональных форм реализации профильного обуч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rganization Chart 22"/>
          <p:cNvGrpSpPr/>
          <p:nvPr/>
        </p:nvGrpSpPr>
        <p:grpSpPr>
          <a:xfrm>
            <a:off x="457200" y="1600200"/>
            <a:ext cx="4618800" cy="4525200"/>
            <a:chOff x="457200" y="1600200"/>
            <a:chExt cx="4618800" cy="4525200"/>
          </a:xfrm>
        </p:grpSpPr>
        <p:cxnSp>
          <p:nvCxnSpPr>
            <p:cNvPr id="171" name="_s1028"/>
            <p:cNvCxnSpPr>
              <a:stCxn id="172" idx="3"/>
              <a:endCxn id="173" idx="2"/>
            </p:cNvCxnSpPr>
            <p:nvPr/>
          </p:nvCxnSpPr>
          <p:spPr>
            <a:xfrm flipV="1">
              <a:off x="3228120" y="2245680"/>
              <a:ext cx="46260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29"/>
            <p:cNvCxnSpPr>
              <a:stCxn id="175" idx="3"/>
              <a:endCxn id="173" idx="2"/>
            </p:cNvCxnSpPr>
            <p:nvPr/>
          </p:nvCxnSpPr>
          <p:spPr>
            <a:xfrm flipV="1">
              <a:off x="3228120" y="2245680"/>
              <a:ext cx="46260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030"/>
            <p:cNvCxnSpPr>
              <a:stCxn id="177" idx="3"/>
              <a:endCxn id="173" idx="2"/>
            </p:cNvCxnSpPr>
            <p:nvPr/>
          </p:nvCxnSpPr>
          <p:spPr>
            <a:xfrm flipV="1">
              <a:off x="3228120" y="2245680"/>
              <a:ext cx="46260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031"/>
            <p:cNvCxnSpPr>
              <a:stCxn id="179" idx="3"/>
              <a:endCxn id="173" idx="2"/>
            </p:cNvCxnSpPr>
            <p:nvPr/>
          </p:nvCxnSpPr>
          <p:spPr>
            <a:xfrm flipV="1">
              <a:off x="3228120" y="2245680"/>
              <a:ext cx="46260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1032"/>
            <p:cNvSpPr/>
            <p:nvPr/>
          </p:nvSpPr>
          <p:spPr>
            <a:xfrm>
              <a:off x="2304720" y="1600200"/>
              <a:ext cx="277128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80880" indent="-3808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Многопрофильная школа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033"/>
            <p:cNvSpPr/>
            <p:nvPr/>
          </p:nvSpPr>
          <p:spPr>
            <a:xfrm>
              <a:off x="457200" y="2569680"/>
              <a:ext cx="277128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 профильными классами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457200" y="3539520"/>
              <a:ext cx="277128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 профильными одновозрастными группами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5"/>
            <p:cNvSpPr/>
            <p:nvPr/>
          </p:nvSpPr>
          <p:spPr>
            <a:xfrm>
              <a:off x="457200" y="4509360"/>
              <a:ext cx="277128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 профильными разновозрастными группам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6"/>
            <p:cNvSpPr/>
            <p:nvPr/>
          </p:nvSpPr>
          <p:spPr>
            <a:xfrm>
              <a:off x="457200" y="5479200"/>
              <a:ext cx="277128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учение по ИУ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utoShape 31"/>
          <p:cNvSpPr/>
          <p:nvPr/>
        </p:nvSpPr>
        <p:spPr>
          <a:xfrm>
            <a:off x="5651640" y="1557360"/>
            <a:ext cx="3097080" cy="719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днопрофильная шк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0ca4"/>
                </a:solidFill>
                <a:latin typeface="Arial"/>
              </a:rPr>
              <a:t>Перспективные формы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1e0ca4"/>
                </a:solidFill>
                <a:latin typeface="Arial"/>
              </a:rPr>
              <a:t> профильного обучен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285840" y="1357200"/>
            <a:ext cx="6985080" cy="2073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по индивидуальному учебному плану в многопрофильной шк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1785960" y="4000680"/>
            <a:ext cx="7072200" cy="2165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тевые формы взаимодействия ОУ, выводящие реализацию образовательных стандартов и программ за рамки отдельного общеобразовательного учреж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68360" y="1700280"/>
            <a:ext cx="8064360" cy="4681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0ca4"/>
                </a:solidFill>
                <a:latin typeface="Arial"/>
              </a:rPr>
              <a:t>Инструктивно-методические письма по организации профиль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0ca4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e0ca4"/>
                </a:solidFill>
                <a:latin typeface="Arial"/>
              </a:rPr>
              <a:t>(2008-2010 год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55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«ОБ ОРГАНИЗАЦИИ ПРОФИЛЬНОГО ОБУЧЕНИЯ НА ОСНОВЕ </a:t>
            </a:r>
            <a:br>
              <a:rPr sz="2000"/>
            </a:b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СОЦИАЛЬНОГО ПАРТНЕРСТВА И СЕТЕВ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ОБРАЗОВАТЕЛЬНЫХ УЧРЕЖДЕНИЙ»  (2008-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400" y="128592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рганизации качественного обучения старшеклассников НЕОБХОДИМО использование образовательных ресурсов учреждений дополнительного, начального и среднего профессионального  образования, различных структур довузовского и дистанцион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555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 u="sng">
              <a:solidFill>
                <a:srgbClr val="1e0ca4"/>
              </a:solidFill>
              <a:uFillTx/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832968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у образовательной сети состав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истема отношений (включая управление, распределение/присвоение ответственности, отношений собственности, предметов ведения, регламентов принятия решений, схемы финансирова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распределенность работ по участникам с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узлы с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ормативно-правовое обеспечение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 u="sng">
              <a:solidFill>
                <a:srgbClr val="1e0ca4"/>
              </a:solidFill>
              <a:uFillTx/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14200" y="2205000"/>
            <a:ext cx="855504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возможность осуществления перемещений учащихся и (или) учителей ОУ, входящих в се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наличие в сети различных ОУ и организаций, предоставляющих учащимся действительную возможность выб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экономическая эффективность сетевого взаимодейств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 возможность организации зачета результатов по учебным курсам и образовательным програм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395280" y="1071720"/>
            <a:ext cx="8424720" cy="100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ые условия организации сетевого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х учреждений (организаций)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0ca4"/>
                </a:solidFill>
                <a:latin typeface="Arial"/>
              </a:rPr>
              <a:t>Модели организации образовательного пространства школ, реализующих профильное обучение (по типам поселений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57120" y="1214280"/>
          <a:ext cx="8329680" cy="5167440"/>
        </p:xfrm>
        <a:graphic>
          <a:graphicData uri="http://schemas.openxmlformats.org/drawingml/2006/table">
            <a:tbl>
              <a:tblPr/>
              <a:tblGrid>
                <a:gridCol w="3654360"/>
                <a:gridCol w="1094040"/>
                <a:gridCol w="1238040"/>
                <a:gridCol w="1263600"/>
                <a:gridCol w="1079640"/>
              </a:tblGrid>
              <a:tr h="106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рай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гаполи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целом по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профильн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профильная школа с профильными класс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профильная школа с профильными одновозрастными групп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профильная школа с профильными разновозрастными групп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по индивидуальному учебному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2:36:21Z</dcterms:created>
  <dc:creator>Соник</dc:creator>
  <dc:description/>
  <dc:language>en-US</dc:language>
  <cp:lastModifiedBy>dell</cp:lastModifiedBy>
  <dcterms:modified xsi:type="dcterms:W3CDTF">2010-09-13T16:43:22Z</dcterms:modified>
  <cp:revision>225</cp:revision>
  <dc:subject/>
  <dc:title>Предложения по реализации мероприятий в сфере информационных технологий в рамках программы развития федерального университета</dc:title>
</cp:coreProperties>
</file>