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98B-A0FD-4649-B06A-FF0253BF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FE6-8A56-4A07-8060-5814504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079-3B70-42D6-9639-64D085FE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269-4FA4-48D8-8C7E-DE8DD623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F01-3E19-400B-A15D-6E572FFE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B7E-DFBC-4602-8A3A-BDA3A53B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C25-1D33-465E-9744-51865C5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BED-1ACF-4B6D-AEE3-329B4D8C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2E8-EC6F-43F6-88B5-D288409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E03-F057-4711-99BC-98D0F83F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AEF-B8A3-45A4-B22C-0EACF39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C6C-86B5-4DEC-B5CB-0085392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1901-17BB-46F2-AF96-90F4F39F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6f7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 нужно знать выпускникам и абитуриен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96520"/>
            <a:ext cx="990612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о 1 февра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узы объявля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авила при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 том числе перечни вступительных испытаний на каждое направление подготовки (специальнос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о 1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пускники и поступающие, сдающие ЕГЭ в апреле-июне, под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аявления на участие в ЕГ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 20 по 29 апре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оводятся экзамены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ля имеющих право на досрочную сдач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пускники вечерних (сменных) общеобразовательных учреждений, призываемых на военную службу, выпускники, выезжающие на российские или международные спортивные соревнования, конкурсы, смотры, олимпиады и тренировочные сборы, на постоянное место жительства или для продолжения обучения в иностранное государство или направляемых по медицинским показаниям в лечебно-профилактические и иные учреждения для проведения лечебно-оздоровительных и реабилитационных мероприятий в период проведения государственной (итоговой) аттестации, а также выпускники российских общеобразовательных учреждений, расположенных за пределами территории Российской Федерации, в государствах со сложными климатическими условия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6 мая до 19 ию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води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Г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выпускников и основной массы абитуриен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государственной (итоговой) аттестации допускаются выпускники образовательных учреждений, имеющие годовые отметки по всем общеобразовательным предметам учебного плана з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 классы не ниже удовлетворительных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обрнадзором устанавливаются дополнительные сроки (предварительно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1, 16, 19 июня и с 7 по 17 ию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проведения ЕГЭ для участников ЕГЭ, не сдавших ЕГЭ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о уважительным причина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болезнь, смерть близкого родственника, иные трудные жизненные ситуации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также участников ЕГЭ – выпускников текущего года, получивших на государственной (итоговой) аттестации в форме ЕГЭ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еудовлетворительный результат по русскому языку или математи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датах проведения для них ЕГЭ по соответствующему общеобразовательному предмету в рамках утвержденного расписания в каждом конкретном случа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инимает ГЭ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0EE-753E-4136-AC05-8689450EA3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6f7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 нужно знать выпускникам и абитуриен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9906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20-30 июн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школы выдаю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аттестаты и свидетельств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о результатах ЕГЭ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с 20 июня по 25 июл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прием документов от абитури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до 5 июл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должны подать документы абитуриенты, не имеющие результатов ЕГЭ (выпускники прошлых лет, выпускники образовательных учреждений начального и среднего профессионального образования, а также иностранные граждане, не имевшие возможности участвовать в ЕГЭ в период государственной (итоговой) аттестаци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10 июл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 последний срок отправки документов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по почт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7-17 июл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оводится ЕГЭ  для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лиц не имеющих результатов ЕГЭ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атой окончания вступительных испыт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читается момент объявления на сайте вуза и стенде приемной комиссии пофамильног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чня лиц с указанием количества набранных бал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числение которых  рассматривается приемной комиссией по различным условиям конкур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тервал 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между датой окончания вступительных испытан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датой представления оригинала докум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об образовании, а также 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оригинал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видетельства о результатах ЕГЭ - 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не менее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 календарных дн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A5B-3034-4DFA-A666-CE23013850D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7:46:58Z</dcterms:created>
  <dc:creator>user</dc:creator>
  <dc:description/>
  <dc:language>en-US</dc:language>
  <cp:lastModifiedBy>шатунов</cp:lastModifiedBy>
  <dcterms:modified xsi:type="dcterms:W3CDTF">2008-12-04T10:41:01Z</dcterms:modified>
  <cp:revision>347</cp:revision>
  <dc:subject/>
  <dc:title>Слайд 1</dc:title>
</cp:coreProperties>
</file>