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6BDC-4DC3-4F02-B941-449BFE1F8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6BB1-1AA7-4AFE-A8C8-D19216614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1012-1012-4633-9F3B-F0ABD6894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AED6-A70C-443F-95EA-086CB2F13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2160-87DE-4206-BE82-294C69B88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8313-8FD6-4680-BCC1-BE01C6CF4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970A-1012-47D9-B633-EC6B2FB95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442A-44C4-4D23-B72E-CB7F0EEA5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38E6-46FE-4E84-84B6-16A1CCD50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F28C-AB4F-4AD9-9A40-D9EDCEAD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4126-950B-47FF-B99E-E2850923B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E87C-B799-4450-8E32-05E0A4857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6C820-5EE4-492C-B06A-A31DFCA74E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1125360"/>
            <a:ext cx="867708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О нормативном 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регулировании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государственной (итоговой) аттестации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обучающихся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декабрь 2008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Что ставится в свидетельство о ЕГЭ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результаты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ЕГЭ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(в баллах)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по тем общеобразовательным предметам, по которым выпускник набрал количество баллов не ниже минимальн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Баллы ЕГЭ 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не переводятся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 в 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пятибалльную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 шкалу и на 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отметку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 в аттестате 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не влияют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(результаты 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ЕГЭ по выбору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 также 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не влияют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 на выдачу 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аттестата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Вступительные испыт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6381720"/>
            <a:ext cx="9144000" cy="432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89" y="0"/>
                </a:lnTo>
                <a:lnTo>
                  <a:pt x="21600" y="10800"/>
                </a:lnTo>
                <a:lnTo>
                  <a:pt x="20689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33399">
                  <a:alpha val="42352"/>
                </a:srgbClr>
              </a:gs>
              <a:gs pos="50000">
                <a:srgbClr val="ffffff"/>
              </a:gs>
              <a:gs pos="100000">
                <a:srgbClr val="333399">
                  <a:alpha val="42352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ВРЕМЕННАЯ ШК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907920"/>
            <a:ext cx="9144000" cy="1800360"/>
          </a:xfrm>
          <a:prstGeom prst="rect">
            <a:avLst/>
          </a:prstGeom>
          <a:solidFill>
            <a:srgbClr val="ffff99">
              <a:alpha val="56000"/>
            </a:srgbClr>
          </a:solidFill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141720"/>
            <a:ext cx="9144000" cy="309564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20" y="1052640"/>
            <a:ext cx="102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пус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 шк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40" y="1989000"/>
            <a:ext cx="127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полн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кзаме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160" y="3284640"/>
            <a:ext cx="141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ку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800" y="4292640"/>
            <a:ext cx="178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полн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ступите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спыт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80" y="5654520"/>
            <a:ext cx="14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чис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1844640"/>
            <a:ext cx="9144000" cy="0"/>
          </a:xfrm>
          <a:prstGeom prst="line">
            <a:avLst/>
          </a:prstGeom>
          <a:ln w="5076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4149720"/>
            <a:ext cx="9144000" cy="0"/>
          </a:xfrm>
          <a:prstGeom prst="line">
            <a:avLst/>
          </a:prstGeom>
          <a:ln w="5076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5373720"/>
            <a:ext cx="9144000" cy="0"/>
          </a:xfrm>
          <a:prstGeom prst="line">
            <a:avLst/>
          </a:prstGeom>
          <a:ln w="5076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35280" y="907920"/>
            <a:ext cx="0" cy="5950080"/>
          </a:xfrm>
          <a:prstGeom prst="line">
            <a:avLst/>
          </a:prstGeom>
          <a:ln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835280" y="1628640"/>
            <a:ext cx="1296720" cy="360"/>
          </a:xfrm>
          <a:prstGeom prst="line">
            <a:avLst/>
          </a:prstGeom>
          <a:noFill/>
          <a:ln w="50760">
            <a:solidFill>
              <a:srgbClr val="ccffcc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00360" y="3933720"/>
            <a:ext cx="3095640" cy="360"/>
          </a:xfrm>
          <a:prstGeom prst="line">
            <a:avLst/>
          </a:prstGeom>
          <a:noFill/>
          <a:ln w="50760">
            <a:solidFill>
              <a:srgbClr val="ccffc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51280" y="2492280"/>
            <a:ext cx="1512720" cy="360"/>
          </a:xfrm>
          <a:prstGeom prst="line">
            <a:avLst/>
          </a:prstGeom>
          <a:noFill/>
          <a:ln w="50760">
            <a:solidFill>
              <a:srgbClr val="ffcc99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596360" y="6021360"/>
            <a:ext cx="1296720" cy="360"/>
          </a:xfrm>
          <a:prstGeom prst="line">
            <a:avLst/>
          </a:prstGeom>
          <a:noFill/>
          <a:ln w="50760">
            <a:solidFill>
              <a:srgbClr val="0000ff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0360" y="5157720"/>
            <a:ext cx="4319640" cy="360"/>
          </a:xfrm>
          <a:prstGeom prst="line">
            <a:avLst/>
          </a:prstGeom>
          <a:noFill/>
          <a:ln w="50760">
            <a:solidFill>
              <a:srgbClr val="ccffc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810200" y="558972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5.08-15.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253960" y="6437160"/>
            <a:ext cx="66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ию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984560" y="6437160"/>
            <a:ext cx="66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ию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782480" y="6437160"/>
            <a:ext cx="74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авгус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348000" y="907920"/>
            <a:ext cx="0" cy="5950080"/>
          </a:xfrm>
          <a:prstGeom prst="line">
            <a:avLst/>
          </a:prstGeom>
          <a:ln w="1584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308720" y="907920"/>
            <a:ext cx="0" cy="5950080"/>
          </a:xfrm>
          <a:prstGeom prst="line">
            <a:avLst/>
          </a:prstGeom>
          <a:ln w="1584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48520" y="4724280"/>
            <a:ext cx="118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20.06- 30.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907280" y="1197000"/>
            <a:ext cx="89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до 25.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09840" y="206064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7.07-17.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14960" y="3500280"/>
            <a:ext cx="216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не позднее 20.06-25.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87280" y="227664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Г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Что предстоит сделать на уровне Р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риня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оложение о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ЕГ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оложение о ГИА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в иных форм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Порядок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выдачи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свидетельства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о ЕГ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Форму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справки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об обучении в О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орядок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приема в ву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орядок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приема в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 государственные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ссу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оложение о формировании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баз данных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об участниках ЕГ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Что предстоит сделать на уровне субъек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Приня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- необходимые для проведения ГИА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нормативные документы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субъекта РФ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Провес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- работу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с работниками системы образования, родителями, выпускниками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по разъяснению порядка проведения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ГИА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в 2009-м году и в последующие г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5430-58BD-416F-ABD3-B84F5186D17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Принятые докумен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«Об утверждении положения о формах и порядке проведения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государственной (итоговой) аттестации обучающихся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, освоивших основные общеобразовательные программы среднего (полного) общего образования» </a:t>
            </a: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(приказ Министерства от 28 ноября 2008 года №36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«Об утверждении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перечня вступительных испытаний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в 2009 году в образовательные учреждения высшего профессионального образования, имеющие государственную аккредитацию» </a:t>
            </a: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(приказ Министерства от 28 ноября 2008 года №36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Принятые докумен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3. «Об утверждении 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перечня вступительных испытаний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 в 2009 году в образовательные учреждения среднего и высшего профессионального образования, имеющие государственную аккредитацию, по специальностям 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среднего профессионального образования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»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i="1" lang="en-US" sz="2600" spc="-1" strike="noStrike">
                <a:solidFill>
                  <a:srgbClr val="333399"/>
                </a:solidFill>
                <a:latin typeface="Arial"/>
              </a:rPr>
              <a:t>(приказ Минобрнауки России </a:t>
            </a:r>
            <a:r>
              <a:rPr b="1" i="1" lang="en-US" sz="2600" spc="-1" strike="noStrike">
                <a:solidFill>
                  <a:srgbClr val="cc0000"/>
                </a:solidFill>
                <a:latin typeface="Arial"/>
              </a:rPr>
              <a:t>от 22 сентября 2008 г. № 265</a:t>
            </a:r>
            <a:r>
              <a:rPr b="1" i="1" lang="en-US" sz="2600" spc="-1" strike="noStrike">
                <a:solidFill>
                  <a:srgbClr val="333399"/>
                </a:solidFill>
                <a:latin typeface="Arial"/>
              </a:rPr>
              <a:t> зарегистрирован Минюстом России </a:t>
            </a:r>
            <a:br>
              <a:rPr sz="2600"/>
            </a:br>
            <a:r>
              <a:rPr b="1" i="1" lang="en-US" sz="2600" spc="-1" strike="noStrike">
                <a:solidFill>
                  <a:srgbClr val="333399"/>
                </a:solidFill>
                <a:latin typeface="Arial"/>
              </a:rPr>
              <a:t>3 октября 2008 г., регистрационный </a:t>
            </a:r>
            <a:br>
              <a:rPr sz="2600"/>
            </a:br>
            <a:r>
              <a:rPr b="1" i="1" lang="en-US" sz="2600" spc="-1" strike="noStrike">
                <a:solidFill>
                  <a:srgbClr val="333399"/>
                </a:solidFill>
                <a:latin typeface="Arial"/>
              </a:rPr>
              <a:t>№ 12397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Принятые докумен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4. «Об  утверждении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перечня специальностей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среднего профессионального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образования, по которым при приеме в государственные и муниципальные образовательные учреждения среднего и высшего профессионального образования в 2009 году могут проводиться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дополнительные испытания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творческой и (или) профессиональной направленности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приказ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 Минобрнауки России </a:t>
            </a: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от 22 сентября 2008 г. № 264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 и зарегистрирован Минюстом России 3 октября 2008 г., регистрационный № 1239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Положение о ГИ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ГИА проводится в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форме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ЕГЭ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- государственного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выпускного экзамена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дл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а) обучающихся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в специальных учебно-воспитательных учреждениях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закрытого типа для детей и подростков с девиантным поведение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б)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обучающихся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в образовательных учреждениях, созданных при учреждениях, исполняющих наказание в виде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лишения свободы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в) выпускников с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ограниченными возможностями здоров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Положение о ГИ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ГИА </a:t>
            </a:r>
            <a:r>
              <a:rPr b="1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организуется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 и проводится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- в форме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ЕГЭ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– Рособрнадзором совместно с субъектами Р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- в форме государственного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выпускного экзамена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- субъектами РФ, образовательными учреждениями, их учредител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Государственная итоговая аттест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052720" y="1268280"/>
            <a:ext cx="0" cy="468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34200" y="907920"/>
            <a:ext cx="1945800" cy="3852360"/>
            <a:chOff x="34200" y="907920"/>
            <a:chExt cx="1945800" cy="3852360"/>
          </a:xfrm>
        </p:grpSpPr>
        <p:sp>
          <p:nvSpPr>
            <p:cNvPr id="55" name=""/>
            <p:cNvSpPr/>
            <p:nvPr/>
          </p:nvSpPr>
          <p:spPr>
            <a:xfrm>
              <a:off x="475920" y="907920"/>
              <a:ext cx="100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ШКОЛ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81080" y="2106720"/>
              <a:ext cx="32400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33120" y="1530360"/>
              <a:ext cx="57384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клас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406160" y="1530360"/>
              <a:ext cx="57384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клас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4200" y="1530360"/>
              <a:ext cx="1009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редмет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512720" y="2106720"/>
              <a:ext cx="32400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081080" y="2538360"/>
              <a:ext cx="324000" cy="2872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512720" y="2538360"/>
              <a:ext cx="324000" cy="2872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rot="19800000">
              <a:off x="72360" y="225036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математи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rot="19800000">
              <a:off x="234720" y="2611080"/>
              <a:ext cx="698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физи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081080" y="2970360"/>
              <a:ext cx="324000" cy="287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512720" y="2970360"/>
              <a:ext cx="324000" cy="287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rot="19800000">
              <a:off x="241200" y="2970360"/>
              <a:ext cx="732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русски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язы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081080" y="4076640"/>
              <a:ext cx="324000" cy="28728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512720" y="4076640"/>
              <a:ext cx="324000" cy="28728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rot="19800000">
              <a:off x="97920" y="4076280"/>
              <a:ext cx="1022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физическа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культур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189080" y="3427560"/>
              <a:ext cx="71280" cy="72720"/>
            </a:xfrm>
            <a:prstGeom prst="diamond">
              <a:avLst/>
            </a:prstGeom>
            <a:solidFill>
              <a:srgbClr val="0000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189080" y="3643200"/>
              <a:ext cx="71280" cy="73080"/>
            </a:xfrm>
            <a:prstGeom prst="diamond">
              <a:avLst/>
            </a:prstGeom>
            <a:solidFill>
              <a:srgbClr val="0000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189080" y="3859200"/>
              <a:ext cx="71280" cy="73080"/>
            </a:xfrm>
            <a:prstGeom prst="diamond">
              <a:avLst/>
            </a:prstGeom>
            <a:solidFill>
              <a:srgbClr val="0000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620720" y="3427560"/>
              <a:ext cx="71640" cy="72720"/>
            </a:xfrm>
            <a:prstGeom prst="diamond">
              <a:avLst/>
            </a:prstGeom>
            <a:solidFill>
              <a:srgbClr val="0000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20720" y="3643200"/>
              <a:ext cx="71640" cy="73080"/>
            </a:xfrm>
            <a:prstGeom prst="diamond">
              <a:avLst/>
            </a:prstGeom>
            <a:solidFill>
              <a:srgbClr val="0000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620720" y="3859200"/>
              <a:ext cx="71640" cy="73080"/>
            </a:xfrm>
            <a:prstGeom prst="diamond">
              <a:avLst/>
            </a:prstGeom>
            <a:solidFill>
              <a:srgbClr val="0000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3565440" y="907920"/>
            <a:ext cx="5327640" cy="5113440"/>
            <a:chOff x="3565440" y="907920"/>
            <a:chExt cx="5327640" cy="5113440"/>
          </a:xfrm>
        </p:grpSpPr>
        <p:grpSp>
          <p:nvGrpSpPr>
            <p:cNvPr id="78" name=""/>
            <p:cNvGrpSpPr/>
            <p:nvPr/>
          </p:nvGrpSpPr>
          <p:grpSpPr>
            <a:xfrm>
              <a:off x="3565440" y="907920"/>
              <a:ext cx="5327640" cy="5113440"/>
              <a:chOff x="3565440" y="907920"/>
              <a:chExt cx="5327640" cy="5113440"/>
            </a:xfrm>
          </p:grpSpPr>
          <p:sp>
            <p:nvSpPr>
              <p:cNvPr id="79" name=""/>
              <p:cNvSpPr/>
              <p:nvPr/>
            </p:nvSpPr>
            <p:spPr>
              <a:xfrm>
                <a:off x="7740720" y="4508640"/>
                <a:ext cx="1150920" cy="1512720"/>
              </a:xfrm>
              <a:custGeom>
                <a:avLst/>
                <a:gdLst>
                  <a:gd name="textAreaLeft" fmla="*/ 16560 w 1150920"/>
                  <a:gd name="textAreaRight" fmla="*/ 1134360 w 1150920"/>
                  <a:gd name="textAreaTop" fmla="*/ 16560 h 1512720"/>
                  <a:gd name="textAreaBottom" fmla="*/ 1496160 h 1512720"/>
                </a:gdLst>
                <a:ahLst/>
                <a:rect l="textAreaLeft" t="textAreaTop" r="textAreaRight" b="textAreaBottom"/>
                <a:pathLst>
                  <a:path w="21600" h="28388">
                    <a:moveTo>
                      <a:pt x="1062" y="0"/>
                    </a:moveTo>
                    <a:arcTo wR="1062" hR="1062" stAng="16200000" swAng="-5400000"/>
                    <a:lnTo>
                      <a:pt x="0" y="27326"/>
                    </a:lnTo>
                    <a:arcTo wR="1062" hR="1062" stAng="10800000" swAng="-5400000"/>
                    <a:lnTo>
                      <a:pt x="20538" y="28388"/>
                    </a:lnTo>
                    <a:arcTo wR="1062" hR="1062" stAng="5400000" swAng="-5400000"/>
                    <a:lnTo>
                      <a:pt x="21600" y="1062"/>
                    </a:lnTo>
                    <a:arcTo wR="1062" hR="1062" stAng="0" swAng="-5400000"/>
                    <a:close/>
                  </a:path>
                </a:pathLst>
              </a:custGeom>
              <a:solidFill>
                <a:srgbClr val="ff6600">
                  <a:alpha val="14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Arial"/>
                  </a:rPr>
                  <a:t>Иные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Arial"/>
                  </a:rPr>
                  <a:t>формы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" name=""/>
              <p:cNvGrpSpPr/>
              <p:nvPr/>
            </p:nvGrpSpPr>
            <p:grpSpPr>
              <a:xfrm>
                <a:off x="3565440" y="907920"/>
                <a:ext cx="5327640" cy="3456000"/>
                <a:chOff x="3565440" y="907920"/>
                <a:chExt cx="5327640" cy="345600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5149440" y="907920"/>
                  <a:ext cx="877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Г  И  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3565440" y="1484280"/>
                  <a:ext cx="5327640" cy="2879640"/>
                </a:xfrm>
                <a:prstGeom prst="roundRect">
                  <a:avLst>
                    <a:gd name="adj" fmla="val 4917"/>
                  </a:avLst>
                </a:prstGeom>
                <a:solidFill>
                  <a:srgbClr val="bbe0e3">
                    <a:alpha val="27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ЕГЭ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4933800" y="2131920"/>
                  <a:ext cx="1224000" cy="576360"/>
                </a:xfrm>
                <a:prstGeom prst="rect">
                  <a:avLst/>
                </a:prstGeom>
                <a:solidFill>
                  <a:srgbClr val="003366"/>
                </a:solidFill>
                <a:ln w="5724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русский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язык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6589800" y="2131920"/>
                  <a:ext cx="1224000" cy="576360"/>
                </a:xfrm>
                <a:prstGeom prst="rect">
                  <a:avLst/>
                </a:prstGeom>
                <a:solidFill>
                  <a:srgbClr val="003366"/>
                </a:solidFill>
                <a:ln w="5724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математика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4936320" y="1700280"/>
                  <a:ext cx="28098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333399"/>
                      </a:solidFill>
                      <a:latin typeface="Arial"/>
                    </a:rPr>
                    <a:t>ОБЯЗАТЕЛЬНЫЕ ПРЕДМЕТЫ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4419360" y="2924280"/>
                  <a:ext cx="37119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333399"/>
                      </a:solidFill>
                      <a:latin typeface="Arial"/>
                    </a:rPr>
                    <a:t>ПРЕДМЕТЫ ПО ВЫБОРУ ВЫПУСКНИКА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4068720" y="3284640"/>
                  <a:ext cx="503280" cy="360360"/>
                </a:xfrm>
                <a:prstGeom prst="rect">
                  <a:avLst/>
                </a:prstGeom>
                <a:solidFill>
                  <a:srgbClr val="99ccf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200" spc="-1" strike="noStrike">
                      <a:solidFill>
                        <a:srgbClr val="333300"/>
                      </a:solidFill>
                      <a:latin typeface="Arial"/>
                    </a:rPr>
                    <a:t>ин.яз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4643280" y="3284640"/>
                  <a:ext cx="648000" cy="360360"/>
                </a:xfrm>
                <a:prstGeom prst="rect">
                  <a:avLst/>
                </a:prstGeom>
                <a:solidFill>
                  <a:srgbClr val="99ccf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00"/>
                      </a:solidFill>
                      <a:latin typeface="Arial"/>
                    </a:rPr>
                    <a:t>химия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5362560" y="3284640"/>
                  <a:ext cx="720720" cy="360360"/>
                </a:xfrm>
                <a:prstGeom prst="rect">
                  <a:avLst/>
                </a:prstGeom>
                <a:solidFill>
                  <a:srgbClr val="99ccf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00"/>
                      </a:solidFill>
                      <a:latin typeface="Arial"/>
                    </a:rPr>
                    <a:t>физика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6154560" y="3284640"/>
                  <a:ext cx="1008360" cy="360360"/>
                </a:xfrm>
                <a:prstGeom prst="rect">
                  <a:avLst/>
                </a:prstGeom>
                <a:solidFill>
                  <a:srgbClr val="99ccf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00"/>
                      </a:solidFill>
                      <a:latin typeface="Arial"/>
                    </a:rPr>
                    <a:t>литература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4068720" y="3716280"/>
                  <a:ext cx="865080" cy="360360"/>
                </a:xfrm>
                <a:prstGeom prst="rect">
                  <a:avLst/>
                </a:prstGeom>
                <a:solidFill>
                  <a:srgbClr val="99ccf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00"/>
                      </a:solidFill>
                      <a:latin typeface="Arial"/>
                    </a:rPr>
                    <a:t>биология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5003640" y="3716280"/>
                  <a:ext cx="865440" cy="360360"/>
                </a:xfrm>
                <a:prstGeom prst="rect">
                  <a:avLst/>
                </a:prstGeom>
                <a:solidFill>
                  <a:srgbClr val="99ccf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00"/>
                      </a:solidFill>
                      <a:latin typeface="Arial"/>
                    </a:rPr>
                    <a:t>география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5940360" y="3716280"/>
                  <a:ext cx="865080" cy="360360"/>
                </a:xfrm>
                <a:prstGeom prst="rect">
                  <a:avLst/>
                </a:prstGeom>
                <a:solidFill>
                  <a:srgbClr val="99ccf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00"/>
                      </a:solidFill>
                      <a:latin typeface="Arial"/>
                    </a:rPr>
                    <a:t>история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6877080" y="3716280"/>
                  <a:ext cx="1440000" cy="360360"/>
                </a:xfrm>
                <a:prstGeom prst="rect">
                  <a:avLst/>
                </a:prstGeom>
                <a:solidFill>
                  <a:srgbClr val="99ccf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00"/>
                      </a:solidFill>
                      <a:latin typeface="Arial"/>
                    </a:rPr>
                    <a:t>обществоведение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7236000" y="3284640"/>
                  <a:ext cx="1081080" cy="360360"/>
                </a:xfrm>
                <a:prstGeom prst="rect">
                  <a:avLst/>
                </a:prstGeom>
                <a:solidFill>
                  <a:srgbClr val="99ccf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00"/>
                      </a:solidFill>
                      <a:latin typeface="Arial"/>
                    </a:rPr>
                    <a:t>информатика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" name=""/>
            <p:cNvSpPr/>
            <p:nvPr/>
          </p:nvSpPr>
          <p:spPr>
            <a:xfrm>
              <a:off x="7820280" y="5156280"/>
              <a:ext cx="1000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999"/>
                  </a:solidFill>
                  <a:latin typeface="Arial"/>
                </a:rPr>
                <a:t>Дети с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999"/>
                  </a:solidFill>
                  <a:latin typeface="Arial"/>
                </a:rPr>
                <a:t>особым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999"/>
                  </a:solidFill>
                  <a:latin typeface="Arial"/>
                </a:rPr>
                <a:t>нуждам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973080" y="1052640"/>
            <a:ext cx="6624720" cy="5400720"/>
            <a:chOff x="973080" y="1052640"/>
            <a:chExt cx="6624720" cy="5400720"/>
          </a:xfrm>
        </p:grpSpPr>
        <p:sp>
          <p:nvSpPr>
            <p:cNvPr id="98" name=""/>
            <p:cNvSpPr/>
            <p:nvPr/>
          </p:nvSpPr>
          <p:spPr>
            <a:xfrm>
              <a:off x="2197080" y="1052640"/>
              <a:ext cx="1390680" cy="2089080"/>
            </a:xfrm>
            <a:prstGeom prst="rightArrow">
              <a:avLst>
                <a:gd name="adj1" fmla="val 59722"/>
                <a:gd name="adj2" fmla="val 15296"/>
              </a:avLst>
            </a:prstGeom>
            <a:solidFill>
              <a:srgbClr val="008000">
                <a:alpha val="1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без «неудов.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по всем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предмета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учебног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плана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2124000" y="2708280"/>
              <a:ext cx="1440000" cy="1584360"/>
            </a:xfrm>
            <a:custGeom>
              <a:avLst/>
              <a:gdLst>
                <a:gd name="textAreaLeft" fmla="*/ 440280 w 1440000"/>
                <a:gd name="textAreaRight" fmla="*/ 1367280 w 1440000"/>
                <a:gd name="textAreaTop" fmla="*/ 765360 h 1584360"/>
                <a:gd name="textAreaBottom" fmla="*/ 1504080 h 158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1532"/>
                  </a:moveTo>
                  <a:lnTo>
                    <a:pt x="10436" y="11532"/>
                  </a:lnTo>
                  <a:lnTo>
                    <a:pt x="10436" y="6601"/>
                  </a:lnTo>
                  <a:lnTo>
                    <a:pt x="9340" y="6601"/>
                  </a:lnTo>
                  <a:lnTo>
                    <a:pt x="15470" y="0"/>
                  </a:lnTo>
                  <a:lnTo>
                    <a:pt x="21600" y="6601"/>
                  </a:lnTo>
                  <a:lnTo>
                    <a:pt x="20504" y="6601"/>
                  </a:lnTo>
                  <a:lnTo>
                    <a:pt x="2050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258280" y="3489480"/>
              <a:ext cx="1280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2 обязат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экзаме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ниже порог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90240" y="2979720"/>
              <a:ext cx="64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</a:rPr>
                <a:t>+ го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973080" y="4435200"/>
              <a:ext cx="5256360" cy="2018160"/>
              <a:chOff x="973080" y="4435200"/>
              <a:chExt cx="5256360" cy="2018160"/>
            </a:xfrm>
          </p:grpSpPr>
          <p:sp>
            <p:nvSpPr>
              <p:cNvPr id="103" name=""/>
              <p:cNvSpPr/>
              <p:nvPr/>
            </p:nvSpPr>
            <p:spPr>
              <a:xfrm>
                <a:off x="973080" y="4435560"/>
                <a:ext cx="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73080" y="4579920"/>
                <a:ext cx="1008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V="1">
                <a:off x="1981080" y="4435200"/>
                <a:ext cx="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405080" y="4579920"/>
                <a:ext cx="0" cy="187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05080" y="6453360"/>
                <a:ext cx="482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V="1">
                <a:off x="6229440" y="6192720"/>
                <a:ext cx="0" cy="26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2235960" y="4292640"/>
              <a:ext cx="5361840" cy="2016000"/>
              <a:chOff x="2235960" y="4292640"/>
              <a:chExt cx="5361840" cy="2016000"/>
            </a:xfrm>
          </p:grpSpPr>
          <p:sp>
            <p:nvSpPr>
              <p:cNvPr id="110" name=""/>
              <p:cNvSpPr/>
              <p:nvPr/>
            </p:nvSpPr>
            <p:spPr>
              <a:xfrm>
                <a:off x="5581800" y="5156280"/>
                <a:ext cx="2016000" cy="1152360"/>
              </a:xfrm>
              <a:prstGeom prst="rect">
                <a:avLst/>
              </a:prstGeom>
              <a:solidFill>
                <a:srgbClr val="00ff00">
                  <a:alpha val="2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653080" y="4363920"/>
                <a:ext cx="1871640" cy="720720"/>
              </a:xfrm>
              <a:prstGeom prst="downArrow">
                <a:avLst>
                  <a:gd name="adj1" fmla="val 80324"/>
                  <a:gd name="adj2" fmla="val 24889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837400" y="4422600"/>
                <a:ext cx="15174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все обяз. экзам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не ниже порог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565440" y="4363920"/>
                <a:ext cx="1513080" cy="720720"/>
              </a:xfrm>
              <a:prstGeom prst="downArrow">
                <a:avLst>
                  <a:gd name="adj1" fmla="val 80324"/>
                  <a:gd name="adj2" fmla="val 24889"/>
                </a:avLst>
              </a:prstGeom>
              <a:solidFill>
                <a:srgbClr val="ffb7b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632760" y="4435560"/>
                <a:ext cx="13327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1 обяз. экзам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ниже порог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060720" y="5084640"/>
                <a:ext cx="2016000" cy="1008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пересдать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в дополнительны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дни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" name=""/>
              <p:cNvGrpSpPr/>
              <p:nvPr/>
            </p:nvGrpSpPr>
            <p:grpSpPr>
              <a:xfrm>
                <a:off x="2268000" y="4292640"/>
                <a:ext cx="792360" cy="1295280"/>
                <a:chOff x="2268000" y="4292640"/>
                <a:chExt cx="792360" cy="1295280"/>
              </a:xfrm>
            </p:grpSpPr>
            <p:sp>
              <p:nvSpPr>
                <p:cNvPr id="117" name=""/>
                <p:cNvSpPr/>
                <p:nvPr/>
              </p:nvSpPr>
              <p:spPr>
                <a:xfrm flipH="1">
                  <a:off x="2268000" y="5587920"/>
                  <a:ext cx="792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 flipV="1">
                  <a:off x="2268360" y="4292640"/>
                  <a:ext cx="0" cy="1295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" name=""/>
              <p:cNvSpPr/>
              <p:nvPr/>
            </p:nvSpPr>
            <p:spPr>
              <a:xfrm>
                <a:off x="5076720" y="5587920"/>
                <a:ext cx="505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932720" y="5661000"/>
                <a:ext cx="57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6600"/>
                    </a:solidFill>
                    <a:latin typeface="Arial"/>
                  </a:rPr>
                  <a:t>сдал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35960" y="5661000"/>
                <a:ext cx="82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cc0000"/>
                    </a:solidFill>
                    <a:latin typeface="Arial"/>
                  </a:rPr>
                  <a:t>не сдал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562720" y="5149800"/>
                <a:ext cx="1095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аттеста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591240" y="5156280"/>
                <a:ext cx="1003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свид-в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ЕГЭ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940360" y="5516640"/>
                <a:ext cx="449280" cy="647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Документы выпуск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аттестат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о среднем (полном) общем образован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свидетельство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о ЕГЭ (по всем сданным предметам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- похвальная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грамота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(может быть выдан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Что ставится в аттест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итоговые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отметки: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- по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каждому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общеобразовательному предмету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инвариантной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части базисного учебного план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- по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каждому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общеобразовательному предмету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вариативной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части учебного плана образовательного учреждения, изучавшемуся выпускником, в случае если на его изучение отводилось по учебному плану образовательного учреждения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не менее 64 часов за два учебных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06:11:46Z</dcterms:created>
  <dc:creator>Dmitriy</dc:creator>
  <dc:description/>
  <dc:language>en-US</dc:language>
  <cp:lastModifiedBy>Nizienko</cp:lastModifiedBy>
  <dcterms:modified xsi:type="dcterms:W3CDTF">2008-12-10T14:50:10Z</dcterms:modified>
  <cp:revision>23</cp:revision>
  <dc:subject/>
  <dc:title>Слайд 1</dc:title>
</cp:coreProperties>
</file>