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63A-2666-4E78-949B-9E83B067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427-DE11-4FD0-A722-30BD5DAF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1EC-22FE-4A0B-B84D-58E3CC91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C58-B23E-4454-8D16-C2402D00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161F-0D61-498C-8473-645DC59A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9CDF-874E-4FEC-8D2E-EEAC5F47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A3FE-FB44-47B6-A905-6AE93DF0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9F3B-69F9-4B17-9811-D0DE9612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7D1F-7DAE-4CEC-AB16-3E676CFD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72DD-AA73-4500-86A7-6AACDCF0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FAD3-5549-4AD6-A484-E8E475CF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4A6-24FE-4662-9EEE-4D0248C2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24BB-90B3-49C2-BB29-6D65C656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030B-E57A-4034-BBC3-D613C19B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FA97-F050-4765-8928-3836BE28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6211-B111-4562-BCE2-9B7F5D2A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3BB7-071E-4C2E-9BFB-17B592F0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DA1-87CC-425D-9A2C-BF268839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E53-953D-4F75-B058-73D78C55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4B7-1CAD-4A1A-87DE-9455F1F4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971-F6CA-48CF-8990-1C9ED1D8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EFD-D8C3-446E-A720-4499512D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5B2-778B-4A8A-A46A-154F8840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444-BECA-429C-BFC0-A83A1FF4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0DFC-640F-451E-9AB8-554B2DE6A3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фон copy"/>
          <p:cNvPicPr/>
          <p:nvPr/>
        </p:nvPicPr>
        <p:blipFill>
          <a:blip r:embed="rId2"/>
          <a:stretch/>
        </p:blipFill>
        <p:spPr>
          <a:xfrm>
            <a:off x="-9360" y="-23760"/>
            <a:ext cx="9162720" cy="690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фон copy"/>
          <p:cNvPicPr/>
          <p:nvPr/>
        </p:nvPicPr>
        <p:blipFill>
          <a:blip r:embed="rId2"/>
          <a:stretch/>
        </p:blipFill>
        <p:spPr>
          <a:xfrm>
            <a:off x="-9360" y="-23760"/>
            <a:ext cx="9162720" cy="6905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9261-2F74-44D8-BB8B-8BB5B03407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test@rustest.ru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00040" y="1928880"/>
            <a:ext cx="8388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Инструктивно-методическое и организационное обеспечение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ГЭ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635280" y="6308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008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195640" y="4500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Решетникова Окса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071720" y="5146560"/>
            <a:ext cx="770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Заместитель дире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ФГУ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Федеральный Центр тестирования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”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857160" y="2165400"/>
            <a:ext cx="774072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озможность осуществления досрочной доставки экзаменационных матери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апланирована заблаговременная досрочная доставка экзаменационных материалов в субъекты РФ при условии предоставления обоснования необходимости досрочной доставки, а также принятия мер информационной безопа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614520" y="372096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шения, реализуемые с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14520" y="121428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ипичные замечания 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0"/>
          <p:cNvSpPr/>
          <p:nvPr/>
        </p:nvSpPr>
        <p:spPr>
          <a:xfrm>
            <a:off x="614520" y="1214280"/>
            <a:ext cx="81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дложения и замеч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57160" y="2165400"/>
            <a:ext cx="7740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Анализ предложений и замечаний, поступивших от субъектов Р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азработка нового пакета инструктивно-методических док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4"/>
          <p:cNvSpPr/>
          <p:nvPr/>
        </p:nvSpPr>
        <p:spPr>
          <a:xfrm>
            <a:off x="1471680" y="1627200"/>
            <a:ext cx="6143400" cy="144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0"/>
          <p:cNvSpPr/>
          <p:nvPr/>
        </p:nvSpPr>
        <p:spPr>
          <a:xfrm>
            <a:off x="0" y="1143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еречень проектов инструктивно-методической документации, определяющей подготовку, проведение и обработку результатов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4"/>
          <p:cNvSpPr/>
          <p:nvPr/>
        </p:nvSpPr>
        <p:spPr>
          <a:xfrm>
            <a:off x="1471680" y="1928880"/>
            <a:ext cx="6143400" cy="144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C:\Documents and Settings\inna\Мои документы\Ирка\Структура инструк материалов_общ_2.png"/>
          <p:cNvPicPr/>
          <p:nvPr/>
        </p:nvPicPr>
        <p:blipFill>
          <a:blip r:embed="rId1"/>
          <a:stretch/>
        </p:blipFill>
        <p:spPr>
          <a:xfrm>
            <a:off x="1000080" y="2071800"/>
            <a:ext cx="7074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0" y="1143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труктура инструктивно-методической документации, определяющей подготовку, проведение и обработку результатов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4"/>
          <p:cNvSpPr/>
          <p:nvPr/>
        </p:nvSpPr>
        <p:spPr>
          <a:xfrm>
            <a:off x="1471680" y="1928880"/>
            <a:ext cx="6143400" cy="144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inna\Мои документы\Ирка\Структура инструк материалов_24-2.png"/>
          <p:cNvPicPr/>
          <p:nvPr/>
        </p:nvPicPr>
        <p:blipFill>
          <a:blip r:embed="rId1"/>
          <a:stretch/>
        </p:blipFill>
        <p:spPr>
          <a:xfrm>
            <a:off x="219240" y="2500200"/>
            <a:ext cx="89247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inna\Мои документы\Ирка\Propusk_ege_2009_Образец_версия 3.png"/>
          <p:cNvPicPr/>
          <p:nvPr/>
        </p:nvPicPr>
        <p:blipFill>
          <a:blip r:embed="rId1"/>
          <a:stretch/>
        </p:blipFill>
        <p:spPr>
          <a:xfrm>
            <a:off x="3259080" y="1898640"/>
            <a:ext cx="5599080" cy="4602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357120" y="20718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Форма пропуска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1314360"/>
            <a:ext cx="9144000" cy="398880"/>
          </a:xfrm>
          <a:prstGeom prst="rect">
            <a:avLst/>
          </a:prstGeom>
          <a:solidFill>
            <a:srgbClr val="facc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Регламент по организации и проведению ЕГЭ в субъекте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85840" y="2506680"/>
            <a:ext cx="85723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доставление данных РБД в ФГУ «ФЦТ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нформация о субъекте РФ, МОУО, АТЕ, ОУ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 15.12.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нформация об обучающихся, которые будут сдавать ЕГЭ по обязательным предметам, о ППОИ, ППЭ, аудиториях ППЭ, работниках ППЭ, экспертах РПК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 20.02.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нформация об обучающихся, сдающих ЕГЭ по предметам по выбор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 15.03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1314360"/>
            <a:ext cx="9144000" cy="398880"/>
          </a:xfrm>
          <a:prstGeom prst="rect">
            <a:avLst/>
          </a:prstGeom>
          <a:solidFill>
            <a:srgbClr val="facc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Регламент по организации и проведению ЕГЭ в субъекте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0" y="1143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труктура инструктивно-методической документации, определяющей подготовку, проведение и обработку результатов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4"/>
          <p:cNvSpPr/>
          <p:nvPr/>
        </p:nvSpPr>
        <p:spPr>
          <a:xfrm>
            <a:off x="1471680" y="1928880"/>
            <a:ext cx="6143400" cy="144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Documents and Settings\inna\Мои документы\Ирка\Структура инструк материалов_26.png"/>
          <p:cNvPicPr/>
          <p:nvPr/>
        </p:nvPicPr>
        <p:blipFill>
          <a:blip r:embed="rId1"/>
          <a:stretch/>
        </p:blipFill>
        <p:spPr>
          <a:xfrm>
            <a:off x="214200" y="2143080"/>
            <a:ext cx="8724960" cy="3129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285840" y="578628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работаны инструкции для каждой категории специалистов в П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85840" y="185724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оработаны формы ППЭ (сборник фор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0" y="1314360"/>
            <a:ext cx="9144000" cy="398880"/>
          </a:xfrm>
          <a:prstGeom prst="rect">
            <a:avLst/>
          </a:prstGeom>
          <a:solidFill>
            <a:srgbClr val="facc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Регламент подготовки и проведения ЕГЭ в П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inna\Мои документы\Ирка\Форма 12-ППЭ-Приложения_1_1.png"/>
          <p:cNvPicPr/>
          <p:nvPr/>
        </p:nvPicPr>
        <p:blipFill>
          <a:blip r:embed="rId1"/>
          <a:stretch/>
        </p:blipFill>
        <p:spPr>
          <a:xfrm>
            <a:off x="95400" y="2786040"/>
            <a:ext cx="4547880" cy="2635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inna\Мои документы\Ирка\Форма 12-ППЭ-Приложения_2_1.png"/>
          <p:cNvPicPr/>
          <p:nvPr/>
        </p:nvPicPr>
        <p:blipFill>
          <a:blip r:embed="rId2"/>
          <a:stretch/>
        </p:blipFill>
        <p:spPr>
          <a:xfrm>
            <a:off x="4819680" y="2786040"/>
            <a:ext cx="41814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285840" y="224316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оработаны формы ППЭ (сборник фор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Documents and Settings\inna\Мои документы\Ирка\Форма 12-ППЭ-Приложения_3_1.png"/>
          <p:cNvPicPr/>
          <p:nvPr/>
        </p:nvPicPr>
        <p:blipFill>
          <a:blip r:embed="rId1"/>
          <a:stretch/>
        </p:blipFill>
        <p:spPr>
          <a:xfrm>
            <a:off x="142920" y="3214800"/>
            <a:ext cx="4357800" cy="2774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Documents and Settings\inna\Мои документы\Ирка\Форма 12-ППЭ-Приложения_4_1.png"/>
          <p:cNvPicPr/>
          <p:nvPr/>
        </p:nvPicPr>
        <p:blipFill>
          <a:blip r:embed="rId2"/>
          <a:stretch/>
        </p:blipFill>
        <p:spPr>
          <a:xfrm>
            <a:off x="4637160" y="3174840"/>
            <a:ext cx="4363920" cy="26434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0" y="1314360"/>
            <a:ext cx="9144000" cy="398880"/>
          </a:xfrm>
          <a:prstGeom prst="rect">
            <a:avLst/>
          </a:prstGeom>
          <a:solidFill>
            <a:srgbClr val="facc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Регламент подготовки и проведения ЕГЭ в П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285840" y="2571840"/>
            <a:ext cx="857232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ланируемые изменения в бланках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9144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едполагается в бланке регистрации введение новых по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дален с экза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е завершил экза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ланки ЕГЭ удаленных с экзамена или не закончивших экзамен по уважительной причине сдаются на обработку вместе с остальными бланками ауд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1314360"/>
            <a:ext cx="9144000" cy="398880"/>
          </a:xfrm>
          <a:prstGeom prst="rect">
            <a:avLst/>
          </a:prstGeom>
          <a:solidFill>
            <a:srgbClr val="facc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Регламент подготовки и проведения ЕГЭ в П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0"/>
          <p:cNvSpPr/>
          <p:nvPr/>
        </p:nvSpPr>
        <p:spPr>
          <a:xfrm>
            <a:off x="0" y="1214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структивно-методическое и организационное обеспечение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57160" y="216540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Анализ предложений и замечаний, поступивших от субъектов РФ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4"/>
          <p:cNvSpPr/>
          <p:nvPr/>
        </p:nvSpPr>
        <p:spPr>
          <a:xfrm>
            <a:off x="1471680" y="1627200"/>
            <a:ext cx="6143400" cy="144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285840" y="192888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оработаны формы ППЭ (сборник фор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Documents and Settings\inna\Мои документы\Ирка\Форма 14-ППЭ-Приложения_1.png"/>
          <p:cNvPicPr/>
          <p:nvPr/>
        </p:nvPicPr>
        <p:blipFill>
          <a:blip r:embed="rId1"/>
          <a:stretch/>
        </p:blipFill>
        <p:spPr>
          <a:xfrm>
            <a:off x="428760" y="2571840"/>
            <a:ext cx="8082000" cy="392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0" y="1314360"/>
            <a:ext cx="9144000" cy="398880"/>
          </a:xfrm>
          <a:prstGeom prst="rect">
            <a:avLst/>
          </a:prstGeom>
          <a:solidFill>
            <a:srgbClr val="facc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Регламент подготовки и проведения ЕГЭ в П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0"/>
          <p:cNvSpPr/>
          <p:nvPr/>
        </p:nvSpPr>
        <p:spPr>
          <a:xfrm>
            <a:off x="0" y="1143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труктура инструктивно-методической документации, определяющей подготовку, проведение и обработку результатов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4"/>
          <p:cNvSpPr/>
          <p:nvPr/>
        </p:nvSpPr>
        <p:spPr>
          <a:xfrm>
            <a:off x="1471680" y="1928880"/>
            <a:ext cx="6143400" cy="144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Documents and Settings\inna\Мои документы\Ирка\Структура инструк материалов_25-2.png"/>
          <p:cNvPicPr/>
          <p:nvPr/>
        </p:nvPicPr>
        <p:blipFill>
          <a:blip r:embed="rId1"/>
          <a:stretch/>
        </p:blipFill>
        <p:spPr>
          <a:xfrm>
            <a:off x="892080" y="1857240"/>
            <a:ext cx="732312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285840" y="2571840"/>
            <a:ext cx="857232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ов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спользование единой распределенной БД результатов ЕГЭ (ЕРБ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чет не закончивших экзамен по уважительной причине и\или удаленных с экзамена участников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кращение числа полей для верификации при обработке бланков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ланируется предоставление возможности произведения учета экзаменационных материалов с помощью сканеров штрихк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0" y="1357200"/>
            <a:ext cx="9144000" cy="703800"/>
          </a:xfrm>
          <a:prstGeom prst="rect">
            <a:avLst/>
          </a:prstGeom>
          <a:solidFill>
            <a:srgbClr val="facc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Регламент подготовки и проведения обработки материалов ЕГЭ в РЦОИ и ППОИ в субъекте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0"/>
          <p:cNvSpPr/>
          <p:nvPr/>
        </p:nvSpPr>
        <p:spPr>
          <a:xfrm>
            <a:off x="0" y="1357200"/>
            <a:ext cx="9144000" cy="703800"/>
          </a:xfrm>
          <a:prstGeom prst="rect">
            <a:avLst/>
          </a:prstGeom>
          <a:solidFill>
            <a:srgbClr val="facc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Регламент подготовки и проведения обработки материалов ЕГЭ в РЦОИ и ППОИ в субъекте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1071720" y="2071800"/>
            <a:ext cx="7014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канеры штрихк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500040" y="2857680"/>
            <a:ext cx="8358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Стоимость – 1 000 – 2 00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дключается к станции(ям) учета экзаменационных материалов (Э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Расчет количества сканеров (с учетом проектного времени обработки ЭМ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ем ЭМ с федераль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1 коробка – 2-3 мину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дача ЭМ в ПП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1 ППЭ на 200 чел. – 5-7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7"/>
          <p:cNvSpPr/>
          <p:nvPr/>
        </p:nvSpPr>
        <p:spPr>
          <a:xfrm>
            <a:off x="857160" y="2641680"/>
            <a:ext cx="7500960" cy="1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0"/>
          <p:cNvSpPr/>
          <p:nvPr/>
        </p:nvSpPr>
        <p:spPr>
          <a:xfrm>
            <a:off x="642960" y="5500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ополняет «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гламент по подготовке и проведению ЕГЭ в пунктах проведения экзамена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 для использования в труднодоступных и отдаленных местност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4"/>
          <p:cNvSpPr/>
          <p:nvPr/>
        </p:nvSpPr>
        <p:spPr>
          <a:xfrm>
            <a:off x="1471680" y="1928880"/>
            <a:ext cx="6143400" cy="144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Documents and Settings\inna\Мои документы\Ирка\Структура инструк материалов_ТОМ.png"/>
          <p:cNvPicPr/>
          <p:nvPr/>
        </p:nvPicPr>
        <p:blipFill>
          <a:blip r:embed="rId1"/>
          <a:stretch/>
        </p:blipFill>
        <p:spPr>
          <a:xfrm>
            <a:off x="217440" y="2286000"/>
            <a:ext cx="8855280" cy="2505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152280" y="1295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труктура инструктивно-методической документации, определяющей подготовку, проведение и обработку результатов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285840" y="2743200"/>
            <a:ext cx="85723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ов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работан и апробирован модуль удаленного сканирования в 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0" y="1357200"/>
            <a:ext cx="9144000" cy="703800"/>
          </a:xfrm>
          <a:prstGeom prst="rect">
            <a:avLst/>
          </a:prstGeom>
          <a:solidFill>
            <a:srgbClr val="fdf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Инструкция по организации и проведению ЕГЭ в труднодоступных и отдаленных местнос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285840" y="214308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работаны специальные формы проведения ЕГЭ в 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Documents and Settings\inna\Мои документы\Ирка\Форма 13-ППЭ-ТОМ____1.png"/>
          <p:cNvPicPr/>
          <p:nvPr/>
        </p:nvPicPr>
        <p:blipFill>
          <a:blip r:embed="rId1"/>
          <a:stretch/>
        </p:blipFill>
        <p:spPr>
          <a:xfrm>
            <a:off x="1165320" y="2655720"/>
            <a:ext cx="6978600" cy="4221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0" y="1357200"/>
            <a:ext cx="9144000" cy="703800"/>
          </a:xfrm>
          <a:prstGeom prst="rect">
            <a:avLst/>
          </a:prstGeom>
          <a:solidFill>
            <a:srgbClr val="fdf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Инструкция по организации и проведению ЕГЭ в труднодоступных и отдаленных местнос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285840" y="217188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работаны специальные формы проведения ЕГЭ в 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Documents and Settings\inna\Мои документы\Ирка\Форма 14-ППЭ-ТОМ-1.png"/>
          <p:cNvPicPr/>
          <p:nvPr/>
        </p:nvPicPr>
        <p:blipFill>
          <a:blip r:embed="rId1"/>
          <a:stretch/>
        </p:blipFill>
        <p:spPr>
          <a:xfrm>
            <a:off x="484200" y="2500200"/>
            <a:ext cx="8302680" cy="4143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0" y="1357200"/>
            <a:ext cx="9144000" cy="703800"/>
          </a:xfrm>
          <a:prstGeom prst="rect">
            <a:avLst/>
          </a:prstGeom>
          <a:solidFill>
            <a:srgbClr val="fdf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Инструкция по организации и проведению ЕГЭ в труднодоступных и отдаленных местнос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0"/>
          <p:cNvSpPr/>
          <p:nvPr/>
        </p:nvSpPr>
        <p:spPr>
          <a:xfrm>
            <a:off x="0" y="1143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труктура инструктивно-методической документации, определяющей подготовку, проведение и обработку результатов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4"/>
          <p:cNvSpPr/>
          <p:nvPr/>
        </p:nvSpPr>
        <p:spPr>
          <a:xfrm>
            <a:off x="1471680" y="1928880"/>
            <a:ext cx="6143400" cy="144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C:\Documents and Settings\inna\Мои документы\Ирка\Структура инструк материалов_ЗОУ.png"/>
          <p:cNvPicPr/>
          <p:nvPr/>
        </p:nvPicPr>
        <p:blipFill>
          <a:blip r:embed="rId1"/>
          <a:stretch/>
        </p:blipFill>
        <p:spPr>
          <a:xfrm>
            <a:off x="291960" y="2286000"/>
            <a:ext cx="8852040" cy="2944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571680" y="5500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ополняет «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гламент по подготовке и проведению ЕГЭ в пунктах проведения экзамена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 для использования в ОУ, расположенных за пределами РФ (ЗО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C:\Documents and Settings\inna\Мои документы\Ирка\Структура инструк материалов_иняз-1.png"/>
          <p:cNvPicPr/>
          <p:nvPr/>
        </p:nvPicPr>
        <p:blipFill>
          <a:blip r:embed="rId1"/>
          <a:stretch/>
        </p:blipFill>
        <p:spPr>
          <a:xfrm>
            <a:off x="1428840" y="1173240"/>
            <a:ext cx="64832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0"/>
          <p:cNvSpPr/>
          <p:nvPr/>
        </p:nvSpPr>
        <p:spPr>
          <a:xfrm>
            <a:off x="614520" y="121428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ипичные замечания 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831960" y="186372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зднее поступление федерального программного обеспечения и спецификации  РБ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4"/>
          <p:cNvSpPr/>
          <p:nvPr/>
        </p:nvSpPr>
        <p:spPr>
          <a:xfrm>
            <a:off x="1471680" y="1627200"/>
            <a:ext cx="6143400" cy="144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614520" y="372096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шения, реализуемые с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31960" y="429264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едоставление программного обеспечения для сбора РБД не позднее 10 ноября 2008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85840" y="2743200"/>
            <a:ext cx="85723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работаны инструкции для всех категорий специалистов, обеспечивающих проведение иностранных языков в П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работан полный сборник форм для проведения ЕГЭ по иностранным язы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0" y="1357200"/>
            <a:ext cx="9144000" cy="703800"/>
          </a:xfrm>
          <a:prstGeom prst="rect">
            <a:avLst/>
          </a:prstGeom>
          <a:solidFill>
            <a:srgbClr val="fdf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Инструкция по организации и проведению ЕГ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по иностранным язы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Заголовок 1"/>
          <p:cNvSpPr/>
          <p:nvPr/>
        </p:nvSpPr>
        <p:spPr>
          <a:xfrm>
            <a:off x="0" y="1878120"/>
            <a:ext cx="9144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собенности проведения ЕГЭ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0" y="1214280"/>
            <a:ext cx="9144000" cy="703800"/>
          </a:xfrm>
          <a:prstGeom prst="rect">
            <a:avLst/>
          </a:prstGeom>
          <a:solidFill>
            <a:srgbClr val="fdf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Инструкция по организации и проведению ЕГЭ</a:t>
            </a: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по иностранным язы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-142920" y="3357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. Раздел «Говор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C:\Documents and Settings\inna\Мои документы\Ирка\10.0.2.png"/>
          <p:cNvPicPr/>
          <p:nvPr/>
        </p:nvPicPr>
        <p:blipFill>
          <a:blip r:embed="rId1"/>
          <a:stretch/>
        </p:blipFill>
        <p:spPr>
          <a:xfrm>
            <a:off x="642960" y="3929040"/>
            <a:ext cx="763416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0" y="24289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. Раздел «Аудиров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спроизведение аудиозаписи: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D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ли аудиокасс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285840" y="2357280"/>
            <a:ext cx="8572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дополнение к инструктивным материалам разработ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ребования к РЦ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ребования к ПП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ребования к П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0" y="1357200"/>
            <a:ext cx="9144000" cy="3988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1ae8"/>
                </a:solidFill>
                <a:latin typeface="Arial"/>
              </a:rPr>
              <a:t>Требования к РЦОИ\ППОИ\П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0"/>
          <p:cNvSpPr/>
          <p:nvPr/>
        </p:nvSpPr>
        <p:spPr>
          <a:xfrm>
            <a:off x="0" y="1214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Организационный регламент взаимодействия с субъектами РФ на этапе подготовки проведения ЕГ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57160" y="2165400"/>
            <a:ext cx="774072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бор предложений по проектам инструктивных материал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 22 декабря 20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несение изменений и предоставление утвержденных инструктивных материал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нварь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бор РБД в установленные сроки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(Письмо УКиОКО Рособрнадзора 08-1155/12 от 22.10.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бучение специалистов РЦОИ (по отдельному графику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рт 2009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4"/>
          <p:cNvSpPr/>
          <p:nvPr/>
        </p:nvSpPr>
        <p:spPr>
          <a:xfrm>
            <a:off x="1571760" y="1998720"/>
            <a:ext cx="6143400" cy="144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28760" y="2165400"/>
            <a:ext cx="79293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формление и сбор официальных заявок на обеспечение экзаменационными материа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ля проведения ЕГЭ в досрочный период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 15.03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ля проведения ЕГЭ в 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 15.03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ля участников ЕГЭ с ограниченными возможност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 15.03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ля участников ЕГЭ в основные сроки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 30.03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4"/>
          <p:cNvSpPr/>
          <p:nvPr/>
        </p:nvSpPr>
        <p:spPr>
          <a:xfrm>
            <a:off x="1571760" y="2000160"/>
            <a:ext cx="6143400" cy="180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0" y="1214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Организационный регламент взаимодействия с субъектами РФ на этапе подготовки проведения ЕГ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1700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тел.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 +7 49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5 36360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факс. +7 495 27060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E-mail: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st@rustest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www.RUSTEST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857160" y="216540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стандартизированные процедуры проведения ЕГЭ, структурные компоненты, кадровые ресур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57160" y="428616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работка требований к ППОИ, РЦОИ, ППЭ - начальная стадия работ по стандартизации процедур ЕГ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14520" y="372096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шения, реализуемые с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14520" y="121428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ипичные замечания 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857160" y="1928880"/>
            <a:ext cx="77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тсутствует система контроля за результатами автоматизированной рассадки участников ЕГЭ по аудитор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57160" y="3929040"/>
            <a:ext cx="7740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ведение в 2009 году автоматизированного отслеживания распределения участников ЕГЭ по аудитор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ве схемы автоматизированного распределения участников ЕГЭ по аудитор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44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РЦ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4400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П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 усмотрение ОУО субъекта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14520" y="328608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шения, реализуемые с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14520" y="121428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ипичные замечания 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857160" y="179244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Большое количество перепечаток свидетель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тсутствие информирования о появлении на сайте ФЦТ новых 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адержки в процессе обработки коррекций и апелля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31960" y="5686560"/>
            <a:ext cx="77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ведение единой распределенной БД (ЕРБД) и новых модулей администрирования ЕРБ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14520" y="507204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шения, реализуемые с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14520" y="121428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ипичные замечания 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57160" y="2281320"/>
            <a:ext cx="77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азработка специализированного программного обеспечения для сканирования материалов ЕГЭ в ТОМ, автоматизация ввода номеров ИК для печати КИМ в 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57160" y="4714920"/>
            <a:ext cx="77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работано специализированное программное обеспечение для сканирования материалов ЕГЭ в 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едусмотрена возможность автоматизированого ввода номеров ИК при печати КИМ в ТОМ с использованием  сканеров штрихк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14520" y="372096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шения, реализуемые с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614520" y="121428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ипичные замечания 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857160" y="2281320"/>
            <a:ext cx="7740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тсутствие возможности прохождения досрочной государственной (итоговой) аттестации в форме ЕГ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ложении о проведении ЕГЭ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предусмотрены досрочные сроки проведения ЕГЭ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Данная возможность предусмотрена в проекте расписания ЕГЭ на 2009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14520" y="372096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шения, реализуемые с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4520" y="121428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ипичные замечания 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857160" y="2165400"/>
            <a:ext cx="7740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зднее поступление инструктивных материалов в субъекты Р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азработка, утверждение и согласование нового пакета инструктивных материалов и предоставление в субъекты РФ в срок не позднее января 2009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14520" y="372096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шения, реализуемые с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14520" y="1214280"/>
            <a:ext cx="8100720" cy="3988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ипичные замечания 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8:52Z</dcterms:created>
  <dc:creator>inna</dc:creator>
  <dc:description/>
  <dc:language>en-US</dc:language>
  <cp:lastModifiedBy>inna</cp:lastModifiedBy>
  <dcterms:modified xsi:type="dcterms:W3CDTF">2008-12-10T18:04:11Z</dcterms:modified>
  <cp:revision>597</cp:revision>
  <dc:subject/>
  <dc:title>Слайд 1</dc:title>
</cp:coreProperties>
</file>