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816B-6076-4EF7-959E-D2BB3D61D1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18F1-F330-4202-99A4-DF71408CE1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shov@fipi.org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ershov@fipi.org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569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ещание по вопросу нормативного правового и организационного обеспечения деятельности органов исполнительной власти субъектов  Российской Федерации, осуществляющих управление в сфере образования,  в связи с введением  в действие положений федеральных законов от 09.02.2007 № 17-ФЗ и от 22.12.2006 № 258-Ф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обенности контрольных измерительных материалов ЕГЭ в 2009 году и подготовки членов предметных комиссий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5720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шов Андрей Геннад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Г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/фак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7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5-18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shov@fip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fip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74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ПИ как организатор открытого обсуждения экзаменационных моделей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ЕГЭ 2009 го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40800" cy="5140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571680" indent="-19080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конференция «Августовский педсовет ФИПИ» (25-29 августа 2008 г.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ериод ее проведения около 200 участников более чем из 90 населенных пунктов 23 субъектов РФ задали 393 вопроса, ответы давали представители Рособрнадзора, руководство ФИПИ, члены Ф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9080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-семинар «Разработка контрольных измерительных материалов для ЕГЭ» (с 29 сентября по 2 октября 2008 г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инар проводился с цел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ботки рекомендаций по совершенствованию КИМ, а также заключению контрактов со специалистами, чьи задания могли бы пополнить Федеральный банк тестовых материалов ЕГЭ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9080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а методическими центрами 8 округов г. Москвы проектов кодификаторов, спецификаций и демоверсий ЕГЭ 2009 год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лучено  167  замечаний, из них  принято 53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9080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замечаний и предложений субъектов РФ, участвующих в ЕГЭ 200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 indent="-19080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обсуждения двух альтернативных моделей ЕГЭ по математике 2009 года, подготовленных ФИПИ и МИОО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учены отзывы от 200 участников обсуждения из  35 регионов РФ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70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ний, поступивших в ходе  Интернет-семинара 2008 г. из 22 регион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28640"/>
          <a:ext cx="8002440" cy="450864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заявка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 зад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 Я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Изменения в КИМ ЕГЭ 2009 года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Отличия кодификаторов ЕГЭ 2009-2006 гг.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484280"/>
          <a:ext cx="8321760" cy="4880160"/>
        </p:xfrm>
        <a:graphic>
          <a:graphicData uri="http://schemas.openxmlformats.org/drawingml/2006/table">
            <a:tbl>
              <a:tblPr/>
              <a:tblGrid>
                <a:gridCol w="1297080"/>
                <a:gridCol w="1962000"/>
                <a:gridCol w="2529000"/>
                <a:gridCol w="25336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я 2009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08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я 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я 2007 г. от 200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.яз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3 поз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около 100 поз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о 2 раз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16 поз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ие 3-х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32 поз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ализ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около 100 пози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 разде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28 поз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о 2 раз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очнены 20 поз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 я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менения в КИМ ЕГЭ 2009 год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заданий и максимальный первичный балл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скобках указаны данные КИМ  ЕГЭ 2008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085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1700280"/>
            <a:ext cx="8686440" cy="4753080"/>
            <a:chOff x="457200" y="1700280"/>
            <a:chExt cx="8686440" cy="4753080"/>
          </a:xfrm>
        </p:grpSpPr>
        <p:grpSp>
          <p:nvGrpSpPr>
            <p:cNvPr id="97" name=""/>
            <p:cNvGrpSpPr/>
            <p:nvPr/>
          </p:nvGrpSpPr>
          <p:grpSpPr>
            <a:xfrm>
              <a:off x="462600" y="1702080"/>
              <a:ext cx="8673840" cy="4748760"/>
              <a:chOff x="462600" y="1702080"/>
              <a:chExt cx="8673840" cy="47487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462600" y="1702080"/>
                <a:ext cx="2320920" cy="460800"/>
                <a:chOff x="462600" y="1702080"/>
                <a:chExt cx="2320920" cy="460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43240" y="1702080"/>
                  <a:ext cx="2160000" cy="46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Предмет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62600" y="1702080"/>
                  <a:ext cx="2320920" cy="46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783880" y="1702080"/>
                <a:ext cx="1105920" cy="460800"/>
                <a:chOff x="2783880" y="1702080"/>
                <a:chExt cx="1105920" cy="4608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864520" y="1702080"/>
                  <a:ext cx="944640" cy="46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Всег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задани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783880" y="1702080"/>
                  <a:ext cx="1105920" cy="46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890520" y="1702080"/>
                <a:ext cx="3318480" cy="252000"/>
                <a:chOff x="3890520" y="1702080"/>
                <a:chExt cx="3318480" cy="252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971160" y="1702080"/>
                  <a:ext cx="315756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Заданий  в тесте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90520" y="1702080"/>
                  <a:ext cx="331848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209720" y="1702080"/>
                <a:ext cx="1645920" cy="460800"/>
                <a:chOff x="7209720" y="1702080"/>
                <a:chExt cx="1645920" cy="4608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290360" y="1702080"/>
                  <a:ext cx="1484640" cy="46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Максимальны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первичный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балл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09720" y="1702080"/>
                  <a:ext cx="1645920" cy="46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8856000" y="1702080"/>
                <a:ext cx="280440" cy="252000"/>
                <a:chOff x="8856000" y="1702080"/>
                <a:chExt cx="280440" cy="2520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856000" y="1702080"/>
                  <a:ext cx="28044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856000" y="1702080"/>
                  <a:ext cx="280440" cy="25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890520" y="1954080"/>
                <a:ext cx="1105920" cy="208800"/>
                <a:chOff x="3890520" y="1954080"/>
                <a:chExt cx="1105920" cy="208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971160" y="1954080"/>
                  <a:ext cx="94464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90520" y="1954080"/>
                  <a:ext cx="1105920" cy="20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996800" y="1954080"/>
                <a:ext cx="1105560" cy="208800"/>
                <a:chOff x="4996800" y="1954080"/>
                <a:chExt cx="1105560" cy="208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077080" y="1954080"/>
                  <a:ext cx="9450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-684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96800" y="1954080"/>
                  <a:ext cx="1105560" cy="20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103080" y="1954080"/>
                <a:ext cx="1105920" cy="208800"/>
                <a:chOff x="6103080" y="1954080"/>
                <a:chExt cx="1105920" cy="2088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183720" y="1954080"/>
                  <a:ext cx="9450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-684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03080" y="1954080"/>
                  <a:ext cx="1105920" cy="20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8856000" y="1954080"/>
                <a:ext cx="280440" cy="135360"/>
                <a:chOff x="8856000" y="1954080"/>
                <a:chExt cx="280440" cy="135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8856000" y="1954080"/>
                  <a:ext cx="280440" cy="13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856000" y="1954080"/>
                  <a:ext cx="280440" cy="13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856000" y="2089440"/>
                <a:ext cx="280440" cy="73440"/>
                <a:chOff x="8856000" y="2089440"/>
                <a:chExt cx="280440" cy="73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856000" y="2089440"/>
                  <a:ext cx="280440" cy="7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856000" y="2089440"/>
                  <a:ext cx="280440" cy="7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2600" y="2162880"/>
                <a:ext cx="2320920" cy="363960"/>
                <a:chOff x="462600" y="2162880"/>
                <a:chExt cx="2320920" cy="3639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43240" y="2162880"/>
                  <a:ext cx="2160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Математик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2600" y="2162880"/>
                  <a:ext cx="2320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783880" y="2162880"/>
                <a:ext cx="1105920" cy="363960"/>
                <a:chOff x="2783880" y="2162880"/>
                <a:chExt cx="1105920" cy="363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64520" y="216288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783880" y="216288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890520" y="2162880"/>
                <a:ext cx="1105920" cy="363960"/>
                <a:chOff x="3890520" y="2162880"/>
                <a:chExt cx="1105920" cy="363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971160" y="216288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90520" y="216288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996800" y="2162880"/>
                <a:ext cx="1105560" cy="363960"/>
                <a:chOff x="4996800" y="2162880"/>
                <a:chExt cx="1105560" cy="3639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077080" y="216288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996800" y="2162880"/>
                  <a:ext cx="110556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103080" y="2162880"/>
                <a:ext cx="1105920" cy="363960"/>
                <a:chOff x="6103080" y="2162880"/>
                <a:chExt cx="1105920" cy="363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83720" y="216288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03080" y="216288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209720" y="2162880"/>
                <a:ext cx="1645920" cy="363960"/>
                <a:chOff x="7209720" y="2162880"/>
                <a:chExt cx="1645920" cy="3639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290360" y="2162880"/>
                  <a:ext cx="148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209720" y="2162880"/>
                  <a:ext cx="164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8856000" y="2162880"/>
                <a:ext cx="280440" cy="363960"/>
                <a:chOff x="8856000" y="2162880"/>
                <a:chExt cx="280440" cy="363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8856000" y="2162880"/>
                  <a:ext cx="280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856000" y="2162880"/>
                  <a:ext cx="28044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62600" y="2527200"/>
                <a:ext cx="2320920" cy="392040"/>
                <a:chOff x="462600" y="2527200"/>
                <a:chExt cx="2320920" cy="39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43240" y="2527200"/>
                  <a:ext cx="216000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Русский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язык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62600" y="2527200"/>
                  <a:ext cx="23209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783880" y="2527200"/>
                <a:ext cx="1105920" cy="392040"/>
                <a:chOff x="2783880" y="2527200"/>
                <a:chExt cx="1105920" cy="3920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864520" y="2527200"/>
                  <a:ext cx="94464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9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83880" y="2527200"/>
                  <a:ext cx="11059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890520" y="2527200"/>
                <a:ext cx="1105920" cy="392040"/>
                <a:chOff x="3890520" y="2527200"/>
                <a:chExt cx="1105920" cy="392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971160" y="2527200"/>
                  <a:ext cx="94464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31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90520" y="2527200"/>
                  <a:ext cx="11059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996800" y="2527200"/>
                <a:ext cx="1105560" cy="392040"/>
                <a:chOff x="4996800" y="2527200"/>
                <a:chExt cx="1105560" cy="3920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077080" y="2527200"/>
                  <a:ext cx="94500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96800" y="2527200"/>
                  <a:ext cx="110556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103080" y="2527200"/>
                <a:ext cx="1105920" cy="392040"/>
                <a:chOff x="6103080" y="2527200"/>
                <a:chExt cx="1105920" cy="392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83720" y="2527200"/>
                  <a:ext cx="94500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103080" y="2527200"/>
                  <a:ext cx="11059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209720" y="2527200"/>
                <a:ext cx="1645920" cy="392040"/>
                <a:chOff x="7209720" y="2527200"/>
                <a:chExt cx="1645920" cy="3920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290360" y="2527200"/>
                  <a:ext cx="148464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209720" y="2527200"/>
                  <a:ext cx="16459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8856000" y="2527200"/>
                <a:ext cx="280440" cy="392040"/>
                <a:chOff x="8856000" y="2527200"/>
                <a:chExt cx="280440" cy="392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856000" y="2527200"/>
                  <a:ext cx="28044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856000" y="2527200"/>
                  <a:ext cx="28044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62600" y="2919600"/>
                <a:ext cx="2320920" cy="392400"/>
                <a:chOff x="462600" y="2919600"/>
                <a:chExt cx="2320920" cy="392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43240" y="2919600"/>
                  <a:ext cx="2160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Физик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2600" y="2919600"/>
                  <a:ext cx="2320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783880" y="2919600"/>
                <a:ext cx="1105920" cy="392400"/>
                <a:chOff x="2783880" y="2919600"/>
                <a:chExt cx="1105920" cy="392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864520" y="291960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3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783880" y="29196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890520" y="2919600"/>
                <a:ext cx="1105920" cy="392400"/>
                <a:chOff x="3890520" y="2919600"/>
                <a:chExt cx="1105920" cy="392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971160" y="291960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890520" y="29196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996800" y="2919600"/>
                <a:ext cx="1105560" cy="392400"/>
                <a:chOff x="4996800" y="2919600"/>
                <a:chExt cx="1105560" cy="3924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077080" y="291960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996800" y="2919600"/>
                  <a:ext cx="110556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103080" y="2919600"/>
                <a:ext cx="1105920" cy="392400"/>
                <a:chOff x="6103080" y="2919600"/>
                <a:chExt cx="1105920" cy="392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183720" y="291960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103080" y="29196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209720" y="2919600"/>
                <a:ext cx="1645920" cy="392400"/>
                <a:chOff x="7209720" y="2919600"/>
                <a:chExt cx="1645920" cy="3924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290360" y="2919600"/>
                  <a:ext cx="148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209720" y="2919600"/>
                  <a:ext cx="164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8856000" y="2919600"/>
                <a:ext cx="280440" cy="392400"/>
                <a:chOff x="8856000" y="2919600"/>
                <a:chExt cx="280440" cy="392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8856000" y="2919600"/>
                  <a:ext cx="280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856000" y="2919600"/>
                  <a:ext cx="280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62600" y="3312000"/>
                <a:ext cx="2320920" cy="392400"/>
                <a:chOff x="462600" y="3312000"/>
                <a:chExt cx="2320920" cy="3924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43240" y="3312000"/>
                  <a:ext cx="2160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Химия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2600" y="3312000"/>
                  <a:ext cx="2320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83880" y="3312000"/>
                <a:ext cx="1105920" cy="392400"/>
                <a:chOff x="2783880" y="3312000"/>
                <a:chExt cx="1105920" cy="3924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864520" y="331200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83880" y="33120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890520" y="3312000"/>
                <a:ext cx="1105920" cy="392400"/>
                <a:chOff x="3890520" y="3312000"/>
                <a:chExt cx="1105920" cy="3924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971160" y="331200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890520" y="33120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996800" y="3312000"/>
                <a:ext cx="1105560" cy="392400"/>
                <a:chOff x="4996800" y="3312000"/>
                <a:chExt cx="1105560" cy="3924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077080" y="331200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996800" y="3312000"/>
                  <a:ext cx="110556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103080" y="3312000"/>
                <a:ext cx="1105920" cy="392400"/>
                <a:chOff x="6103080" y="3312000"/>
                <a:chExt cx="1105920" cy="3924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183720" y="331200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103080" y="33120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209720" y="3312000"/>
                <a:ext cx="1645920" cy="392400"/>
                <a:chOff x="7209720" y="3312000"/>
                <a:chExt cx="1645920" cy="392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290360" y="3312000"/>
                  <a:ext cx="148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67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209720" y="3312000"/>
                  <a:ext cx="164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8856000" y="3312000"/>
                <a:ext cx="280440" cy="392400"/>
                <a:chOff x="8856000" y="3312000"/>
                <a:chExt cx="280440" cy="3924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8856000" y="3312000"/>
                  <a:ext cx="280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856000" y="3312000"/>
                  <a:ext cx="280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2600" y="3704760"/>
                <a:ext cx="2320920" cy="363960"/>
                <a:chOff x="462600" y="3704760"/>
                <a:chExt cx="2320920" cy="363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43240" y="3704760"/>
                  <a:ext cx="2160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Биология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62600" y="3704760"/>
                  <a:ext cx="2320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783880" y="3704760"/>
                <a:ext cx="1105920" cy="363960"/>
                <a:chOff x="2783880" y="3704760"/>
                <a:chExt cx="1105920" cy="363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864520" y="370476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783880" y="370476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890520" y="3704760"/>
                <a:ext cx="1105920" cy="363960"/>
                <a:chOff x="3890520" y="3704760"/>
                <a:chExt cx="1105920" cy="363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971160" y="370476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90520" y="370476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996800" y="3704760"/>
                <a:ext cx="1105560" cy="363960"/>
                <a:chOff x="4996800" y="3704760"/>
                <a:chExt cx="1105560" cy="363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077080" y="370476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96800" y="3704760"/>
                  <a:ext cx="110556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103080" y="3704760"/>
                <a:ext cx="1105920" cy="363960"/>
                <a:chOff x="6103080" y="3704760"/>
                <a:chExt cx="1105920" cy="363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183720" y="370476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03080" y="370476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209720" y="3704760"/>
                <a:ext cx="1645920" cy="363960"/>
                <a:chOff x="7209720" y="3704760"/>
                <a:chExt cx="1645920" cy="363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290360" y="3704760"/>
                  <a:ext cx="148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9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09720" y="3704760"/>
                  <a:ext cx="164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8856000" y="3704760"/>
                <a:ext cx="280440" cy="363960"/>
                <a:chOff x="8856000" y="3704760"/>
                <a:chExt cx="280440" cy="363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8856000" y="3704760"/>
                  <a:ext cx="280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856000" y="3704760"/>
                  <a:ext cx="28044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62600" y="4068720"/>
                <a:ext cx="2320920" cy="392400"/>
                <a:chOff x="462600" y="4068720"/>
                <a:chExt cx="2320920" cy="392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43240" y="4068720"/>
                  <a:ext cx="2160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География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2600" y="4068720"/>
                  <a:ext cx="2320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783880" y="4068720"/>
                <a:ext cx="1105920" cy="392400"/>
                <a:chOff x="2783880" y="4068720"/>
                <a:chExt cx="1105920" cy="392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864520" y="406872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83880" y="406872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890520" y="4068720"/>
                <a:ext cx="1105920" cy="392400"/>
                <a:chOff x="3890520" y="4068720"/>
                <a:chExt cx="1105920" cy="392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971160" y="406872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90520" y="406872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996800" y="4068720"/>
                <a:ext cx="1105560" cy="392400"/>
                <a:chOff x="4996800" y="4068720"/>
                <a:chExt cx="1105560" cy="392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077080" y="406872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96800" y="4068720"/>
                  <a:ext cx="110556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103080" y="4068720"/>
                <a:ext cx="1105920" cy="392400"/>
                <a:chOff x="6103080" y="4068720"/>
                <a:chExt cx="1105920" cy="392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183720" y="406872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03080" y="406872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209720" y="4068720"/>
                <a:ext cx="1645920" cy="392400"/>
                <a:chOff x="7209720" y="4068720"/>
                <a:chExt cx="1645920" cy="392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290360" y="4068720"/>
                  <a:ext cx="148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09720" y="4068720"/>
                  <a:ext cx="164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8856000" y="4068720"/>
                <a:ext cx="280440" cy="392400"/>
                <a:chOff x="8856000" y="4068720"/>
                <a:chExt cx="280440" cy="392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8856000" y="4068720"/>
                  <a:ext cx="280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856000" y="4068720"/>
                  <a:ext cx="280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62600" y="4461480"/>
                <a:ext cx="2320920" cy="363960"/>
                <a:chOff x="462600" y="4461480"/>
                <a:chExt cx="2320920" cy="363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43240" y="4461480"/>
                  <a:ext cx="2160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Обществознание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2600" y="4461480"/>
                  <a:ext cx="2320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783880" y="4461480"/>
                <a:ext cx="1105920" cy="363960"/>
                <a:chOff x="2783880" y="4461480"/>
                <a:chExt cx="1105920" cy="363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864520" y="446148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783880" y="446148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890520" y="4461480"/>
                <a:ext cx="1105920" cy="363960"/>
                <a:chOff x="3890520" y="4461480"/>
                <a:chExt cx="1105920" cy="363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71160" y="446148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90520" y="446148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996800" y="4461480"/>
                <a:ext cx="1105560" cy="363960"/>
                <a:chOff x="4996800" y="4461480"/>
                <a:chExt cx="1105560" cy="363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077080" y="446148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996800" y="4461480"/>
                  <a:ext cx="110556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103080" y="4461480"/>
                <a:ext cx="1105920" cy="363960"/>
                <a:chOff x="6103080" y="4461480"/>
                <a:chExt cx="1105920" cy="363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183720" y="446148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03080" y="446148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209720" y="4461480"/>
                <a:ext cx="1645920" cy="363960"/>
                <a:chOff x="7209720" y="4461480"/>
                <a:chExt cx="1645920" cy="363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290360" y="4461480"/>
                  <a:ext cx="148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209720" y="4461480"/>
                  <a:ext cx="164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56000" y="4461480"/>
                <a:ext cx="280440" cy="363960"/>
                <a:chOff x="8856000" y="4461480"/>
                <a:chExt cx="280440" cy="363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8856000" y="4461480"/>
                  <a:ext cx="280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856000" y="4461480"/>
                  <a:ext cx="28044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62600" y="4825440"/>
                <a:ext cx="2320920" cy="363960"/>
                <a:chOff x="462600" y="4825440"/>
                <a:chExt cx="2320920" cy="363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3240" y="4825440"/>
                  <a:ext cx="2160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История России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62600" y="4825440"/>
                  <a:ext cx="2320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783880" y="4825440"/>
                <a:ext cx="1105920" cy="363960"/>
                <a:chOff x="2783880" y="4825440"/>
                <a:chExt cx="1105920" cy="363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864520" y="482544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783880" y="482544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890520" y="4825440"/>
                <a:ext cx="1105920" cy="363960"/>
                <a:chOff x="3890520" y="4825440"/>
                <a:chExt cx="1105920" cy="363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971160" y="4825440"/>
                  <a:ext cx="94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90520" y="482544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996800" y="4825440"/>
                <a:ext cx="1105560" cy="363960"/>
                <a:chOff x="4996800" y="4825440"/>
                <a:chExt cx="1105560" cy="363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077080" y="482544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96800" y="4825440"/>
                  <a:ext cx="110556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103080" y="4825440"/>
                <a:ext cx="1105920" cy="363960"/>
                <a:chOff x="6103080" y="4825440"/>
                <a:chExt cx="1105920" cy="363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183720" y="4825440"/>
                  <a:ext cx="9450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103080" y="4825440"/>
                  <a:ext cx="110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209720" y="4825440"/>
                <a:ext cx="1645920" cy="363960"/>
                <a:chOff x="7209720" y="4825440"/>
                <a:chExt cx="1645920" cy="363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290360" y="4825440"/>
                  <a:ext cx="14846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6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209720" y="4825440"/>
                  <a:ext cx="164592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8856000" y="4825440"/>
                <a:ext cx="280440" cy="363960"/>
                <a:chOff x="8856000" y="4825440"/>
                <a:chExt cx="280440" cy="363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8856000" y="4825440"/>
                  <a:ext cx="2804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856000" y="4825440"/>
                  <a:ext cx="280440" cy="363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2600" y="5189400"/>
                <a:ext cx="2320920" cy="392400"/>
                <a:chOff x="462600" y="5189400"/>
                <a:chExt cx="2320920" cy="3924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3240" y="5189400"/>
                  <a:ext cx="2160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Литератур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2600" y="5189400"/>
                  <a:ext cx="2320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783880" y="5189400"/>
                <a:ext cx="1105920" cy="392400"/>
                <a:chOff x="2783880" y="5189400"/>
                <a:chExt cx="1105920" cy="3924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864520" y="518940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1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17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783880" y="51894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890520" y="5189400"/>
                <a:ext cx="1105920" cy="392400"/>
                <a:chOff x="3890520" y="5189400"/>
                <a:chExt cx="1105920" cy="3924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71160" y="518940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90520" y="51894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996800" y="5189400"/>
                <a:ext cx="1105560" cy="392400"/>
                <a:chOff x="4996800" y="5189400"/>
                <a:chExt cx="1105560" cy="3924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077080" y="518940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996800" y="5189400"/>
                  <a:ext cx="110556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103080" y="5189400"/>
                <a:ext cx="1105920" cy="392400"/>
                <a:chOff x="6103080" y="5189400"/>
                <a:chExt cx="1105920" cy="3924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183720" y="518940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03080" y="518940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209720" y="5189400"/>
                <a:ext cx="1645920" cy="392400"/>
                <a:chOff x="7209720" y="5189400"/>
                <a:chExt cx="1645920" cy="3924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290360" y="5189400"/>
                  <a:ext cx="148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45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39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209720" y="5189400"/>
                  <a:ext cx="164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8856000" y="5189400"/>
                <a:ext cx="280440" cy="392400"/>
                <a:chOff x="8856000" y="5189400"/>
                <a:chExt cx="280440" cy="3924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8856000" y="5189400"/>
                  <a:ext cx="280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856000" y="5189400"/>
                  <a:ext cx="280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2600" y="5582160"/>
                <a:ext cx="2320920" cy="392400"/>
                <a:chOff x="462600" y="5582160"/>
                <a:chExt cx="2320920" cy="3924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43240" y="5582160"/>
                  <a:ext cx="2160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Информатика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2600" y="5582160"/>
                  <a:ext cx="2320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783880" y="5582160"/>
                <a:ext cx="1105920" cy="392400"/>
                <a:chOff x="2783880" y="5582160"/>
                <a:chExt cx="1105920" cy="3924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864520" y="558216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783880" y="558216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890520" y="5582160"/>
                <a:ext cx="1105920" cy="392400"/>
                <a:chOff x="3890520" y="5582160"/>
                <a:chExt cx="1105920" cy="3924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971160" y="5582160"/>
                  <a:ext cx="94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1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890520" y="558216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996800" y="5582160"/>
                <a:ext cx="1105560" cy="392400"/>
                <a:chOff x="4996800" y="5582160"/>
                <a:chExt cx="1105560" cy="392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77080" y="558216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9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996800" y="5582160"/>
                  <a:ext cx="110556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103080" y="5582160"/>
                <a:ext cx="1105920" cy="392400"/>
                <a:chOff x="6103080" y="5582160"/>
                <a:chExt cx="1105920" cy="392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183720" y="5582160"/>
                  <a:ext cx="9450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103080" y="5582160"/>
                  <a:ext cx="110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209720" y="5582160"/>
                <a:ext cx="1645920" cy="392400"/>
                <a:chOff x="7209720" y="5582160"/>
                <a:chExt cx="1645920" cy="3924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90360" y="5582160"/>
                  <a:ext cx="14846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09720" y="5582160"/>
                  <a:ext cx="16459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8856000" y="5582160"/>
                <a:ext cx="280440" cy="392400"/>
                <a:chOff x="8856000" y="5582160"/>
                <a:chExt cx="280440" cy="392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856000" y="5582160"/>
                  <a:ext cx="280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856000" y="5582160"/>
                  <a:ext cx="280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62600" y="5974560"/>
                <a:ext cx="2320920" cy="476280"/>
                <a:chOff x="462600" y="5974560"/>
                <a:chExt cx="2320920" cy="476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3240" y="5974560"/>
                  <a:ext cx="216000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Язык иностранный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2600" y="5974560"/>
                  <a:ext cx="232092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783880" y="5974560"/>
                <a:ext cx="1105920" cy="476280"/>
                <a:chOff x="2783880" y="5974560"/>
                <a:chExt cx="1105920" cy="4762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864520" y="5974560"/>
                  <a:ext cx="94464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783880" y="5974560"/>
                  <a:ext cx="110592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890520" y="5974560"/>
                <a:ext cx="1105920" cy="476280"/>
                <a:chOff x="3890520" y="5974560"/>
                <a:chExt cx="1105920" cy="4762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971160" y="5974560"/>
                  <a:ext cx="94464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90520" y="5974560"/>
                  <a:ext cx="110592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996800" y="5974560"/>
                <a:ext cx="1105560" cy="476280"/>
                <a:chOff x="4996800" y="5974560"/>
                <a:chExt cx="1105560" cy="4762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077080" y="5974560"/>
                  <a:ext cx="94500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96800" y="5974560"/>
                  <a:ext cx="110556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103080" y="5974560"/>
                <a:ext cx="1105920" cy="476280"/>
                <a:chOff x="6103080" y="5974560"/>
                <a:chExt cx="1105920" cy="4762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183720" y="5974560"/>
                  <a:ext cx="94500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103080" y="5974560"/>
                  <a:ext cx="110592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209720" y="5974560"/>
                <a:ext cx="1645920" cy="476280"/>
                <a:chOff x="7209720" y="5974560"/>
                <a:chExt cx="1645920" cy="4762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290360" y="5974560"/>
                  <a:ext cx="148464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09720" y="5974560"/>
                  <a:ext cx="164592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8856000" y="5974560"/>
                <a:ext cx="280440" cy="476280"/>
                <a:chOff x="8856000" y="5974560"/>
                <a:chExt cx="280440" cy="476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8856000" y="5974560"/>
                  <a:ext cx="280440" cy="4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856000" y="5974560"/>
                  <a:ext cx="280440" cy="47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" name=""/>
            <p:cNvSpPr/>
            <p:nvPr/>
          </p:nvSpPr>
          <p:spPr>
            <a:xfrm>
              <a:off x="457200" y="1700280"/>
              <a:ext cx="8686440" cy="4753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личия спецификаций и демоверсий   КИМ ЕГЭ 2009 в сравнении с 2008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95280" y="1413000"/>
          <a:ext cx="8569440" cy="5163480"/>
        </p:xfrm>
        <a:graphic>
          <a:graphicData uri="http://schemas.openxmlformats.org/drawingml/2006/table">
            <a:tbl>
              <a:tblPr/>
              <a:tblGrid>
                <a:gridCol w="815400"/>
                <a:gridCol w="7538400"/>
                <a:gridCol w="21600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ы задания А1 и А13 КИМ 2008 г. и добавлено новое задание А27 . Критерий К4 измен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ы изменения в связи с изменением нормативной базы (ЕГЭ проводится по математике, а не по курсу «Алгебра и начала анализа»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заданий снижено до 36.   В части 1 стало 25 заданий вместо 30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астях 2 (тип В) и 3 (тип С) добавлено по одному зада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задания С5 максимальный балл стал 2 вместо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овершенствованы задания  с рисунком, увеличено их число. Выделены две содержательные линии по заданиям С4 и С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части 2  одном из заданий оценивается в 2 балла вместо 1 балла. Немного изменены содержательные аспекты проверяемого учебного содерж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 период времени для задания А31, что позволит использовать тексты современной истории. Изменена система оценивания задания С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 уровень сложности заданий В2, В3, и С1 с повышенного на ба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заданий с развернутым ответом сокращено с 7 до 5, уточнены критерии оцени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ие уточнения в спецификации экзаменационной раб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задания (А2 и А6)  КИМ 2008 года преобразованы в задания с кратким отв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508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туальные документы и материалы, подготовленные ФИ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алитический отчет «Результаты единого государственного экзамена (май-июнь 2008 года)» (размещен на сайте ФИП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твержденные документы, регламентирующие разработку КИМ ЕГЭ в 2009 г (кодификаторы элементов содержания, спецификации, демонстрационные  варианты КИМ по 13 общеобразовательным предметам) (размещены на сайте ФИП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ические письма «Об использовании результатов единого государственного экзамена 2008 года в преподавании общеобразовательных предметов в образовательных учреждениях  среднего (полного) общего образования» (будут размещены на сайте ФИПИ  20 декабря  2008 го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тый сегмент Федерального банка тестовых материалов, пополненный открытыми вариантами КИМ ЕГЭ 2007 и 2008 годов (размещен на сайте ФИП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бно-методические материалы для членов и председателей региональных предметных комиссий по проверке заданий с развернутым ответом экзаменационных работ ЕГЭ 2009 г., программа подготовки указанных специалистов  (будут размещены на сайте ФИПИ в январе-феврале 2009 г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бно-методические пособия, подготовленные авторскими коллективами ФИПИ (типичные ошибки при выполнении заданий,  тренировочные варианты КИМ,  задания с развернутыми ответами и их решения и др.) (Постоянно пополняемый Перечень  размещается на сайте ФИП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менения в работе ФИПИ  при переходе  ЕГЭ в штатны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002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ереходом ЕГЭ в штатный режим не снимается задача совершенствования КИМ. Наиболее перспективным направлениями являю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3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новых типов научно обоснованных заданий,  разработка практико-ориентированных заданий и постепенное введение их в экзаменационную работу ЕГЭ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3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системы оценивания, уточнение критериев оценивания заданий с развернутыми отве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3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а ЕГЭ на базовом и профильном уровне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собрнадзором приняты решения, необходимые для начала работ по созданию на альтернативной основе перспективных кодификаторов, спецификаций и демоверсий   на 2010 год . В  группу разработчиков войдут ведущие ученые  РАН и РАО, преподаватели вузов и шк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уется проведение конкурсов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3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перспективных кодификаторов элементов содержания, спецификаций и демонстрационных вариантов  КИМ ЕГЭ по 14 общеобразовательным предмет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3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перспективных моделей тестовых заданий ЕГЭ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3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дение  апробации перспективных моделей  тестовых заданий и КИМ для ЕГ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129528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Вопросы и коммент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3573360"/>
            <a:ext cx="68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шов Андрей Геннади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Г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/фак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7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5-18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rshov@fip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fipi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Зинина</cp:lastModifiedBy>
  <dcterms:modified xsi:type="dcterms:W3CDTF">2008-12-08T18:22:19Z</dcterms:modified>
  <cp:revision>324</cp:revision>
  <dc:subject/>
  <dc:title>Презентация PowerPoint</dc:title>
</cp:coreProperties>
</file>