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B041-E64E-4C8E-A33C-018E98836E5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1F52-93B6-4CA0-BE41-15DD6650946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2205000"/>
            <a:ext cx="81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ИМ   2009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о математи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32000" y="1197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рмативная база КИМ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2133720"/>
            <a:ext cx="7488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оговая аттестация по матема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замен, обязательный для все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диные тексты для выпускников, изучающих  математику в объеме 4 часов в неделю, а также 6 (и более) часов в нед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диная нижняя граница прохождения итоговой аттес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87280" y="1052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нципы создания КИМ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654200"/>
            <a:ext cx="878544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изация итоговой проверки овладения стандартом – 200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ние реальной базы для объективной аттестации выпускников, изучавших математику в старшей школе различное число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ключение в итоговую аттестацию геометрии с учетом реальной подготовки выпуск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ключение в итоговую аттестацию заданий базового уровня сложности, позволяющих оценить умение применить полученные знания в жизнен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еспечение отбора в ВУЗы с учетом различий в предъявляемых требованиях к математической подгот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87280" y="105156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типов заданий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частям работ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8360" y="2349360"/>
          <a:ext cx="8424720" cy="4329360"/>
        </p:xfrm>
        <a:graphic>
          <a:graphicData uri="http://schemas.openxmlformats.org/drawingml/2006/table">
            <a:tbl>
              <a:tblPr/>
              <a:tblGrid>
                <a:gridCol w="460440"/>
                <a:gridCol w="2130480"/>
                <a:gridCol w="1152360"/>
                <a:gridCol w="1849320"/>
                <a:gridCol w="2832120"/>
              </a:tblGrid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зад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о зад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ксималь-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ый первичный бал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нт   наибольшего первичного      балла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     максимального первичного балла за всю работу, равного 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выбором отве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х1 = 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кратким ответ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х1= 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развернутым ответ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х2 +3х4=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04640" y="1051560"/>
            <a:ext cx="720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Распределение заданий работ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о уровню сл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4000" y="2276640"/>
          <a:ext cx="8569080" cy="3487680"/>
        </p:xfrm>
        <a:graphic>
          <a:graphicData uri="http://schemas.openxmlformats.org/drawingml/2006/table">
            <a:tbl>
              <a:tblPr/>
              <a:tblGrid>
                <a:gridCol w="1871640"/>
                <a:gridCol w="1152360"/>
                <a:gridCol w="2087640"/>
                <a:gridCol w="3457440"/>
              </a:tblGrid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вень сложности задан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о задан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ксимальный первичный бал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нт наибольшего первичного балла от максимального первичного балла за всю работу, равного 3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зовы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ышенны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03280" y="98100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гиональные коллективы, участвующие в разработк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35280" y="2276640"/>
            <a:ext cx="640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шкирский И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шкирский 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сноярский 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банский 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рский Г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восибирский 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зерский 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ратовский институт ПК и П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ерской 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472428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а разработчиков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/фак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)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83-06-1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5750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просы и коммента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User 2008</cp:lastModifiedBy>
  <dcterms:modified xsi:type="dcterms:W3CDTF">2008-12-11T07:01:20Z</dcterms:modified>
  <cp:revision>266</cp:revision>
  <dc:subject/>
  <dc:title>Презентация PowerPoint</dc:title>
</cp:coreProperties>
</file>