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ПИ -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4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14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9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111_a"/>
          <p:cNvPicPr/>
          <p:nvPr/>
        </p:nvPicPr>
        <p:blipFill>
          <a:blip r:embed="rId6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31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ПИ -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verb@ffl.msu.ru" TargetMode="External"/><Relationship Id="rId2" Type="http://schemas.openxmlformats.org/officeDocument/2006/relationships/hyperlink" Target="http://www.fipi.ru/" TargetMode="External"/><Relationship Id="rId3" Type="http://schemas.openxmlformats.org/officeDocument/2006/relationships/hyperlink" Target="http://www.ffl.msu.ru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499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КИМ ЕГЭ п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ОСТРАННЫМ ЯЗЫКАМ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подготовки предметных комиссий субъектов Российской Федерации в 2009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8612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Проф. М.В.Вербицкая, д.ф.н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председатель Федеральной предметной комиссии 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verb@ffl.m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3c8c93"/>
                </a:solidFill>
                <a:latin typeface="Arial"/>
              </a:rPr>
              <a:t>азначение ЕГЭ</a:t>
            </a: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:</a:t>
            </a:r>
            <a:r>
              <a:rPr b="1" i="1" lang="en-US" sz="4800" spc="-1" strike="noStrike">
                <a:solidFill>
                  <a:srgbClr val="3c8c93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общеобразовательную подготовку по иностранному языку выпускник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классов с ц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курсного отбора                              в учреждения среднего и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АМЕН 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т.е. скорее вступительный, чем выпуск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8481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зменений в структуре и содержании КИМ - 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0024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5840" y="2286000"/>
          <a:ext cx="8572320" cy="44290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РАЗДЕ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Макс.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Макс. тестов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ка и лекс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НОВОЕ </a:t>
            </a:r>
            <a:br>
              <a:rPr sz="4800"/>
            </a:b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3c8c93"/>
                </a:solidFill>
                <a:latin typeface="Arial"/>
              </a:rPr>
              <a:t>ЕГЭ 2009 г. по 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5724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АНСКИЙ Я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Английский язык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мецкий я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анцузский язы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929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Уточнение оценивания заданий С1 – С2 (Письм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00" y="1828440"/>
            <a:ext cx="83581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людение требуемого объ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ое письмо (С1)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00-140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ернутое письменное высказывание (С2)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00-250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устимое отклонение от заданного объема -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152280"/>
            <a:ext cx="757224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Особенности «Говорения» при цифровой за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е участие технического специалиста по цифровой аудио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сключительных случаях допускается проведение двух оцениваний по аудиозаписи устного ответа экзаменуемого (при условии цифровой аудиозаписи и участии в процедуре устной части экзамена технического специалиста по цифровой аудиозапис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8481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3c8c93"/>
                </a:solidFill>
                <a:latin typeface="Arial"/>
              </a:rPr>
              <a:t>одготовка предметных комиссий субъе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71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бор и подготовка экспе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ышение квалификации уч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ие качественных учебных посо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ка оборудования и админ. персонала ПП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-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D57-E218-4284-9FF4-8AF287954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624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Оптимизация </a:t>
            </a:r>
            <a:br>
              <a:rPr sz="4800"/>
            </a:b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подготовки к ЕГЭ по 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71800"/>
            <a:ext cx="80024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коммуникативной компетенции (владение 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ладение стратегиями разного рода аудирования и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форматом экза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нировка (выполнение инструк-ций, контроль за временем, аудио- запись устного ответа и т.д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43120"/>
            <a:ext cx="820728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бицкая Мария Валерьев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едатель  ФП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/фак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7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3-02-1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b@ffl.msu.ru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pi.ru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fl.msu.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Verbitsky</cp:lastModifiedBy>
  <dcterms:modified xsi:type="dcterms:W3CDTF">2008-12-11T09:18:26Z</dcterms:modified>
  <cp:revision>489</cp:revision>
  <dc:subject/>
  <dc:title>Презентация PowerPoint</dc:title>
</cp:coreProperties>
</file>