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EEDB2-49F7-4DB4-99C8-7D18212AF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C562C-DDA0-4966-91FC-3820A1551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4B83F-CBD3-4C35-A46F-10AC4C51C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4A0FE-A2A6-467A-8D3C-869452EBB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49FCD-C3F4-4952-9E95-FC0DD4981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A9A4D-9D4D-4747-B236-C61A1C551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38D0D-61AA-496A-8F83-E741A453C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62915-8E6F-455E-A099-74758C287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91495-C52A-4CC1-B5C6-F1AB35BD2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D5559-ACA7-470E-9CE3-B8878E86E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23E5F-51A6-43BB-8619-118C84738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FCD0F-BC64-4BAE-A97A-F827499160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A50D7-77ED-4B20-92D9-E5178126B2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50920" y="1125360"/>
            <a:ext cx="8677080" cy="4824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33399"/>
                </a:solidFill>
                <a:latin typeface="Arial"/>
              </a:rPr>
              <a:t> </a:t>
            </a:r>
            <a:r>
              <a:rPr b="1" lang="en-US" sz="6000" spc="-1" strike="noStrike">
                <a:solidFill>
                  <a:srgbClr val="ff3300"/>
                </a:solidFill>
                <a:latin typeface="Arial"/>
              </a:rPr>
              <a:t>Нововведения </a:t>
            </a:r>
            <a:br>
              <a:rPr sz="6000"/>
            </a:br>
            <a:r>
              <a:rPr b="1" lang="en-US" sz="6000" spc="-1" strike="noStrike">
                <a:solidFill>
                  <a:srgbClr val="ff3300"/>
                </a:solidFill>
                <a:latin typeface="Arial"/>
              </a:rPr>
              <a:t>в условия проведения ЕГЭ в 2009 году</a:t>
            </a:r>
            <a:br>
              <a:rPr sz="6000"/>
            </a:br>
            <a:br>
              <a:rPr sz="4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9. Изменены сроки подачи апелляции по результатам ЕГЭ</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Апелляция о несогласии с результатами ЕГЭ подается </a:t>
            </a:r>
            <a:r>
              <a:rPr b="1" lang="en-US" sz="2800" spc="-1" strike="noStrike">
                <a:solidFill>
                  <a:srgbClr val="000000"/>
                </a:solidFill>
                <a:latin typeface="Arial"/>
              </a:rPr>
              <a:t>в течение двух дней</a:t>
            </a:r>
            <a:r>
              <a:rPr b="0" lang="en-US" sz="2800" spc="-1" strike="noStrike">
                <a:solidFill>
                  <a:srgbClr val="000000"/>
                </a:solidFill>
                <a:latin typeface="Arial"/>
              </a:rPr>
              <a:t> со дня объявления результатов ЕГЭ по соответствующему предмету;</a:t>
            </a:r>
            <a:endParaRPr b="0" lang="en-US" sz="2800" spc="-1" strike="noStrike">
              <a:solidFill>
                <a:srgbClr val="000000"/>
              </a:solidFill>
              <a:latin typeface="Arial"/>
            </a:endParaRPr>
          </a:p>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ень объявления результатов ЕГЭ устанавливается органом исполнительной власти субъекта Российской Федерации, осуществляющим управление в сфере образова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274320"/>
            <a:ext cx="8435880" cy="20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0. </a:t>
            </a:r>
            <a:r>
              <a:rPr b="0" lang="en-US" sz="3600" spc="-1" strike="noStrike">
                <a:solidFill>
                  <a:srgbClr val="000000"/>
                </a:solidFill>
                <a:latin typeface="Arial"/>
              </a:rPr>
              <a:t>Допускаются задержки принятия решения ГЭК о результатах ЕГЭ отдельных участников ЕГЭ</a:t>
            </a:r>
            <a:endParaRPr b="0" lang="en-US" sz="3600" spc="-1" strike="noStrike">
              <a:solidFill>
                <a:srgbClr val="000000"/>
              </a:solidFill>
              <a:latin typeface="Arial"/>
            </a:endParaRPr>
          </a:p>
        </p:txBody>
      </p:sp>
      <p:sp>
        <p:nvSpPr>
          <p:cNvPr id="61" name="PlaceHolder 2"/>
          <p:cNvSpPr>
            <a:spLocks noGrp="1"/>
          </p:cNvSpPr>
          <p:nvPr>
            <p:ph/>
          </p:nvPr>
        </p:nvSpPr>
        <p:spPr>
          <a:xfrm>
            <a:off x="684000" y="2637000"/>
            <a:ext cx="8002440" cy="34891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случае проведения служебного расследования ГЭК, связанного с установлением фактов нарушения порядка проведения ЕГЭ, или рассмотрения конфликтной комиссией апелляции по процедуре проведения ЕГЭ, ГЭК вправе отложить принятие решения по результатам отдельных участников ЕГЭ до завершения служебного расследования или принятия решения по апелляции, </a:t>
            </a:r>
            <a:r>
              <a:rPr b="1" lang="en-US" sz="2000" spc="-1" strike="noStrike">
                <a:solidFill>
                  <a:srgbClr val="000000"/>
                </a:solidFill>
                <a:latin typeface="Arial"/>
              </a:rPr>
              <a:t>но не более чем на</a:t>
            </a:r>
            <a:r>
              <a:rPr b="0" lang="en-US" sz="2000" spc="-1" strike="noStrike">
                <a:solidFill>
                  <a:srgbClr val="000000"/>
                </a:solidFill>
                <a:latin typeface="Arial"/>
              </a:rPr>
              <a:t> </a:t>
            </a:r>
            <a:r>
              <a:rPr b="1" lang="en-US" sz="2000" spc="-1" strike="noStrike">
                <a:solidFill>
                  <a:srgbClr val="000000"/>
                </a:solidFill>
                <a:latin typeface="Arial"/>
              </a:rPr>
              <a:t>пять рабочих дней</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ЭК обязана своевременно проинформировать участников ЕГЭ и их родителей (законных представителей) о задержке принятия решения по результатам ЕГЭ.</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274680"/>
            <a:ext cx="8147160" cy="193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1. </a:t>
            </a:r>
            <a:r>
              <a:rPr b="0" lang="en-US" sz="3600" spc="-1" strike="noStrike">
                <a:solidFill>
                  <a:srgbClr val="000000"/>
                </a:solidFill>
                <a:latin typeface="Arial"/>
              </a:rPr>
              <a:t>Установлено право Рособрнадзора аннулировать результаты ЕГЭ</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3" name="PlaceHolder 2"/>
          <p:cNvSpPr>
            <a:spLocks noGrp="1"/>
          </p:cNvSpPr>
          <p:nvPr>
            <p:ph/>
          </p:nvPr>
        </p:nvSpPr>
        <p:spPr>
          <a:xfrm>
            <a:off x="611280" y="2205000"/>
            <a:ext cx="8075520" cy="39211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особрнадзор может отменить решение ГЭК об утверждении или аннулировании результатов ЕГЭ в случае, если по результатам выездной (инспекционной) или камеральной проверки соблюдения установленного порядка организации и проведения ЕГЭ были выявлены нарушения, оказавшие существенное влияние на результаты участников ЕГ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274320"/>
            <a:ext cx="821844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2. Установлен порядок использования нескольких действующих свидетельств о результатах ЕГЭ</a:t>
            </a:r>
            <a:endParaRPr b="0" lang="en-US" sz="3600" spc="-1" strike="noStrike">
              <a:solidFill>
                <a:srgbClr val="000000"/>
              </a:solidFill>
              <a:latin typeface="Arial"/>
            </a:endParaRPr>
          </a:p>
        </p:txBody>
      </p:sp>
      <p:sp>
        <p:nvSpPr>
          <p:cNvPr id="65" name="PlaceHolder 2"/>
          <p:cNvSpPr>
            <a:spLocks noGrp="1"/>
          </p:cNvSpPr>
          <p:nvPr>
            <p:ph/>
          </p:nvPr>
        </p:nvSpPr>
        <p:spPr>
          <a:xfrm>
            <a:off x="755280" y="2492280"/>
            <a:ext cx="7931160" cy="363384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частники ЕГЭ, имеющие два и более свидетельства о результатах ЕГЭ, срок действия которых не истек, самостоятельно выбирают результаты ЕГЭ по каждому предмету для подачи документов в приемную комиссию ссуза  или вуз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Участники ЕГЭ распределены по срокам проведения ЕГЭ:</a:t>
            </a:r>
            <a:endParaRPr b="0" lang="en-US" sz="40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пускники текущего года и иные лица (выпускники прошлых лет, иностранные граждане, обучающиеся в образовательных учреждениях НПО и СПО) сдают ЕГЭ в период государственной (итоговой) аттестации выпускников текущего года;</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пускники прошлых лет, иностранные граждане и выпускники образовательных учреждений НПО и СПО могут также сдавать ЕГЭ в период приема документов в ссузы и вуз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Регистрация на ЕГЭ</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ля участия в ЕГЭ в период государственной (итоговой) аттестации выпускники текущего года и иные лица подают заявление с перечнем предметов </a:t>
            </a:r>
            <a:r>
              <a:rPr b="1" lang="ru-RU" sz="2800" spc="-1" strike="noStrike">
                <a:solidFill>
                  <a:srgbClr val="000000"/>
                </a:solidFill>
                <a:latin typeface="Arial"/>
              </a:rPr>
              <a:t>до 1 марта</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ля участия в ЕГЭ в период приема документов в ссузы и вузы все категории участников ЕГЭ (за исключением выпускников текущего года) подают заявление с перечнем предметов </a:t>
            </a:r>
            <a:r>
              <a:rPr b="1" lang="ru-RU" sz="2800" spc="-1" strike="noStrike">
                <a:solidFill>
                  <a:srgbClr val="000000"/>
                </a:solidFill>
                <a:latin typeface="Arial"/>
              </a:rPr>
              <a:t>до 5 июля</a:t>
            </a:r>
            <a:r>
              <a:rPr b="0" lang="ru-RU"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Досрочная сдача ЕГЭ</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осрочная сдача ЕГЭ в период с 21 по 29 апреля будет организована для следующих категорий выпускников:</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1836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ыпускников вечерних школ, призываемых на военную службу;</a:t>
            </a:r>
            <a:endParaRPr b="0" lang="en-US" sz="2000" spc="-1" strike="noStrike">
              <a:solidFill>
                <a:srgbClr val="000000"/>
              </a:solidFill>
              <a:latin typeface="Arial"/>
            </a:endParaRPr>
          </a:p>
          <a:p>
            <a:pPr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1836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ыпускников, выезжающих на российские или международные спортивные соревнования, конкурсы, смотры, олимпиады и тренировочные сборы;</a:t>
            </a:r>
            <a:endParaRPr b="0" lang="en-US" sz="2000" spc="-1" strike="noStrike">
              <a:solidFill>
                <a:srgbClr val="000000"/>
              </a:solidFill>
              <a:latin typeface="Arial"/>
            </a:endParaRPr>
          </a:p>
          <a:p>
            <a:pPr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1836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ыпускников, выезжающих на постоянное место жительства или для продолжения обучения в иностранное государство;</a:t>
            </a:r>
            <a:endParaRPr b="0" lang="en-US" sz="2000" spc="-1" strike="noStrike">
              <a:solidFill>
                <a:srgbClr val="000000"/>
              </a:solidFill>
              <a:latin typeface="Arial"/>
            </a:endParaRPr>
          </a:p>
          <a:p>
            <a:pPr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1836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ыпускников, направляемых по медицинским показаниям в лечебно-профилактические и иные учреждения для проведения лечебно-оздоровительных и реабилитационных мероприятий;</a:t>
            </a:r>
            <a:endParaRPr b="0" lang="en-US" sz="2000" spc="-1" strike="noStrike">
              <a:solidFill>
                <a:srgbClr val="000000"/>
              </a:solidFill>
              <a:latin typeface="Arial"/>
            </a:endParaRPr>
          </a:p>
          <a:p>
            <a:pPr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1836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ыпускников российских школ, расположенных за пределами Российской Федерации, в иностранных государствах со сложными климатическими условиям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Впервые ЕГЭ будет проводиться за рубежом</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 школах при посольствах и консульствах МИД России;</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 школах при Пограничной службе ФСБ России;</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 школах, расположенных в военных частях Минобороны России;</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 школах, расположенных на территории г. Байконур;</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и други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274680"/>
            <a:ext cx="8291520" cy="24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Установлена возможность добровольного участия в ЕГЭ детей с ограниченными возможностями здоровья </a:t>
            </a:r>
            <a:endParaRPr b="0" lang="en-US" sz="4000" spc="-1" strike="noStrike">
              <a:solidFill>
                <a:srgbClr val="000000"/>
              </a:solidFill>
              <a:latin typeface="Arial"/>
            </a:endParaRPr>
          </a:p>
        </p:txBody>
      </p:sp>
      <p:sp>
        <p:nvSpPr>
          <p:cNvPr id="51" name="PlaceHolder 2"/>
          <p:cNvSpPr>
            <a:spLocks noGrp="1"/>
          </p:cNvSpPr>
          <p:nvPr>
            <p:ph/>
          </p:nvPr>
        </p:nvSpPr>
        <p:spPr>
          <a:xfrm>
            <a:off x="684360" y="2852280"/>
            <a:ext cx="8013600" cy="33735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етей с нарушениями зрения (слепых и слабовидящих) – с использованием увеличительных приборов, экзаменационных материалов увеличенного формата или отпечатанного шрифтом Брайля;</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етей с нарушениями слуха (глухих и слабослышащих) – с использованием звукоусиливающей аппаратуры индивидуального и коллективного прослушивания;</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етей с нарушениями опорно-двигательного аппарата – с использованием специальных пандусов, поручней и иных средств;</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етей с иными недостатками физического и (или) психического развит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680"/>
            <a:ext cx="8218440" cy="16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6. Установлена возможность досрочной доставки экзаменационных материалов</a:t>
            </a:r>
            <a:endParaRPr b="0" lang="en-US" sz="4000" spc="-1" strike="noStrike">
              <a:solidFill>
                <a:srgbClr val="000000"/>
              </a:solidFill>
              <a:latin typeface="Arial"/>
            </a:endParaRPr>
          </a:p>
        </p:txBody>
      </p:sp>
      <p:sp>
        <p:nvSpPr>
          <p:cNvPr id="53" name="PlaceHolder 2"/>
          <p:cNvSpPr>
            <a:spLocks noGrp="1"/>
          </p:cNvSpPr>
          <p:nvPr>
            <p:ph/>
          </p:nvPr>
        </p:nvSpPr>
        <p:spPr>
          <a:xfrm>
            <a:off x="684000" y="2205000"/>
            <a:ext cx="8002440" cy="39211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опускается досрочная доставка экзаменационных материалов в органы местного самоуправления, для ППЭ, расположенных в труднодоступных и отдаленных местностях.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ешение о досрочной доставке экзаменационных материалов орган исполнительной власти субъекта Российской Федерации, осуществляющий управление в сфере образования, согласует с Федеральным центром тестирования не позднее    </a:t>
            </a:r>
            <a:r>
              <a:rPr b="1" lang="en-US" sz="2400" spc="-1" strike="noStrike">
                <a:solidFill>
                  <a:srgbClr val="000000"/>
                </a:solidFill>
                <a:latin typeface="Arial"/>
              </a:rPr>
              <a:t>1 марта</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274680"/>
            <a:ext cx="8362800" cy="171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 Установлены иные правила автоматизированной рассадки участников ЕГЭ</a:t>
            </a:r>
            <a:endParaRPr b="0" lang="en-US" sz="4000" spc="-1" strike="noStrike">
              <a:solidFill>
                <a:srgbClr val="000000"/>
              </a:solidFill>
              <a:latin typeface="Arial"/>
            </a:endParaRPr>
          </a:p>
        </p:txBody>
      </p:sp>
      <p:sp>
        <p:nvSpPr>
          <p:cNvPr id="55" name="PlaceHolder 2"/>
          <p:cNvSpPr>
            <a:spLocks noGrp="1"/>
          </p:cNvSpPr>
          <p:nvPr>
            <p:ph/>
          </p:nvPr>
        </p:nvSpPr>
        <p:spPr>
          <a:xfrm>
            <a:off x="684000" y="2133720"/>
            <a:ext cx="8002440" cy="3992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опускается проведение автоматизированной рассадки участников ЕГЭ либо в ППЭ, либо в РЦО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 случае проведения автоматизированной рассадки в РЦОИ в ППЭ вместе с экзаменационными материалами доставляются списки рассадки участников ЕГ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274320"/>
            <a:ext cx="836280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 </a:t>
            </a:r>
            <a:r>
              <a:rPr b="0" lang="en-US" sz="3600" spc="-1" strike="noStrike">
                <a:solidFill>
                  <a:srgbClr val="000000"/>
                </a:solidFill>
                <a:latin typeface="Arial"/>
              </a:rPr>
              <a:t>Дано определение уважительных причин неучастия в ЕГЭ</a:t>
            </a:r>
            <a:endParaRPr b="0" lang="en-US" sz="3600" spc="-1" strike="noStrike">
              <a:solidFill>
                <a:srgbClr val="000000"/>
              </a:solidFill>
              <a:latin typeface="Arial"/>
            </a:endParaRPr>
          </a:p>
        </p:txBody>
      </p:sp>
      <p:sp>
        <p:nvSpPr>
          <p:cNvPr id="57" name="PlaceHolder 2"/>
          <p:cNvSpPr>
            <a:spLocks noGrp="1"/>
          </p:cNvSpPr>
          <p:nvPr>
            <p:ph/>
          </p:nvPr>
        </p:nvSpPr>
        <p:spPr>
          <a:xfrm>
            <a:off x="611280" y="1989000"/>
            <a:ext cx="8075520" cy="4137120"/>
          </a:xfrm>
          <a:prstGeom prst="rect">
            <a:avLst/>
          </a:prstGeom>
          <a:noFill/>
          <a:ln w="0">
            <a:noFill/>
          </a:ln>
        </p:spPr>
        <p:txBody>
          <a:bodyPr lIns="90000" rIns="90000" tIns="46800" bIns="46800" anchor="t">
            <a:normAutofit fontScale="99000"/>
          </a:bodyPr>
          <a:p>
            <a:pPr marL="603360" indent="-60336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Уважительными причинами считаются болезнь выпускника, смерть близких родственников, иные трудные жизненные ситуации.</a:t>
            </a:r>
            <a:endParaRPr b="0" lang="en-US" sz="3200" spc="-1" strike="noStrike">
              <a:solidFill>
                <a:srgbClr val="000000"/>
              </a:solidFill>
              <a:latin typeface="Arial"/>
            </a:endParaRPr>
          </a:p>
          <a:p>
            <a:pPr marL="603360" indent="-60336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Решение о допуске выпускника до сдачи ЕГЭ в дополнительные сроки  в рамках утвержденного расписания в каждом конкретном случае принимает ГЭК.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06:11:46Z</dcterms:created>
  <dc:creator>Пресс-служба</dc:creator>
  <dc:description/>
  <dc:language>en-US</dc:language>
  <cp:lastModifiedBy>user</cp:lastModifiedBy>
  <dcterms:modified xsi:type="dcterms:W3CDTF">2008-12-16T21:21:36Z</dcterms:modified>
  <cp:revision>30</cp:revision>
  <dc:subject/>
  <dc:title>Слайд 1</dc:title>
</cp:coreProperties>
</file>