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5.png" ContentType="image/png"/>
  <Override PartName="/ppt/media/image17.wmf" ContentType="image/x-wmf"/>
  <Override PartName="/ppt/media/image15.jpeg" ContentType="image/jpeg"/>
  <Override PartName="/ppt/media/image16.png" ContentType="image/png"/>
  <Override PartName="/ppt/media/image1.wmf" ContentType="image/x-wmf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BB69-F3BB-4C4F-89CA-6DABD5A18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3928-7D87-4265-9843-8573EEAA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C97A-A813-481A-97C2-0E10E910C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B342-EA46-4F3F-B293-6F8D0FAA1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00A1-83D7-4972-A821-01DE6BAD1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9F83-63F4-4B97-8F3A-6F595FE7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AD2B-269A-486C-B4EA-CCC7DFCE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1D14-C3F3-40E6-95C6-3088BAA2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BE2D-83BC-4F67-BF0C-4A78D199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EAFC-C05F-40E1-9C57-1625E278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2E43-43E0-4CFF-BD9D-7E926BE9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06E7-B39F-4003-A316-E35C318E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F99C-D0E8-4631-AB12-A9F11E51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A720-A2B7-441A-A675-81916D90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C06B-036F-4AF5-B824-251B2FEC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6216-F6DB-40EB-ABF4-3AF9CE20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0E93-DA04-4F72-9749-17533FB53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0778-AA17-41BB-AA99-F7F4D930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C997-AAAD-4E32-83E5-A776D44A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30BE-09B5-4222-A21B-BFE42436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92D2-4651-4770-BF0B-FF307126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B09B-BE17-4033-AEF6-D9A22C1C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2785-63E5-48C7-B273-A2E99436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F669-FABB-485D-BD61-5C228F57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45A6-FCE6-4039-BE52-1335E951F2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F1A7-8A6B-4F30-93F0-BFFB4CED0E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Doc4.doc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990033"/>
                </a:solidFill>
                <a:latin typeface="Times New Roman"/>
              </a:rPr>
              <a:t>ПАМЯТКА</a:t>
            </a:r>
            <a:br>
              <a:rPr sz="4800"/>
            </a:b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ДЛЯ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ОРГАНИЗАТОРОВ АУДИТОРИИ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8" name="Picture 4" descr="j0301252"/>
          <p:cNvPicPr/>
          <p:nvPr/>
        </p:nvPicPr>
        <p:blipFill>
          <a:blip r:embed="rId1"/>
          <a:stretch/>
        </p:blipFill>
        <p:spPr>
          <a:xfrm>
            <a:off x="3635280" y="3933720"/>
            <a:ext cx="2305080" cy="1727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Times New Roman"/>
              </a:rPr>
              <a:t>Бланк ответов №1 и №2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частник ЕГЭ заполняет регистрационные части всех бланков. Поля «Резерв-5», «Резерв-6», «Резерв-7», «Резерв-8» не заполняются.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Примечание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. Информация для заполнения полей о коде региона, коде и названии предмета должна быть продублирована с информации, внесенной в бланк регистр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E:\мониторинг\Бланки ЕГЭ\2008\Проект\Картинки\На утверждение\05-03-08\Бланки ЕГЭ 2008 1.jpg"/>
          <p:cNvPicPr/>
          <p:nvPr/>
        </p:nvPicPr>
        <p:blipFill>
          <a:blip r:embed="rId1"/>
          <a:stretch/>
        </p:blipFill>
        <p:spPr>
          <a:xfrm>
            <a:off x="2700360" y="3933720"/>
            <a:ext cx="1800360" cy="2519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E:\мониторинг\Бланки ЕГЭ\2008\Проект\Картинки\На утверждение\05-03-08\Бланки ЕГЭ 2008 2.jpg"/>
          <p:cNvPicPr/>
          <p:nvPr/>
        </p:nvPicPr>
        <p:blipFill>
          <a:blip r:embed="rId2"/>
          <a:stretch/>
        </p:blipFill>
        <p:spPr>
          <a:xfrm>
            <a:off x="5076720" y="3933720"/>
            <a:ext cx="1935360" cy="2519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500"/>
                            </p:stCondLst>
                            <p:childTnLst>
                              <p:par>
                                <p:cTn id="31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Организат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ыдает каждому участнику ЕГЭ два чернов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ственный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организат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бъявляет о начале экзамена и фиксирует время начала и окончания экзамена на доске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90033"/>
                </a:solidFill>
                <a:latin typeface="Times New Roman"/>
              </a:rPr>
              <a:t>Примечание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ремя, отведенное на инструктаж и заполнение регистрационных частей бланков, в общее время не включается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j0234131"/>
          <p:cNvPicPr/>
          <p:nvPr/>
        </p:nvPicPr>
        <p:blipFill>
          <a:blip r:embed="rId1"/>
          <a:stretch/>
        </p:blipFill>
        <p:spPr>
          <a:xfrm>
            <a:off x="971640" y="260280"/>
            <a:ext cx="1366920" cy="1079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j0301252"/>
          <p:cNvPicPr/>
          <p:nvPr/>
        </p:nvPicPr>
        <p:blipFill>
          <a:blip r:embed="rId2"/>
          <a:stretch/>
        </p:blipFill>
        <p:spPr>
          <a:xfrm>
            <a:off x="6659640" y="4724280"/>
            <a:ext cx="2047680" cy="1944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9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560" y="2775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990033"/>
                </a:solidFill>
                <a:latin typeface="Times New Roman"/>
              </a:rPr>
              <a:t>Действия</a:t>
            </a:r>
            <a:r>
              <a:rPr b="1" lang="en-US" sz="3700" spc="-1" strike="noStrike">
                <a:solidFill>
                  <a:srgbClr val="990033"/>
                </a:solidFill>
                <a:latin typeface="Times New Roman"/>
              </a:rPr>
              <a:t> организатора </a:t>
            </a:r>
            <a:r>
              <a:rPr b="1" lang="en-US" sz="3700" spc="-1" strike="noStrike" u="sng">
                <a:solidFill>
                  <a:srgbClr val="990033"/>
                </a:solidFill>
                <a:uFillTx/>
                <a:latin typeface="Times New Roman"/>
              </a:rPr>
              <a:t>после начала экзамена</a:t>
            </a:r>
            <a:r>
              <a:rPr b="1" lang="en-US" sz="3700" spc="-1" strike="noStrike">
                <a:solidFill>
                  <a:srgbClr val="990033"/>
                </a:solidFill>
                <a:latin typeface="Times New Roman"/>
              </a:rPr>
              <a:t>:</a:t>
            </a:r>
            <a:endParaRPr b="0" lang="en-US" sz="3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бирает в аудитории излишние индивидуальные комплекты, фиксирует их число в протоколе проведения ЕГЭ в аудитории (форма 12-ППЭ) и передает их руководителю ППЭ или их помощник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 обязательном порядк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проверяет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равильность заполнения регистрационных поле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на всех бланках и соответствие реквизитов участника ЕГЭ (Ф.И.О., серии и номера документа, удостоверяющего личность) в бланке регистрации и паспор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тмечает в своем экземпляре Списка распределения участников ЕГЭ по аудиториям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факты неявки на экзаме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участников ЕГЭ (в случае их наличия), проставляя метку в соответствующем поле Списка (форма 5-ППЭ, столбец 7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едит за порядком в аудитории и отвечает на вопросы участников ЕГЭ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не связанные с содержанием КИ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ЧАНИЕ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в случае возникновения претензии следует зафиксировать суть претензии в служебной записке и передать ее руководителю ППЭ для дальнейшей передачи в РЦОИ. Служебная записка должна содержать информацию об уникальном номере КИМ, задании и содержании замечания.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332000" y="260280"/>
            <a:ext cx="6840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00000" y="1700280"/>
            <a:ext cx="7775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говаривать, вставать с мес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ересаживать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мениваться любыми материалами и предмета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льзоваться мобильными телефонами или иными средствами связи и техническими устройства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льзоваться справочными материала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кроме разрешенны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ходить по ППЭ во время экзамена без сопрово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684360" y="54936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Участникам ЕГЭ </a:t>
            </a:r>
            <a:r>
              <a:rPr b="1" lang="en-US" sz="4000" spc="-1" strike="noStrike" u="sng">
                <a:solidFill>
                  <a:srgbClr val="990033"/>
                </a:solidFill>
                <a:uFillTx/>
                <a:latin typeface="Times New Roman"/>
              </a:rPr>
              <a:t>запрещае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и нарушении настоящих требований и отказе в их выполнении </a:t>
            </a:r>
            <a:r>
              <a:rPr b="0" i="1" lang="ru-RU" sz="1600" spc="-1" strike="noStrike">
                <a:solidFill>
                  <a:srgbClr val="990033"/>
                </a:solidFill>
                <a:latin typeface="Times New Roman"/>
              </a:rPr>
              <a:t>организаторы </a:t>
            </a:r>
            <a:r>
              <a:rPr b="1" i="1" lang="ru-RU" sz="1600" spc="-1" strike="noStrike">
                <a:solidFill>
                  <a:srgbClr val="990033"/>
                </a:solidFill>
                <a:latin typeface="Times New Roman"/>
              </a:rPr>
              <a:t>вправе</a:t>
            </a:r>
            <a:r>
              <a:rPr b="0" i="1" lang="ru-RU" sz="16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990033"/>
                </a:solidFill>
                <a:latin typeface="Times New Roman"/>
              </a:rPr>
              <a:t>удалить</a:t>
            </a:r>
            <a:r>
              <a:rPr b="0" i="1" lang="ru-RU" sz="1600" spc="-1" strike="noStrike">
                <a:solidFill>
                  <a:srgbClr val="990033"/>
                </a:solidFill>
                <a:latin typeface="Times New Roman"/>
              </a:rPr>
              <a:t> участника ЕГЭ с экзамена с внесением записи в протокол проведения ЕГЭ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в аудитории и в списке распределения участников ЕГЭ в аудитории (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форма 5-ППЭ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) и составлением акта с указанием причины удаления, удостоверенной подписями организатора в аудитории и уполномоченного ГЭК. В пропуске делается </a:t>
            </a:r>
            <a:r>
              <a:rPr b="1" i="1" lang="ru-RU" sz="1600" spc="-1" strike="noStrike">
                <a:solidFill>
                  <a:srgbClr val="990033"/>
                </a:solidFill>
                <a:latin typeface="Times New Roman"/>
              </a:rPr>
              <a:t>запись </a:t>
            </a:r>
            <a:r>
              <a:rPr b="1" i="1" lang="ru-RU" sz="1600" spc="-1" strike="noStrike" u="sng">
                <a:solidFill>
                  <a:srgbClr val="990033"/>
                </a:solidFill>
                <a:uFillTx/>
                <a:latin typeface="Times New Roman"/>
              </a:rPr>
              <a:t>«Удален с экзамена»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В бланк регистрации в поле «Удален с экзамена» ставится соответствующая метка.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Бланки ЕГЭ удаленного участника направляются на обработку совместно с бланками остальных участников ЕГЭ данной аудитории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В случае удаления с экзамена участник ЕГЭ имеет право подать апелляцию о нарушении установленного порядка проведения ЕГ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 случае, если участник ЕГЭ по объективным причинам не может завершить выполнение экзаменационной работы, то  данный участник  может покинуть аудиторию и ППЭ до завершения экзамена. В этом случае в пропуске участника ЕГЭ делается запись </a:t>
            </a:r>
            <a:r>
              <a:rPr b="1" i="1" lang="ru-RU" sz="1600" spc="-1" strike="noStrike" u="sng">
                <a:solidFill>
                  <a:srgbClr val="990033"/>
                </a:solidFill>
                <a:uFillTx/>
                <a:latin typeface="Times New Roman"/>
              </a:rPr>
              <a:t>«Не закончил экзамен по уважительной причине»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Необходимо внести запись в протокол проведения ЕГЭ в аудитории  и в списке распределения участников ЕГЭ в аудитории (форма 5-ППЭ) с обязательной отметкой причины незавершения экзамен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, подтвержденной  подписью ответственного лица (например, медицинского работника ППЭ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Если участнику ЕГЭ  необходимо выйти из аудитории (в туалет, в медицинскую комнату), то он может выйти из аудитории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 сопровождении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одного из дежурных по этажу, предварительно сдав бланки ЕГЭ ответственному организатору по аудитории. Выход из аудитории допускается строго по одному участнику экзаме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j0233018"/>
          <p:cNvPicPr/>
          <p:nvPr/>
        </p:nvPicPr>
        <p:blipFill>
          <a:blip r:embed="rId1"/>
          <a:stretch/>
        </p:blipFill>
        <p:spPr>
          <a:xfrm>
            <a:off x="684360" y="115920"/>
            <a:ext cx="1584000" cy="1252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33"/>
                </a:solidFill>
                <a:latin typeface="Times New Roman"/>
              </a:rPr>
              <a:t>Организаторам </a:t>
            </a:r>
            <a:r>
              <a:rPr b="1" lang="en-US" sz="4200" spc="-1" strike="noStrike" u="sng">
                <a:solidFill>
                  <a:srgbClr val="990033"/>
                </a:solidFill>
                <a:uFillTx/>
                <a:latin typeface="Times New Roman"/>
              </a:rPr>
              <a:t>запрещается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ез уважительной причины покидать аудиторию во время экзаме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льзоваться мобильными телефонами или иными средствами связи и техническими устройствами</a:t>
            </a:r>
            <a:r>
              <a:rPr b="0" lang="en-US" sz="2400" spc="-1" strike="noStrike" u="sng">
                <a:solidFill>
                  <a:srgbClr val="990033"/>
                </a:solidFill>
                <a:uFillTx/>
                <a:latin typeface="Times New Roman"/>
                <a:hlinkClick r:id="rId1" action="ppaction://hlinksldjump"/>
              </a:rPr>
              <a:t>[1]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мментировать ответы участников ЕГ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Times New Roman"/>
              </a:rPr>
              <a:t>Примечание.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В аудитории во время экзамена обязательно должны находиться два организатора. В случае, если в аудитории находятся не более двух организаторов, но при этом один из них должен покинуть аудиторию по уважительной причине, взамен вышедшего приглашается один из дежурных по этажу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Times New Roman"/>
                <a:hlinkClick r:id="rId2" action="ppaction://hlinksldjump"/>
              </a:rPr>
              <a:t>[1]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Использование указанных материалов и средств запрещено как в аудитории, так и во всем ППЭ на протяжении всего экзаме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500"/>
                            </p:stCondLst>
                            <p:childTnLst>
                              <p:par>
                                <p:cTn id="4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500"/>
                            </p:stCondLst>
                            <p:childTnLst>
                              <p:par>
                                <p:cTn id="4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684360" y="549360"/>
            <a:ext cx="7775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931160" cy="12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Дополнительный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бланк ответов №2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затор в аудитории выдает дополнительные бланки ответов №2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лее ДБО №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при условии, что участники ЕГЭ полностью, с обеих сторон, заполнили бланк №2. В случае заполнения ДБО №2 при незаполненном основном бланке ответов №2 ответы, внесенные на ДБО №2, оцениваться не будут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990033"/>
                </a:solidFill>
                <a:latin typeface="Times New Roman"/>
              </a:rPr>
              <a:t>Примечание</a:t>
            </a:r>
            <a:r>
              <a:rPr b="0" i="1" lang="ru-RU" sz="1600" spc="-1" strike="noStrike">
                <a:solidFill>
                  <a:srgbClr val="990033"/>
                </a:solidFill>
                <a:latin typeface="Times New Roman"/>
              </a:rPr>
              <a:t>: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информация для заполнения полей о коде региона, коде и названии предмета должна быть совпадать с информацией основного бланка ответов №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выдаче ДБО №2 в поле «Дополнительный бланк ответов №2» организатор вписывает № выдаваемого ДБО №2, а также фиксирует номер выдаваемого ДБО №2 в Протоколе использования дополнительных бланков ответов №2 в аудитор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иложение 1 к форме 12-ППЭ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затор заполняет поля «Следующий дополнительный бланк ответов №2» и «Лист №  » в случае нехватки места для развернутых ответов на основном и ранее выданном дополнительном бланке ответов №2, при эт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74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 поле «Следующий дополнительный бланк ответов №2» вносится цифровое значение штрихкода следующего ДБО №2, расположенное под штрихкодом бланка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74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 поле «Лист №  » вносится порядковый номер листа работы участника ЕГЭ (листом №1 является основной бланк ответов №2, который участник ЕГЭ получил в составе индивидуального комплекта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е «Резерв-9» не заполня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E:\Презентации\2008\13-14 марта\Бланки ЕГЭ 2008 доп 2 верх.jpg"/>
          <p:cNvPicPr/>
          <p:nvPr/>
        </p:nvPicPr>
        <p:blipFill>
          <a:blip r:embed="rId1"/>
          <a:stretch/>
        </p:blipFill>
        <p:spPr>
          <a:xfrm>
            <a:off x="5076720" y="115920"/>
            <a:ext cx="3816360" cy="1263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600"/>
                            </p:stCondLst>
                            <p:childTnLst>
                              <p:par>
                                <p:cTn id="4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100"/>
                            </p:stCondLst>
                            <p:childTnLst>
                              <p:par>
                                <p:cTn id="4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7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600"/>
                            </p:stCondLst>
                            <p:childTnLst>
                              <p:par>
                                <p:cTn id="4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100"/>
                            </p:stCondLst>
                            <p:childTnLst>
                              <p:par>
                                <p:cTn id="4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5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600"/>
                            </p:stCondLst>
                            <p:childTnLst>
                              <p:par>
                                <p:cTn id="4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100"/>
                            </p:stCondLst>
                            <p:childTnLst>
                              <p:par>
                                <p:cTn id="4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3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990033"/>
                </a:solidFill>
                <a:uFillTx/>
                <a:latin typeface="Times New Roman"/>
                <a:hlinkClick r:id="rId1"/>
              </a:rPr>
              <a:t>Бланк ответов №1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 выборе ответа на задания типа 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можно выбрать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ольк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ди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вариант ответа, пометив его крестиком «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». Линия метки («крестик») в полях не должна быть слишком толстой. Если ручка оставляет слишком толстую линию, то вместо крестика в поле нужно провести только одну диагональ квадрата (любу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2"/>
          <a:stretch/>
        </p:blipFill>
        <p:spPr>
          <a:xfrm>
            <a:off x="5003640" y="1773360"/>
            <a:ext cx="3122640" cy="4443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При ответе на задания типа В</a:t>
            </a: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990033"/>
                </a:solidFill>
                <a:uFillTx/>
                <a:latin typeface="Times New Roman"/>
              </a:rPr>
              <a:t>следует соблюдать следующее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473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раткий ответ можно давать только в виде слова, одного целого числа или комбинации букв и цифр (если в инструкции по выполнению работы не указано, что ответ можно дать с использованием запятых для записи ответа в виде десятичной дроби или в виде перечисления требуемых в задании пунктов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аждая цифра, буква, запятая или знак минус (если число отрицательное) записывается в отдельную клеточку, строго по образцу из верхней части блан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е разрешается использовать при записи ответа на задания типа В никаких иных символов, кроме символов кириллицы, латиницы, арабских цифр, запятой и знака дефис (минус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если требуется написать термин, состоящий из двух и более слов, то его нужно записать отдельно – через пробел или дефис (как требуют правила правописания), но не использовать какого-либо разделителя (запятая и пр.), если в инструкции по выполнению работы не указана другая форма написания ответа на данное задание. Если в таком термине окажется букв больше, чем клеточек в поле для ответа, то вторую часть термина можно писать более убористо. Термин следует писать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полностью. Любые сокращения запрещены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3280" y="1600200"/>
            <a:ext cx="4321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если кратким ответом должно быть слово, пропущенное в некотором предложении, то это слово нужно писать в той форме (род, число, падеж и т.п.), в которой оно должно стоять в предложен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если числовой ответ получается в виде дроби, то ее следует округлить до целого числа по правилам округления, если в инструкции по выполнению работы не требуется записать ответ в виде десятичной дроби (например: 2, 3 округляется до 2; 2, 5 – до 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ответе, записанном в виде десятичной дроби, в качестве разделителя следует указывать запятую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писывать ответ в виде математического выражения или формулы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запрещаетс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нельз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писать названия единиц измерения (градусы, проценты, метры, тонны и т.д.),  недопустимы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заголовки или комментарии к ответу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5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5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500"/>
                            </p:stCondLst>
                            <p:childTnLst>
                              <p:par>
                                <p:cTn id="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45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5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6500"/>
                            </p:stCondLst>
                            <p:childTnLst>
                              <p:par>
                                <p:cTn id="5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7500"/>
                            </p:stCondLst>
                            <p:childTnLst>
                              <p:par>
                                <p:cTn id="5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85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1628280"/>
            <a:ext cx="805968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33"/>
                </a:solidFill>
                <a:uFillTx/>
                <a:latin typeface="Times New Roman"/>
              </a:rPr>
              <a:t>За 30 минут</a:t>
            </a:r>
            <a:r>
              <a:rPr b="0" lang="en-US" sz="4000" spc="-1" strike="noStrike" u="sng">
                <a:solidFill>
                  <a:srgbClr val="990033"/>
                </a:solidFill>
                <a:uFillTx/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990033"/>
                </a:solidFill>
                <a:uFillTx/>
                <a:latin typeface="Times New Roman"/>
              </a:rPr>
              <a:t>до окончания экзамена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990033"/>
                </a:solidFill>
                <a:latin typeface="Times New Roman"/>
              </a:rPr>
              <a:t>организатор делает объявление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990033"/>
                </a:solidFill>
                <a:latin typeface="Times New Roman"/>
              </a:rPr>
              <a:t>о том, что до конца экзамена осталось 30 минут!</a:t>
            </a:r>
            <a:br>
              <a:rPr sz="2000"/>
            </a:br>
            <a:r>
              <a:rPr b="1" i="1" lang="en-US" sz="2000" spc="-1" strike="noStrike">
                <a:solidFill>
                  <a:srgbClr val="990033"/>
                </a:solidFill>
                <a:latin typeface="Times New Roman"/>
              </a:rPr>
              <a:t>Примечание.</a:t>
            </a:r>
            <a:r>
              <a:rPr b="0" i="1" lang="en-US" sz="2000" spc="-1" strike="noStrike">
                <a:solidFill>
                  <a:srgbClr val="330033"/>
                </a:solidFill>
                <a:latin typeface="Times New Roman"/>
              </a:rPr>
              <a:t> Если участник ЕГЭ выполнил работу ранее установленного срока, то организаторы могут принимать экзаменационные материалы до окончания экзамена. При этом участники ЕГЭ могут покинуть аудиторию и ППЭ. Досрочная сдача экзаменационных материалов </a:t>
            </a:r>
            <a:r>
              <a:rPr b="1" i="1" lang="en-US" sz="2000" spc="-1" strike="noStrike">
                <a:solidFill>
                  <a:srgbClr val="330033"/>
                </a:solidFill>
                <a:latin typeface="Times New Roman"/>
              </a:rPr>
              <a:t>прекращается за 15 минут до окончания экзамена, при этом в аудитории должно оставаться до официального завершения экзамена не менее 3-х участников ЕГЭ.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4" name="Picture 5" descr="j0234131"/>
          <p:cNvPicPr/>
          <p:nvPr/>
        </p:nvPicPr>
        <p:blipFill>
          <a:blip r:embed="rId1"/>
          <a:stretch/>
        </p:blipFill>
        <p:spPr>
          <a:xfrm>
            <a:off x="3851280" y="115920"/>
            <a:ext cx="1728720" cy="1297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Times New Roman"/>
              </a:rPr>
              <a:t>Общее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098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ри проведении ЕГЭ 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009 году используютс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дивидуальные комплекты с экзаменационными материалами (ИК), содержащие уникальные варианты К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ополнительные бланки ответов №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Чернов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мплекты возвратных доставочных пак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Каждый ИК содержи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К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Бланк регистр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Бланк ответов №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Бланк ответов №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E:\Презентации\2008\13-14 марта\RUS_01_2007.png"/>
          <p:cNvPicPr/>
          <p:nvPr/>
        </p:nvPicPr>
        <p:blipFill>
          <a:blip r:embed="rId1"/>
          <a:stretch/>
        </p:blipFill>
        <p:spPr>
          <a:xfrm>
            <a:off x="6300720" y="3645000"/>
            <a:ext cx="2376720" cy="1865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E:\мониторинг\Бланки ЕГЭ\2008\Проект\Картинки\На утверждение\05-03-08\Бланки ЕГЭ 2008 2.jpg"/>
          <p:cNvPicPr/>
          <p:nvPr/>
        </p:nvPicPr>
        <p:blipFill>
          <a:blip r:embed="rId2"/>
          <a:stretch/>
        </p:blipFill>
        <p:spPr>
          <a:xfrm>
            <a:off x="7236000" y="4437000"/>
            <a:ext cx="1358640" cy="1871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E:\мониторинг\Бланки ЕГЭ\2008\Проект\Картинки\На утверждение\05-03-08\Бланки ЕГЭ 2008 1.jpg"/>
          <p:cNvPicPr/>
          <p:nvPr/>
        </p:nvPicPr>
        <p:blipFill>
          <a:blip r:embed="rId3"/>
          <a:stretch/>
        </p:blipFill>
        <p:spPr>
          <a:xfrm>
            <a:off x="5724360" y="4437000"/>
            <a:ext cx="1368720" cy="1871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8" descr=""/>
          <p:cNvPicPr/>
          <p:nvPr/>
        </p:nvPicPr>
        <p:blipFill>
          <a:blip r:embed="rId4"/>
          <a:stretch/>
        </p:blipFill>
        <p:spPr>
          <a:xfrm>
            <a:off x="4211640" y="4437000"/>
            <a:ext cx="1297080" cy="1871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300"/>
                            </p:stCondLst>
                            <p:childTnLst>
                              <p:par>
                                <p:cTn id="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800"/>
                            </p:stCondLst>
                            <p:childTnLst>
                              <p:par>
                                <p:cTn id="3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9600"/>
                            </p:stCondLst>
                            <p:childTnLst>
                              <p:par>
                                <p:cTn id="3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1500"/>
                            </p:stCondLst>
                            <p:childTnLst>
                              <p:par>
                                <p:cTn id="4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2400"/>
                            </p:stCondLst>
                            <p:childTnLst>
                              <p:par>
                                <p:cTn id="5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4700"/>
                            </p:stCondLst>
                            <p:childTnLst>
                              <p:par>
                                <p:cTn id="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6000"/>
                            </p:stCondLst>
                            <p:childTnLst>
                              <p:par>
                                <p:cTn id="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6600"/>
                            </p:stCondLst>
                            <p:childTnLst>
                              <p:par>
                                <p:cTn id="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7850"/>
                            </p:stCondLst>
                            <p:childTnLst>
                              <p:par>
                                <p:cTn id="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9000"/>
                            </p:stCondLst>
                            <p:childTnLst>
                              <p:par>
                                <p:cTn id="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920" y="1916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990033"/>
                </a:solidFill>
                <a:latin typeface="Times New Roman"/>
              </a:rPr>
              <a:t>Действия</a:t>
            </a:r>
            <a:r>
              <a:rPr b="1" lang="en-US" sz="5200" spc="-1" strike="noStrike">
                <a:solidFill>
                  <a:srgbClr val="990033"/>
                </a:solidFill>
                <a:latin typeface="Times New Roman"/>
              </a:rPr>
              <a:t> организатора </a:t>
            </a:r>
            <a:r>
              <a:rPr b="1" lang="en-US" sz="5200" spc="-1" strike="noStrike" u="sng">
                <a:solidFill>
                  <a:srgbClr val="990033"/>
                </a:solidFill>
                <a:uFillTx/>
                <a:latin typeface="Times New Roman"/>
              </a:rPr>
              <a:t>после завершения экзамена</a:t>
            </a:r>
            <a:r>
              <a:rPr b="1" lang="en-US" sz="5200" spc="-1" strike="noStrike">
                <a:solidFill>
                  <a:srgbClr val="990033"/>
                </a:solidFill>
                <a:latin typeface="Times New Roman"/>
              </a:rPr>
              <a:t> в аудитории:</a:t>
            </a:r>
            <a:endParaRPr b="0" lang="en-US" sz="5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6" name="Picture 7" descr="j0233018"/>
          <p:cNvPicPr/>
          <p:nvPr/>
        </p:nvPicPr>
        <p:blipFill>
          <a:blip r:embed="rId1"/>
          <a:stretch/>
        </p:blipFill>
        <p:spPr>
          <a:xfrm>
            <a:off x="3276720" y="4437000"/>
            <a:ext cx="309564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914400" y="1600200"/>
          <a:ext cx="7772400" cy="485316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197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Организатор  объявляет участникам ЕГЭ о завершении экзамена и просит все материалы положить на край рабочего стол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 этом все оставшиеся участники ЕГЭ должны оставаться на своих местах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Использованные КИМы необходимо вложить обратно в конверт ИК!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Организаторы аудитории самостоятельно собирают со столов участников ЕГЭ экзаменационные материалы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верты с КИМами, листы черновиков, бланк регистрации и бланки ответов № 1 и № 2, в том числе дополнительные бланки ответов № 2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, </a:t>
                      </a:r>
                      <a:r>
                        <a:rPr b="0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тавя при этом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990033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бланке ответов № 2 (в том числе и на его оборотной стороне) и в дополнительном бланке ответов № 2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прочерк</a:t>
                      </a:r>
                      <a:r>
                        <a:rPr b="1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 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«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Z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»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на полях бланка, предназначенных для записи ответов в свободной форме, но оставшихся незаполненными (свободными от записей участника ЕГЭ);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990033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на пропуске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организатор фиксирует 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сданных участником ЕГЭ бланков, ставит свою 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пись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а также, в случае наличия в аудитории,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штамп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«Бланки ЕГЭ сданы» (печать учреждения, на базе которого организуется ППЭ).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8" name="Picture 38" descr="j0292020"/>
          <p:cNvPicPr/>
          <p:nvPr/>
        </p:nvPicPr>
        <p:blipFill>
          <a:blip r:embed="rId1"/>
          <a:stretch/>
        </p:blipFill>
        <p:spPr>
          <a:xfrm>
            <a:off x="1042920" y="189000"/>
            <a:ext cx="1868400" cy="1152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755280" y="189000"/>
            <a:ext cx="80643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итогам сбора экзаменационных материалов у участников ЕГЭ организатор формируе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я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топок материал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ланки регистр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ланки ответов №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ланки ответов № 2, в том числе дополнительные бланки ответов №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И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рнов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6560" y="2421000"/>
            <a:ext cx="7921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присутствии участников ЕГЭ (не менее 3-х человек)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организат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ересчитывае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бланки регистрации, бланки ответов № 1, бланки ответов № 2, в том числе дополнительные бланки ответов № 2 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печатывае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х в </a:t>
            </a:r>
            <a:r>
              <a:rPr b="0" lang="ru-RU" sz="2000" spc="-1" strike="noStrike">
                <a:solidFill>
                  <a:srgbClr val="990033"/>
                </a:solidFill>
                <a:latin typeface="Times New Roman"/>
              </a:rPr>
              <a:t>три возвратных доставочных паке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 маркировкой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для бланков регистрации,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№ 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для бланков ответов № 1,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№ 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для бланков ответов № 2, в том числе дополнительных бланков ответов № 2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это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прещается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ользовать при упаковке бланков какие-либо иные пакеты вместо выданных руководителем ППЭ до начала экзамена специально предназначенных возвратных доставочных пакет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кладывать в доставочные пакеты вместе с бланками ответов какие-либо другие материал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реплять бланки (скрепками, степлерами и т.п.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нять ориентацию бланков в доставочном пакете (верх – низ, лицевая – оборотная сторон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3000"/>
                            </p:stCondLst>
                            <p:childTnLst>
                              <p:par>
                                <p:cTn id="61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4000"/>
                            </p:stCondLst>
                            <p:childTnLst>
                              <p:par>
                                <p:cTn id="61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0"/>
                            </p:stCondLst>
                            <p:childTnLst>
                              <p:par>
                                <p:cTn id="62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4360" y="188640"/>
            <a:ext cx="7858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Организато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клеивает на специально отведенное место возвратного доставочного пакета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опроводительный блан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а 11-ППЭ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, в котором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тмечает информацию 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егионе, ППЭ, аудитории, предмете, количестве бланков в доставочном пакете, ответственном организаторе по ауди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ользованные КИМы, черновики, испорченные и имеющие полиграфические дефекты экзаменационные материалы пересчитываются, запечатываются в бумажные конверты (или другой упаковочный материал) и подписыв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чание: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На упаковочных конвертах следует разместить следующую информацию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0033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дата проведения ЕГЭ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0033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код ППЭ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0033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номер аудитори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0033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редмет ЕГЭ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На пакетах должна быть подпись ответственного организатора и ее расшифровк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Организато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беспечивает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рганизованный выход участников ЕГЭ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з ауди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Организатор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анчивает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формление протокола проведения ЕГЭ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аудитори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форма 12-ППЭ, Приложение 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и сдает все собранные материалы и протоколы руководителю ППЭ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е позднее, чем спустя 15 мину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осле завершения экзамена в ауди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ОТВЕТСТВЕННЫЙ ОРГАНИЗАТОР в АУДИТОРИИ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00000" y="206028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:00 – демонстрирует участникам ЕГЭ целостность упаковки доставочного пакета с 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ккуратно вскрывает пакет, в котором находятся 15 ИК, фиксирует дату и время вскрытия в протоколе проведения ЕГЭ в аудитории (форма 12-ППЭ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здаёт ИК и черновики участникам экзамена в соответствии с фактическим числом участников ЕГЭ, находящихся в аудитор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аёт указание участникам ЕГЭ вскрыть ИК и проверить их содержим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796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8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98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98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УЧАСТНИК ЕГЭ в аудитории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425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Проверяет целостность ИК и аккуратно вскрывает конверт!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В конверте должны быть КИМ, бланк регистрации, бланк №1, бланк №2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Проверяет отсутствие типографского брака и наличие всех бланков в конверте!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В случае обнаружения участником ЕГЭ в ИК лишних (или недостающих бланков) ЕГЭ и КИМов, а также наличия в них полиграфических дефектов, необходимо 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полностью 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заменить ИК. Факт замены следует зафиксировать в протоколе проведения ЕГЭ в аудитории (форма 12-ППЭ)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Совместно с организатором аудитории проверяют, чтобы индивидуальные номера, расположенные на пакете ИК, КИМ и бланке регистрации участника ЕГЭ совпали!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В случае несовпадения указанных цифровых значений штрихкода или типографского брака участник ЕГЭ обращается к организатору и получает другой И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6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6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33"/>
                </a:solidFill>
                <a:latin typeface="Times New Roman"/>
              </a:rPr>
              <a:t>ЗАПОЛНЕНИЕ   БЛАНКОВ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ланки ЕГЭ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заполняются ярким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черны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рнилами. Допускается использовани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елев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апиллярной ру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33"/>
                </a:solidFill>
                <a:uFillTx/>
                <a:latin typeface="Times New Roman"/>
              </a:rPr>
              <a:t>Категорически запрещается</a:t>
            </a:r>
            <a:r>
              <a:rPr b="0" lang="ru-RU" sz="2800" spc="-1" strike="noStrike" u="sng">
                <a:solidFill>
                  <a:srgbClr val="990033"/>
                </a:solidFill>
                <a:uFillTx/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лать в полях бланков, вне полей бланков или в полях, заполненных типографским способом, какие-либо записи и пометки, не относящиеся к содержанию полей бланков;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 штрихкоде ничего не пишется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!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для заполнения цветные ручки вместо черной, карандаш, средства для исправления («замазку» и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лать пометки о личности участника ЕГЭ на бланках ответов №1 и №2, а также на дополнительном бланке ответов №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Times New Roman"/>
              </a:rPr>
              <a:t>Бланк регистрации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3280" y="1599840"/>
            <a:ext cx="4043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тветственный организатор проводит инструктаж и дает указание участникам ЕГЭ заполнить все пол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ерхней части бланк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регистрации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 помощью заранее подготовленной на доске информаци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кроме полей для служебного использования «Служебная отметка», «Резерв-1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990033"/>
              </a:buClr>
              <a:buSzPct val="9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Примечание.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 Каждое поле в бланках заполняется, начиная с первой позиции (в том числе и поля для занесения фамилии, имени и отчества участника ЕГЭ). Если участник ЕГЭ не имеет информации для заполнения поля, он должен оставить его пустым (не делать прочерков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367200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00"/>
                            </p:stCondLst>
                            <p:childTnLst>
                              <p:par>
                                <p:cTn id="2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00"/>
                            </p:stCondLst>
                            <p:childTnLst>
                              <p:par>
                                <p:cTn id="20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600"/>
                            </p:stCondLst>
                            <p:childTnLst>
                              <p:par>
                                <p:cTn id="2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Times New Roman"/>
              </a:rPr>
              <a:t>* Бланки регистрации *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810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2009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5796000" y="2060640"/>
            <a:ext cx="2952720" cy="4464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E:\мониторинг\Бланки ЕГЭ\2008\Проект\Картинки\На утверждение\05-03-08\Бланки ЕГЭ 2008 Р.jpg"/>
          <p:cNvPicPr/>
          <p:nvPr/>
        </p:nvPicPr>
        <p:blipFill>
          <a:blip r:embed="rId2"/>
          <a:stretch/>
        </p:blipFill>
        <p:spPr>
          <a:xfrm>
            <a:off x="1835280" y="2133720"/>
            <a:ext cx="2952720" cy="4390920"/>
          </a:xfrm>
          <a:prstGeom prst="rect">
            <a:avLst/>
          </a:prstGeom>
          <a:ln w="0">
            <a:noFill/>
          </a:ln>
        </p:spPr>
      </p:pic>
      <p:sp>
        <p:nvSpPr>
          <p:cNvPr id="121" name="Oval 10"/>
          <p:cNvSpPr/>
          <p:nvPr/>
        </p:nvSpPr>
        <p:spPr>
          <a:xfrm>
            <a:off x="5651640" y="5734080"/>
            <a:ext cx="3241440" cy="863640"/>
          </a:xfrm>
          <a:prstGeom prst="ellipse">
            <a:avLst/>
          </a:prstGeom>
          <a:noFill/>
          <a:ln w="316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2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637"/>
                            </p:stCondLst>
                            <p:childTnLst>
                              <p:par>
                                <p:cTn id="226" nodeType="afterEffect" fill="hold" presetClass="entr" presetID="21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637"/>
                            </p:stCondLst>
                            <p:childTnLst>
                              <p:par>
                                <p:cTn id="2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637"/>
                            </p:stCondLst>
                            <p:childTnLst>
                              <p:par>
                                <p:cTn id="2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8037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37"/>
                            </p:stCondLst>
                            <p:childTnLst>
                              <p:par>
                                <p:cTn id="2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14400" y="249192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д региона – 52 (см. памятку с кодировкой, выданную руководителем ППЭ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д образовательного учреждения (код образовательного учреждения, в котором обучается выпускник (код образовательного учреждения, в котором поступающий получил пропуск на ЕГЭ), см. памятку с кодировкой, выданную руководителем ППЭ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ласс: номер, буква (учащиеся школ указывают, например, 11А, 12Б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д ППЭ (см. памятку с кодировкой, выданную руководителем ППЭ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омер ауди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ата проведения ЕГЭ в клеточках  ДД – пишем день (например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9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 в клеточках ММ – пишем месяц (например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д предмета (в соответствии с принятой кодировкой, см. памятку с кодировкой, выданную руководителем ППЭ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звание предмета (название предмета, по которому проводится ЕГЭ (возможно в сокращении), например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атемати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7497720" cy="2089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E:\мониторинг\Бланки ЕГЭ\2008\Проект\Заполненные\Картинки\Р-1-3-1.jpg"/>
          <p:cNvPicPr/>
          <p:nvPr/>
        </p:nvPicPr>
        <p:blipFill>
          <a:blip r:embed="rId1"/>
          <a:stretch/>
        </p:blipFill>
        <p:spPr>
          <a:xfrm>
            <a:off x="826920" y="189000"/>
            <a:ext cx="7562880" cy="2076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E:\мониторинг\Бланки ЕГЭ\2008\Проект\Картинки\На утверждение\Нарезка\Бланки ЕГЭ 2008 Р-4.jpg"/>
          <p:cNvPicPr/>
          <p:nvPr/>
        </p:nvPicPr>
        <p:blipFill>
          <a:blip r:embed="rId2"/>
          <a:stretch/>
        </p:blipFill>
        <p:spPr>
          <a:xfrm>
            <a:off x="1835280" y="4581360"/>
            <a:ext cx="5889600" cy="21625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2492280"/>
            <a:ext cx="806616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Средняя часть бланка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заполняется участником ЕГЭ</a:t>
            </a:r>
            <a:r>
              <a:rPr b="0" lang="en-US" sz="16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990033"/>
                </a:solidFill>
                <a:uFillTx/>
                <a:latin typeface="Times New Roman"/>
              </a:rPr>
              <a:t>самостоятельно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(</a:t>
            </a:r>
            <a:r>
              <a:rPr b="0" lang="en-US" sz="1200" spc="-1" strike="noStrike">
                <a:solidFill>
                  <a:srgbClr val="330033"/>
                </a:solidFill>
                <a:latin typeface="Times New Roman"/>
              </a:rPr>
              <a:t>кроме полей для служебного использования «Резерв-2», «Резерв-3» и «Резерв-4»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). Участник ЕГЭ знакомится с краткой инструкцией по определению целостности индивидуального комплекта участника ЕГЭ (</a:t>
            </a:r>
            <a:r>
              <a:rPr b="0" lang="en-US" sz="1200" spc="-1" strike="noStrike">
                <a:solidFill>
                  <a:srgbClr val="330033"/>
                </a:solidFill>
                <a:latin typeface="Times New Roman"/>
              </a:rPr>
              <a:t>в бланке регистрации начинается со слов: «До начала работы с бланками ответов следует:»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)</a:t>
            </a:r>
            <a:r>
              <a:rPr b="0" lang="en-US" sz="1200" spc="-1" strike="noStrike">
                <a:solidFill>
                  <a:srgbClr val="330033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После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окончания заполнения бланка регистрации и выполнения всех пунктов краткой инструкции по определению целостности индивидуального комплекта, участник ЕГЭ ставит свою подпись на бланке регистрации в специально отведенном для этого поле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med">
    <p:strips dir="ru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1:02:35Z</dcterms:created>
  <dc:creator>irina</dc:creator>
  <dc:description/>
  <dc:language>en-US</dc:language>
  <cp:lastModifiedBy>user</cp:lastModifiedBy>
  <dcterms:modified xsi:type="dcterms:W3CDTF">2009-05-25T17:06:02Z</dcterms:modified>
  <cp:revision>22</cp:revision>
  <dc:subject/>
  <dc:title>ПАМЯТКА ДЛЯ ОРГАНИЗАТОРОВ АУДИТОРИИ</dc:title>
</cp:coreProperties>
</file>