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B968-840D-4034-B62C-4FF6B2726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EBAF-63FB-42B1-BB71-440E3DDC7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16B2-D8BA-459B-AF7F-1F44D0BEC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400A-42E8-44E2-B7B3-EBB6E4A12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C48B-219E-4A15-AFD5-108BCA47B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F916-56F9-4072-9498-0E318EA46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4539-C63E-4CCC-8E65-D61D58E69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5E27-089F-46C6-BD94-C9B19A746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C48A-B229-4515-88AE-BECC4BF16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9B92-E0FA-411A-A9DD-563985BF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AE0C-16B9-4ADC-871D-C4AD0115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09AE-1F75-45EA-BB0F-B96E6977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6600cc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59C81-582A-46A7-B7CC-BF79D6231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6600cc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Результаты экспериментального тестирования по математике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учащихся 11-х классов 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ОУ г. Сар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6 апреля 2007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6600cc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NB</a:t>
            </a: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А7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– нахождение множества значений функц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6600cc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Результаты выполнения заданий (часть 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376280"/>
          <a:ext cx="8381880" cy="506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76280"/>
                    <a:ext cx="8381880" cy="506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6600cc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NB</a:t>
            </a: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В11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– решение планиметрической 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С1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– тригонометрическое уравн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С2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- логарифмическое уравн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6600cc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Результаты выполнения заданий (часть 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533520" y="1566720"/>
          <a:ext cx="8001000" cy="512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566720"/>
                    <a:ext cx="8001000" cy="512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6600cc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NB</a:t>
            </a: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С3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– система уравн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С4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– стереометрическа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С5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– уравнение с параметр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6600cc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Предло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овести анализ результатов тестирования в м/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зучить содержание Методических писем о преподавании в средней школе с учётом результатов единого государственного экзамена 2006 года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Исх. от 12.02.2007 N 03-268)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пределить пути обеспечения необходимого уровня обязательной подготовки каждому учащему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едседателям м/о провести консультации по темам, вызвавшим наибольшие затруд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6600cc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оценить общеобразовательную подготовку по математике выпускников Х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(Х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) классов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- выделить проблемы в обучении математике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- скорректировать планы работы м/о на 2007/08 учебный год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6600cc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Численность участн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2286000"/>
          <a:ext cx="8229600" cy="2416320"/>
        </p:xfrm>
        <a:graphic>
          <a:graphicData uri="http://schemas.openxmlformats.org/drawingml/2006/table">
            <a:tbl>
              <a:tblPr/>
              <a:tblGrid>
                <a:gridCol w="3048120"/>
                <a:gridCol w="3352680"/>
                <a:gridCol w="1828800"/>
              </a:tblGrid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Общеобразо-вательные класс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Математические класс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Всег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6600cc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Оцен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128680" y="3543480"/>
          <a:ext cx="695520" cy="63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8680" y="3543480"/>
                    <a:ext cx="695520" cy="63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457200" y="1198440"/>
          <a:ext cx="8229600" cy="5278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198440"/>
                    <a:ext cx="8229600" cy="527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6600cc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Соотношение оценок в ООК и М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143000" y="1512720"/>
          <a:ext cx="7162920" cy="5018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512720"/>
                    <a:ext cx="7162920" cy="50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6600cc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Всего 26 зада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600200"/>
          <a:ext cx="8229600" cy="5003640"/>
        </p:xfrm>
        <a:graphic>
          <a:graphicData uri="http://schemas.openxmlformats.org/drawingml/2006/table">
            <a:tbl>
              <a:tblPr/>
              <a:tblGrid>
                <a:gridCol w="1828800"/>
                <a:gridCol w="6400800"/>
              </a:tblGrid>
              <a:tr h="173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Часть 1     </a:t>
                      </a:r>
                      <a:r>
                        <a:rPr b="1" lang="en-US" sz="3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«3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алгебраических заданий, минимум содержания курса "Алгебра и начала анализа 10-11 класс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Часть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«4» - «5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заданий повышенного (по сравнению с базовым) уровня, алгебра и начала анализа 10-11 классов + математика основной школы + геометрия основной и средней (полной) школы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Часть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«5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ри самых сложных задачи (две – алгебраических и одну – геометрическую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6600cc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ФОРМА ОТВ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600200"/>
          <a:ext cx="8229600" cy="4676760"/>
        </p:xfrm>
        <a:graphic>
          <a:graphicData uri="http://schemas.openxmlformats.org/drawingml/2006/table">
            <a:tbl>
              <a:tblPr/>
              <a:tblGrid>
                <a:gridCol w="1828800"/>
                <a:gridCol w="6400800"/>
              </a:tblGrid>
              <a:tr h="173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Часть 1     </a:t>
                      </a:r>
                      <a:r>
                        <a:rPr b="1" lang="en-US" sz="3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«3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 выбором ответа (А1 – А10) и с кратким ответом (В1 – В3)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Часть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«4» - «5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 кратким ответом (В4 – В11) и с развернутым ответом (С1, С2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Часть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«5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только с развернутым ответом (С3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5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6600cc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СПЕЦИФИК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www.fipi.r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АЙТ ФЕДЕРАЛЬНОГО ИНСТИТУТА ПЕДАГОГИЧЕСКИХ ИЗМЕР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6600cc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Результаты выполнения заданий (часть 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28600" y="1523880"/>
          <a:ext cx="8763120" cy="51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3880"/>
                    <a:ext cx="87631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лад</cp:lastModifiedBy>
  <dcterms:modified xsi:type="dcterms:W3CDTF">2007-05-23T00:15:2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