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1AD-CF72-4B96-B07E-9396739E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A93-EA4E-4527-AF3A-3D8F95A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ED4-FD9A-4953-B131-D3D6616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606-E5ED-47EE-8575-66CDC537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A2A-2E05-448E-86CB-181A4C4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DD1-4CE2-45D5-8B12-4661D42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E16-D245-470E-9DE6-B62794B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2B3-621B-47CD-B96A-410BE38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577-C0E5-4F3D-90F3-5A42638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EC4-06DA-4712-9E36-1E2E82D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363-A9D7-4D9F-A7F2-DBED9E4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D0A-00C1-484D-903C-26CA48E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8BC-7C0F-4DAE-A106-35DAB91E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ge.edu.ru/" TargetMode="External"/><Relationship Id="rId2" Type="http://schemas.openxmlformats.org/officeDocument/2006/relationships/hyperlink" Target="http://www.obrnadzor.gov.ru/" TargetMode="External"/><Relationship Id="rId3" Type="http://schemas.openxmlformats.org/officeDocument/2006/relationships/hyperlink" Target="mailto:klv@obrnadzor.gov.ru" TargetMode="External"/><Relationship Id="rId4" Type="http://schemas.openxmlformats.org/officeDocument/2006/relationships/hyperlink" Target="mailto:vpa@obrnadzor.gov.ru" TargetMode="Externa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 вопросах приема в учреждения высшего и среднего профессионального образования в условиях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верева Ирина Альбертовна, консультант отдела науки, высшего и среднего профессионального образования министерства образования Нижегородской области, к.п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244-C906-4312-85F2-16AD1C0A4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риема и зачисления в ссузы и вузы по результатам ЕГЭ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организации приема в текущем году приемные комиссии ссузов и вузов объявля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1 февра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еречень вступительных испытаний по общеобразовательным предметам на каждое направление подготовки (специальность) с указанием вступительных испытаний, форма которых определяется ссузом или вузом в установленном порядке самостоятельно, а также перечень и форму вступительных испытаний для лиц, имеющих право на зачисление в ссуз или вуз по результатам уменьшенного количества испыт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1 ию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ичество баллов, которое необходимо набрать для зачисления поступающим, имеющим в соответствии с законодательством Российской Федерации в области образования право на внеконкурсное зачисление, – по каждому вступительному испыт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314-1CF8-45DD-BE36-BC3AD50D2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узы и вузы самостоятельно определяют форму вступительных испытаний только по тем общеобразовательным предметам, по которым в субъекте Российской Федерации, на территории которого они расположены, ЕГЭ не проводи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упающие, имеющие свидетельство о результатах ЕГЭ, могут подать документы в установленные сроки в один или несколько ссузов и/или вузов на различные направления подготовки (специа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BFF-E1CF-4BCC-B43B-35B1437CD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упающие вправе сдать свои документы в соответствии с установленным перечнем лично либо направить по почте заказным письмом с уведомлением и описью вложения. Уведомление и заверенная опись вложения являются основанием подтверждения приема документов поступаю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оригинал или копия свидетельства о результатах ЕГЭ не могут быть представлены на момент подачи заявления о приеме по объективным причинам, поступающий в заявлении указывает сведения о сдаче ЕГЭ и его результатах, а также причину отсутствия свидетельства о результатах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136-3819-4EF2-972F-BAB28C6FC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емные комиссии ссузов и вузов вправе отказать поступающему в приеме документов по причине недостаточного количества баллов, набранного им по результатам сдачи ЕГЭ по общеобразовательным предметам, соответствующим направлению подготовки (специальности), на которое осуществляется прием, только в случае представления поступающим результатов ЕГЭ, эквивалентных отметке «неудовлетворительно» в пятибалльной системе оценивания, используемой при выставлении отметок в аттестат о среднем (полном) общем образ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5C5-BB41-48D0-9E6B-CF7B9EDE8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ные комиссии ссузов и вузов обязаны осуществлять контроль за достоверностью сведений об участии в ЕГЭ, а также о результатах ЕГЭ, представляемых поступающ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формой контроля является направление в федеральную базу данных (свидетельств) о результатах ЕГЭ соответствующего запроса об участии поступающего в ЕГЭ, а также о подтверждении правильности сведений о результатах ЕГЭ, указанных поступающим или содержащихся в представленном им свидетельстве о результатах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ыявления при проверке, проводимой в порядке надзора Рособрнадзором, фактов проведения конкурса и неправомерного зачисления поступающего на основании представленных им недостоверных сведений о результатах ЕГЭ, студент подлежит отчислению в установленном порядке, а должностные лица, допустившие указанные нарушения, несут ответственность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459-AF06-497E-B372-603CEA78D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в ссузы и вузы проводится на основании результатов ЕГЭ и вступительных испытаний, форма которых определяется ссузами и вузами самостоятельно, по общеобразовательным предметам, соответствующим направлению подготовки (специальности), на которое осуществляется прием. При этом результаты ЕГЭ по всем общеобразовательным предметам, по которым проводится ЕГЭ на территории Российской Федерации, в случае представления их поступающим учитываются ссузами, вузами как результаты вступительных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проведения конкурса по результатам ЕГЭ и вступительных испытаний, проводимых в форме, определенной ссузом или вузом, должны гарантировать соблюдение равенства прав граждан на доступ к образованию и зачисление граждан, наиболее способных и подготовленных к освоению образовательной программы соответствующего 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C1D-C966-4DF5-BB3F-103D65AF2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-инвалиды, инвал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упп, которым согласно заключению федерального учреждения медико-социальной экспертизы не противопоказано обучение в соответствующих образовательных учреждениях, сдают вступительные испытания в форме и по материалам ЕГЭ на добровольной основе, в противном случае прием указанных лиц проводится по результатам вступительных испытаний, организуемых ссузами и вузами самостоя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6291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39640"/>
                <a:tab algn="l" pos="619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узы/вузы, участвующие в эксперименте, принимают свидетельства о результатах ЕГЭ, выданные как в субъекте Федерации, на территории которого они расположены, так и в других субъектах  Федерации. Свидетельства о результатах ЕГЭ, выданные в разных субъектах Федерации, равноцен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337-8958-4CD2-A5F5-5CDD7EF85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рганизации вступительных испытаний и зачисления в соответствии с Порядком приема в ссузы, Порядком приема в вузы, поступающие в ссузы/вузы, окончившие с медалями образовательные учреждения среднего (полного) общего или начального профессионального образования или с отличием образовательные учреждения среднего профессионального образования, а также поступающие в ссузы, имеющие диплом о начальном профессиональном образовании с отличием проходят вступительные испытания профессиональной направленности (профильные испытания) по общеобразовательным предметам, определенным в правилах при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, если указанные лиц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ли в ЕГЭ в мае-июне текущего года и набрали по данному общеобразовательному предмету установленное ссузом/вузом количество баллов, то они принимаются в ссуз/вуз по результатам ЕГЭ по профильным общеобразовательным предме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73A-E4E5-4889-A657-FA25FB79B7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аствовали в ЕГЭ в мае-июне текущего года по данному общеобразовательному предмету, то они сдают соответствующие вступительные испытания профессиональной направленности (профильные испытания) в форме и по материалам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упительные испытания в форме собеседования для них не провод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казанные лица имеют по результатам ЕГЭ или вступительного профильного испытания в форме и по материалам ЕГЭ меньшее количество баллов, чем установлено ссузом/вузом для зачисления по результатам вступительного профильного испытания, но не ниже границы удовлетворительной отметки, им предоставляется право дальнейшей сдачи вступительных испытаний и участия в конкурсе на общих основ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ADE-85D0-4AA2-B46A-1FB0235F9E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узы/вузы при приеме документов информируют поступающих о сроках и месте сдачи вступительных испытаний в форме и по материалам ЕГЭ, о порядке  ознакомления с результатами этих вступительных испытаний и о порядке подачи апелля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вступительных испытаний в форме и по материалам ЕГЭ вывешиваются в ППЭ, а также на информационном стенде и  веб-сайте ссуза/в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ающие, сдающие вступительные испытания в форме и по материалам ЕГЭ, имеют право подать в письменной форме апелляцию в конфликтную комиссию субъекта Федерации, на территории которого расположен ссуз/в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одачи и рассмотрения апелляции определяется Положением о проведении ЕГЭ и положением о конфликтной комиссии, утвержденным органом управления образованием соответствующего субъекта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узу/вузу  рекомендуется в правилах приема указать сроки и место приема апелля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елляционная комиссия ссуза/вуза не вправе принимать апелляции по процедуре и результатам вступительных испытаний в форме и по материалам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A0B-E8CB-419C-9223-087006A43E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вые основы проведения ЕГЭ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й закон от 9 февраля 2007 года № 17-ФЗ «О внесении изменений в Закон Российской Федерации «Об образовании» и Федеральный закон «О высшем и послевузовском профессиональном образовании» в части проведения единого государственного экза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о проведении единого государственного экзамена, утвержденное приказом Минобрнауки России от 05.02.2008 № 36 (зарегистрирован Минюстом России 29.02.2008, регистрационный № 112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 России от 15.02.2008 № 55 «Об утверждении формы свидетельства о результатах единого государственного экзамена» (зарегистрирован Минюстом России 29.02.2008 № 112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о государственной (итоговой) аттестации выпускник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классов общеобразовательных учреждений Российской Федерации, утвержденное приказом Минобразования России от 03.12.1999 № 1075 (зарегистрирован Минюстом России 17.02.2000, регистрационный № 2114) – действует в части, не урегулированной Положением о проведении единого государственного экзамена в 2008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219-8A6A-4053-8408-D8FF0A299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на общие и целевые места организуется раз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организации конкурса и зачисления поступающих ссузу/вузу рекомендуется установить до начала вступительных испыт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оличество баллов, которое необходимо набрать для за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ающим, окончившим с медалью образовательное учреждение среднего (полного) общего образования или начального профессионального образования, а также лицам, окончившим с отличием образовательные учреждения среднего профессионального образования, имеющим право на зачисление по результатам вступительных испытаний профессиональной направленности - на соответствующих вступительных профильных испыта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ающим, имеющим в соответствии с законодательством Российской Федерации право на внеконкурсное зачисление  - по каждому вступительному испыт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AD4-3884-44BB-839B-F06EB9C1C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шкалу перевода стобалльной системы оценивания результатов ЕГЭ в сопоставимую с системой оценивания, используемой в данном ссузе/ву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шкала, устанавливающая  границы удовлетворительной и отличной отметок (количества баллов), является единой  для поступающих вне конкурса и поступающих по различным условиям конкурса на соответствующее направление подготовки (специальность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ценивании результатов вступительных испытаний по общеобразовательным предметам, по которым вступительные испытания ссузом/вузом проводятся самостоятельно, рекомендуется использовать такж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балльную систему оцен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0E8-6903-4D13-9199-CA59FCA99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пределении шкал перевода баллов ссузу/вузу рекомендуется учит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данные о результатах сдачи ЕГЭ по общеобразовательным предметам в мае – июне текущего года как в субъекте Федерации, на территории которого они расположены, так и в Российской Федерации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ную ситуацию, сложившуюся на направления подготовки (специальности) вуза/ссуза в предыдущие 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дительные акты Рособрнадзора об установлении шкал перевода баллов в отметки при проведении ЕГЭ по общеобразовательным предметам в текущем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0CF-F94A-47DC-9C66-9745F8F913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и и призеры заключительного этапа Всероссийск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ады школьников и члены сборных команд Российской Федерации, участвовавших в международных олимпиадах по общеобразовательным предметам и сформированных в порядке, определяемом Правительством Российской Федерации, принимаются без вступительных испытаний на направления подготовки (специальности), соответствующие профилю олимпи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и и призеры регионального этапа предметной олимпиады обязаны представить в приемную комиссию вуза/ссуза свидетельство о результате ЕГЭ, диплом победителя (призе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74B-12D4-4667-AD3E-0A173317EA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 конкурса при условии успешной сдачи ЕГЭ и/или вступительных испытаний в форме и по материалам ЕГЭ (набора установленного ссузом/вузом количества баллов) в ссуз/вуз зачисляются поступающие, имеющие право на внеконкурсное зачисление в соответствии с законодательством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9B6-61CF-4E40-92B8-7220488DF3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олимпиад, проводимых вузами самостоятельно, не могут учитываться в качестве результатов вступительных испытаний. Поступающий, являющийся победителем такой олимпиады, может по решению ученого совета вуза иметь преимущественное право зачисления перед другими поступающими при одинаковом количестве набранных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централизованного тестирования не могут засчитываться в качестве результатов вступительных испытаний по общеобразовательным предметам, по которым проводится ЕГЭ на территории субъекта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8BD-CA47-4452-A699-F81C712E8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исление рекомендуется осуществлять поэтапно. В этом случае процедура зачисления включает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едение итогов конкурса, составление списка, прошедших конкурс, и списка резер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е оповещение поступающих, прошедших конкурс, и поступающих, включенных в список резер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подтверждений (подлинников документов) поступающих, прошедших конкур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ние приказа о зачис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поступающий по объективным причинам не может к установленному сроку представить свидетельство о результатах ЕГЭ, ссуз/вуз вправе провести зачисление на основании протоколов о результатах ЕГЭ, выданных Федеральным центром тестирования и утвержденных ГЭК, с последующим представлением поступающим подлинника свидетельства о результатах ЕГЭ в установленные ссузом/вузом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отказа ряда поступающих, прошедших конкурс, от зачисления в данный ссуз/вуз либо отсутствия своевременного подтверждения ими согласия (не представления в сроки, установленные правилами приема, подлинников документов) зачисление осуществляется из числа поступающих, включенных в список резер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10E-2C65-4C9E-98E5-646470F4AE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Порядка приема в ссузы, Порядка приема в вузы, ссуз/вуз устанавливает в правилах приема согласованные с советом ректоров вузов и советом директоров ссузов субъекта Федерации сроки зачисления поступающих по различным формам обучения с учетом рекомендуемой процедуры зачисления и особенностей проведения эксперимента в данном ссузе/ву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илах приема рекомендуется предусмотр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сроки зачисления на разные формы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зачисления на очно-заочную и заочную формы обучения поступающих, подавших заявления на очную форму обучения, но не прошедших по кон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организации дополнительного приема на очную, очно-заочную и заочную формы обучения в случае «недоб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D26-158C-4C38-9E14-62D781FB23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илах приема рекомендуется указать, что лица, не прошедшие по общему конкурсу и конкурсу на целевые места, могут участвовать в конкурсе и быть зачислены в ссуз/вуз на договорной основе с оплатой стоимости обучения юридическими или физическими л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детельство о результатах ЕГЭ дает право на поступление на конкурсной основе как на места, финансируемые из соответствующего бюджета, так и на места с оплатой стоимости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отказа от участия в конкурсе и/или зачисления подлинники документов об образовании должны возвращаться поступающему приемной комиссией ссуза/вуза  в течение следующего рабочего дня после получения соответствующего письменного заявления поступаю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прочие вопросы решаются приемной комиссией ссуза/вуза в соответствии с порядком и правилами при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6C9-279A-4D96-8B1B-C716E09791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руктивно-методическое обеспечение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и 2007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по оформлению, учету, хранению и уничтожению бланков свидетельств о результатах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по организации и проведению ЕГЭ для лиц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по приему и зачислению в ссузы и вузы по результатам ЕГЭ (приложение к письму Федеральной службы по надзору в сфере образования и науки от 06.03.2007 № 01-108/08-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4E6-B6C0-423C-AFA3-914CC11C30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приема в государственные образовательные учреждения высшего профессионального образования (высшие учебные заведения) Российской Федерации, учрежденные федеральными органами исполнительной власти, утвержденный приказом Минобразования России от 14.01.2003 № 50 (зарегистрирован Минюстом Росс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6.02.2003, регистрационный № 4188) - применяется в части, не противоречащей Положению о проведении единого государственного экзамена в 2008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приема в государственные и муниципальные образовательные учреждения среднего профессионального образования (средние специальные учебные заведения) Российской Федерации, утвержденный приказом Минобразования России от 09.12.2002 № 4304 (зарегистрирован Минюстом России 03.02.2003, регистрационный № 4169) - применяется в части, не противоречащей Положению о проведении единого государственного экзамена в 2008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7628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вые основы проведения ЕГЭ в 2008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BEB-1E44-4DC9-A11F-6F888970F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соблюдение нормативных а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части подготовки документов по организации приема и зачисления в учреждения высшего и среднего профессионального образования (далее - вузы/ссуз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оригиналов при приеме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информирование абитуриентов о порядке подачи и рассмотрения апелля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ение льгот неустановленным категориям граждан и отсутствие полного перечня лиц, имеющих право на внеконкурсное за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719-B407-4A37-90AC-4D14967ADE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Введение дополнительных и зачитывание не предусмотренных нормативными актами вступительных испытаний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Несвоевременное закрытие журналов регистра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Необоснованное предоставление права выбора формы вступительных испытан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Отсутствие права направления документов заказным письм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Отсутствие информации о контрольных цифрах прием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662-B5C4-44FE-9C39-43DEDEF263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ge.edu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рта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brnadzor.gov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айт Рособрнадз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контроля качества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lv@obrnadzor.gov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аваева Любовь Викто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608-66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pa@obrnadzor.gov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личенков Петр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608-70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038-E837-465C-844C-78398B3091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 науки, высшего и среднего профессионального образования министерства образования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аров Игорь Леонидович, т.434-3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рева Ирина Альбертовна, т.434-3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евникова Людмила Григорьевна, т/ф 434-17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komsci@sand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F11-4F07-4E2B-830A-46BB07E8B0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стник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ЕГЭ принимают участ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пускники текущего года, допущенные в установленном порядке к государственной (итоговой) аттестации по результатам освоения образовательных программ среднего (полного) общего образов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пускники прошлых лет, имеющие документ государственного образца об образовании, подтверждающий получение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ца, получившие среднее (полное) общее образование в иностранных образовательных учреждениях, допускаются к сдаче ЕГЭ при наличии у них документов иностранных государств об образовании, признанных в установленном порядке эквивалентными документам государственного образца Российской Федерации о среднем (полном) общем образ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гистрация участников ЕГЭ осуществляется в субъекте Российской Федерации в соответствии с организационно-территориальной схемой проведения ЕГЭ в субъекте Российской Федерации, определяемой органом исполнительной власти субъекта Российской Федерации, осуществляющим управление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BA2-0CE0-4427-9E55-E18D9FB69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ускники текущего года и прошлых лет сдают ЕГЭ, как правило, в субъекте Российской Федерации по месту прожива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лучае, если по месту проживания выпускника текущего года по общеобразовательным предметам, необходимым для поступления в выбранный ссуз или вуз, ЕГЭ не проводится, по его заявлению может быть предоставлено выпускнику право сдачи ЕГЭ в ином субъекте Российской Федерации, в котором ЕГЭ по данным общеобразовательным предметам проводится, при наличии согласия органов исполнительной власти  соответствующих субъектов Российской Федерации, осуществляющих управление в сфере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а, не имевшие по объективным причинам возможности участвовать в ЕГЭ в период проведения государственной (итоговой) аттестации и подавшие заявление о приеме в ссуз или вуз, сдают ЕГЭ в субъекте Российской Федерации по месту нахождения образовательного учреждения, в которое поступают, и по тем общеобразовательным предметам, по которым проводится ЕГЭ в данном субъекте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3960" y="4046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ник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FCD-E99D-4063-B2F7-88E8D5B82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проведения ЕГЭ в 2008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ГЭ проводится Рособрнадзором совместно с органами исполнительной власти субъектов Российской Федерации, осуществляющими управление в сфере образования, при участии общеобразовательных учреждений, ссузов и вузов, а также органов местного самоуправления, осуществляющих полномочия в сфере образов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оложении о проведении ЕГЭ в 2008 году определены основные функции, выполняемые Рособрнадзором, органами исполнительной власти субъектов Российской Федерации, осуществляющими управление в сфере образования, а также образовательными учреждениями при организации и проведении ЕГЭ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964-3EDE-4F77-91E4-BFC4E4283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детельство о результатах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ам ЕГЭ выдается свидетельство о результатах ЕГЭ, в свидетельстве указываются фамилия, имя, отчество (при наличии) участника ЕГЭ, результаты сдачи им ЕГЭ по русскому  языку в текущем году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рок действия такого свидетельства истекает 31 декабря года, следующего за годом его по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ам ЕГЭ - выпускникам текущего года свидетельства о результатах ЕГЭ выдаются образовательными учреждениями, в которых они осваивали образовательные программы среднего (полного) обще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ым участникам ЕГЭ свидетельства о результатах ЕГЭ выдаются  в зависимости от организационно-территориальной схемы проведения ЕГЭ в субъекте Российской Федерации - органом исполнительной власти субъекта Российской Федерации, осуществляющим управление в сфере образования, и (или) органами местного самоуправления, осуществляющими полномочия в сфер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A15-3CB8-4F74-9FE0-112D5D1D6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детельства о результатах ЕГЭ заверяются подписью руководителей образовательных учреждений (органа исполнительной власти субъекта Российской Федерации, осуществляющего управление в сфере образования, органов местного самоуправления, осуществляющих полномочия в сфере образования), выдавших свидетельство о результатах ЕГЭ, и печатью с изображением Государственного герб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скникам текущего года, сдававшим ЕГЭ, вместе со свидетельством о результатах ЕГЭ выдается аттестат о среднем (полном) общем образ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260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идетельство о результатах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820-177A-466B-B454-286253EE3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цам, проходившим военную службу по призыву и уволенным с военной службы, в течение года после увольнения с военной службы при поступлении в государственные образовательные учреждения высшего и среднего профессионального образования предоставляется право использовать результаты ЕГЭ, сданного ими в течение года до призыва на военную служ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FB9-15E3-476B-B7C9-B8224C19D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7:51:32Z</dcterms:created>
  <dc:creator>Игорь</dc:creator>
  <dc:description/>
  <dc:language>en-US</dc:language>
  <cp:lastModifiedBy>Админ</cp:lastModifiedBy>
  <dcterms:modified xsi:type="dcterms:W3CDTF">2008-03-24T05:57:14Z</dcterms:modified>
  <cp:revision>25</cp:revision>
  <dc:subject/>
  <dc:title>Правовые основы проведения ЕГЭ в 2008 году</dc:title>
</cp:coreProperties>
</file>