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253B-9464-46E8-BAD3-88FF20C9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CD68-5E24-4589-8878-D2754D42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A0D1-F3D4-42B5-8658-6C3B61A0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DACE-6317-4BFD-9D3E-6F5876F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5004-245D-42E0-951D-F9E1208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55ED-BCD9-4EA7-A36B-1FCE103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2B56-CD89-443C-933C-83DEB865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E18-D4FC-4DBC-9061-C926CDE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850-7153-4C7B-A038-28A15AA3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8B97-8F82-464D-BEC9-D2DD481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3CF-ECA5-4622-9D96-9AC8060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4D80-9B01-4C23-828D-76D6553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657F-28A6-43FC-A403-FFCB672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662-C179-401E-BDE6-31D3656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1870-75F3-45FD-9D21-9C09DB04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6C2-8249-4CEC-9D9A-42AD4C00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A2B-1351-4ADE-8BB6-01CFDDDE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9650-C8F1-498F-BFAB-AE69D481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66C6-7A34-43EC-8961-EEDCB7E2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7B7D-A7EF-40D7-BB9C-3AE7E0A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3521-D24C-4AAF-ACBE-9E43D1C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E9C4-55CB-47EB-A1C3-7360F57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7625-54AA-4D24-AC18-0A62DBE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CB78-B035-4D60-B467-CC1B949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8C4-998F-4BFD-9027-ADEE9EA148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F3C7-9682-46F2-8C87-2B4E97C4C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Организация и порядок проведения муниципального и регионального этапов Всероссийской олимпиады школьников            в 2009-2010 учебном году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CAB-0288-42F0-BC8B-2CEEEBF813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Нормативно-правовое обеспечение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ложение о Всероссийской олимпиаде школь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ложение о порядке проведения регионального этапа Всероссийской олимпиады школьников в Нижегородской области (приказ министерства образования Нижегородской области от 01.09.2008 г. №61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ложение о порядке проведения муниципального этапа Всероссийской олимпиады школьников( разрабатывается и утверждается органом, осуществляющим управление в сфере образования муниципального района и городского округа Нижегородской област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E2F2-0C53-4BCE-BF50-28DEDF9A2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ечень общеобразовательных предметов Олимпиа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строно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нглийский язы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и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стор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атемат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мецкий язы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Эк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бществозн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а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усский язы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ехн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изическая куль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ранцузский язы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и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0DBB-4D49-4887-A7B8-75A3CDF4D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Базовые высшие учебные заведе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ижегородский государственный университет им.Н.И.Лобачевского-13 олимпиа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ижегородский государственный лингвистический университ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.Н.А. Добролюбова-3 олимпиа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ижегородский государственный педагогический университет – 3 олимпиа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7FF2-AE1E-4F0D-A50D-2740140C31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егламент проведения Олимпиады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кольный этап-октябрь 2009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астники-учащиеся 5-11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униципальный этап- с 11ноября по 14 декабря 2009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астники-учащиеся 7-11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иональный этап- январь-февраль 2010г. Участники-учащиеся 9-11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аключительный этап-март-апрель 2010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астники-учащиеся 9-11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8EA4-2620-4225-98F6-D78461D2EF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ксты олимпиа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учащихс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7-11 класс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математика, русский язык, литература, физика, технология, астрономия, английский язык, географ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учащихс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8-11 класс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химия, физическая культура, французский язы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учащихс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9-11 класс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история, экология, немецкий язык, биология, информатика, обществознание, право, эконом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A792-A512-4EA3-94CF-97A281CF5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АЧАЛО ОЛИМПИАД -9.0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C998-D529-4264-B009-657577CA9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Документы, представляемые в областной Оргкомитет Олимпиад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тчёт о проведении муниципального этапа Олимпиады по предме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явка на участие в региональном этапе Олимпиады по предме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токол муниципального этапа Олимпиады по предме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боты победителей и призёров муниципального этапа Олимпиады по предме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формацию об участниках регионального этапа Олимпиады и педагогических работник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8BB-FD85-4EE7-BC4F-8631E45F6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фициальный сайт Всероссийской олимпиады школьн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ww.rusolymp.ru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D9DC-C025-4640-B93A-56E567AA0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8:45:57Z</dcterms:created>
  <dc:creator>Админ</dc:creator>
  <dc:description/>
  <dc:language>en-US</dc:language>
  <cp:lastModifiedBy>user</cp:lastModifiedBy>
  <dcterms:modified xsi:type="dcterms:W3CDTF">2009-10-29T18:09:05Z</dcterms:modified>
  <cp:revision>9</cp:revision>
  <dc:subject/>
  <dc:title>Организация и порядок проведения муниципального и регионального этапов Всероссийской олимпиады школьников в 2009-2010 уч.г.</dc:title>
</cp:coreProperties>
</file>