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8943-10C0-45DD-9FDE-9A321226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C1CF-B261-487C-9C7E-CF6735EE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D223-F590-4DD3-A711-E72C4720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C101-2D15-430A-93B3-87C33494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1620-81C1-4205-AADF-FC53AA75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3B94-5EF5-4CFB-9C98-E6757A86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EDCB-22D4-4081-8FA4-842A08DE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100E-FB7B-4453-8451-04C8C275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78D0-7CFF-4018-B4ED-A6C17E77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B07A-24D4-4300-9061-1EE778B1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DED9-D048-405A-9E8F-E1D4F7D2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67D-ABC0-433B-8221-3AFA4AC0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97FF-7639-44F0-B086-6F12090B30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7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ylfaen"/>
              </a:rPr>
              <a:t>Итоги проведения Всероссийской олимпиады школьников                                в 2008-2009 учебном году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Sylfaen"/>
              </a:rPr>
              <a:t>в Нижегородской обл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3C9-0D0E-4E7A-A493-9048CAA4EA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7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lfaen"/>
              </a:rPr>
              <a:t>Стабильност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lfaen"/>
              </a:rPr>
              <a:t>состава участников регионального этапа Олимпиады             2008-2009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776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Количество участ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Общее 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Общее количество участников 11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3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Из них повторно участвов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Участвовали три р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Общее количество участвующих повторно и третий р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Из числа повторно участвующ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1. Улучшившие результ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2. Выступающие стаби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3. Ухудшившие результ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F243-27ED-4095-9BD3-B4F375FC38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7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lfaen"/>
              </a:rPr>
              <a:t>Стабильность состава участников регионального этапа Олимпиад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Sylfaen"/>
              </a:rPr>
              <a:t>2008-2009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900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Количество участ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Общее колич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Общее количество участников 10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3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Из них участвовали повтор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Из числа повторно участвующих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1.Улучшили результ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2. Выступающие стабиль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3. Ухудшившие результ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5161-C0B9-4F9F-A1FC-E71209C380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7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lfaen"/>
              </a:rPr>
              <a:t>Количество участников регионального этапа Всероссийской олимпиады школьников по общеобразовательным предметам (челове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95280" y="1844640"/>
          <a:ext cx="835668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35668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4C8-1FA5-4C31-A0CC-8A3158B3E4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7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lfaen"/>
              </a:rPr>
              <a:t>Количество победителей по параллелям за два года (челове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65280" y="1828800"/>
          <a:ext cx="8140680" cy="40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280" y="1828800"/>
                    <a:ext cx="8140680" cy="40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8B0B-DA3C-492F-BCDB-4E6951FF00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7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lfaen"/>
              </a:rPr>
              <a:t>Количеств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lfaen"/>
              </a:rPr>
              <a:t>призеров по параллелям за два года (челове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95440" y="1828800"/>
          <a:ext cx="7953120" cy="40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828800"/>
                    <a:ext cx="795312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0BF5-CB6F-41EE-BC46-FE72F466D0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7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lfaen"/>
              </a:rPr>
              <a:t>Итоги проведения регионального этапа Всероссийской олимпиады школьников в 2007-2008, 2008- 2009 учебных год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1773360"/>
          <a:ext cx="8964720" cy="50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896472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E4F-99BB-42FA-9D96-167786100C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7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lfaen"/>
              </a:rPr>
              <a:t>Рейтинг районов по итогам участия в региональном этапе Всероссийской олимпиады школьник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07552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г. Саров Нижегород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2. г. Нижний Новгород (собственно городские учрежд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3. Автозаводский район г. Нижний Новг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4. Нижегородский район г. Нижний Новг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5. Советский район г. Нижний Новг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6. г. Дзержинск Нижегород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7. Сормовский район г. Нижний Новг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8. г. Арзамас Нижегород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9. Канавинский район г. Нижний Новг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10. Ленинский район г. Нижний Новг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03A7-8788-471C-99BD-849F75E6C8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7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lfaen"/>
              </a:rPr>
              <a:t>Количество нижегородцев – победителей и призёров Всероссийской олимпиады школьников за 2 года (челове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95280" y="2492280"/>
          <a:ext cx="82090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492280"/>
                    <a:ext cx="82090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90A0-0D85-4FC2-B73E-1EF1A05098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7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lfaen"/>
              </a:rPr>
              <a:t>Поддержка талантливой молодеж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lfaen"/>
              </a:rPr>
              <a:t>Премия Президента РФ – 30 </a:t>
            </a: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lfaen"/>
              </a:rPr>
              <a:t>Стипендия Нижегородской области –    8</a:t>
            </a: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lfaen"/>
              </a:rPr>
              <a:t>Стипендия им. академика Ю.Б. Харитона – 3 </a:t>
            </a: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lfaen"/>
              </a:rPr>
              <a:t>- Пушкинская стипендия – 5 </a:t>
            </a: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A2D4-52FC-43E7-B5CA-602FB6CA13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7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lfaen"/>
              </a:rPr>
              <a:t>Территории – лидеры, имеющие наивысшие командные показатели в заключительном этапе Всероссийской олимпиаде шк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г. 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г. Санкт-Петербу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Республика Татар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Москов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Челябин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Перм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Киров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Свердлов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Нижегород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Всего в России – 83 регион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FF4D-802C-4F9D-A08B-769FEFD6D2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7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lfaen"/>
              </a:rPr>
              <a:t>Перечень предметов Олимпиады в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Sylfaen"/>
              </a:rPr>
              <a:t>2008-2009 учебном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1. английски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2. астро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3. би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4. геогра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5. 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6. ис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7.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8. мате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9. немецки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10. обществоз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11. 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12. русски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13.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14. 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15.физическая культура (проводилась вперв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16. французски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17. 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18.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19. эконом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4454-3295-4396-B9AD-F8031B80C6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7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lfaen"/>
              </a:rPr>
              <a:t>Вывод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Олимпиада проводится в соответствии с новым регламентом и нормативно-правовой базой, разработанными Рособразов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Олимпиада остается самым массовым, доступным и открытым интеллектуальным соревнов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Нижегородская область в этом году имеет достаточно высокие результаты по итогам выступлений нижегородских школьников на заключительном этапе Олимпи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Олимпиада проводится под научно-методическим руководством и использует материально-технические возможности лучших вузов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Олимпиада остаётся приоритетной в финансировании для министерства образования Нижегород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B884-9A46-4EE9-A03B-65460B3B21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7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lfaen"/>
              </a:rPr>
              <a:t>Органам, осуществляющим управление в сфере образования муниципальных районов и городских округов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lfaen"/>
              </a:rPr>
              <a:t>Обеспечить проведение школьного и муниципального этапов Всероссийской олимпиады школьников в 2009-2010 учебном году в установленные с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lfaen"/>
              </a:rPr>
              <a:t>Организовать работу по созданию условий для расширения числа участников школьного и муниципального этапов, по популяризации олимпиадного движения в образовательных учрежд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lfaen"/>
              </a:rPr>
              <a:t>Обеспечить своевременное и правильное оформление документов для участия обучающихся в региональном этапе Олимпиады: внесение наименования образовательных учреждений согласно Уставу, персональных данных обучающихся и педагогов в соответствии с паспортом или свидетельством о рожд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lfaen"/>
              </a:rPr>
              <a:t>Организовать организационно-методическую подготовку проведения школьного и муниципальных этапов Олимпиады по ОБЖ в 2010-2011 учебном го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DB88-DF4D-4FAE-84EB-96FDC96E0D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7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lfaen"/>
              </a:rPr>
              <a:t>Базовые высшие учебные заве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ylfaen"/>
              </a:rPr>
              <a:t>1. Нижегородский государственный университет им. Н.И.  Лобачевского – ректор </a:t>
            </a:r>
            <a:r>
              <a:rPr b="1" lang="ru-RU" sz="2800" spc="-1" strike="noStrike">
                <a:solidFill>
                  <a:srgbClr val="000000"/>
                </a:solidFill>
                <a:latin typeface="Sylfaen"/>
              </a:rPr>
              <a:t>Чупрунов Е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ylfaen"/>
              </a:rPr>
              <a:t>2. Нижегородский государственный лингвистический университет                         им. Н.А. Добролюбова – ректор </a:t>
            </a:r>
            <a:r>
              <a:rPr b="1" lang="ru-RU" sz="2800" spc="-1" strike="noStrike">
                <a:solidFill>
                  <a:srgbClr val="000000"/>
                </a:solidFill>
                <a:latin typeface="Sylfaen"/>
              </a:rPr>
              <a:t>Жигалёв Б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ylfaen"/>
              </a:rPr>
              <a:t>3. Нижегородский государственный педагогический университет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ylfaen"/>
              </a:rPr>
              <a:t>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Sylfaen"/>
              </a:rPr>
              <a:t>ректор </a:t>
            </a:r>
            <a:r>
              <a:rPr b="1" lang="ru-RU" sz="2800" spc="-1" strike="noStrike">
                <a:solidFill>
                  <a:srgbClr val="000000"/>
                </a:solidFill>
                <a:latin typeface="Sylfaen"/>
              </a:rPr>
              <a:t>Глуздов В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A381-40BE-4A59-A1DE-471B115AF0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7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lfaen"/>
              </a:rPr>
              <a:t>Количество участников  Всероссийской олимпиады школьников (челове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42920" y="1700280"/>
          <a:ext cx="7201080" cy="47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7201080" cy="47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2053-8EE2-473C-B468-87BD7DBACA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7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lfaen"/>
              </a:rPr>
              <a:t>Количество участников школьного этапа Олимпиады (челове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042920" y="1557360"/>
          <a:ext cx="6769080" cy="481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557360"/>
                    <a:ext cx="676908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59CB-DEEA-4479-9780-A7FB5A7C9F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7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lfaen"/>
              </a:rPr>
              <a:t>Количество участников муниципального этапа Олимпиады               (челове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19280" y="2276640"/>
          <a:ext cx="609120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609120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8548-82D1-4F81-A864-92CC7321E1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7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lfaen"/>
              </a:rPr>
              <a:t>Количество образовательных учреждений, проводивших школьный этап по предмет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50920" y="1773360"/>
          <a:ext cx="8569080" cy="483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56908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75B4-FCB2-4F87-9B98-A72B42FEF9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7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lfaen"/>
              </a:rPr>
              <a:t>Количество образовательных учреждений, участвовавших в муниципальном этапе по предме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95280" y="1989000"/>
          <a:ext cx="8232840" cy="433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89000"/>
                    <a:ext cx="8232840" cy="43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9E48-5A25-4924-B172-45F90406D9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7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lfaen"/>
              </a:rPr>
              <a:t>Количество участников регионального этапа по класс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4848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2009 год          % от общего количества учащихся в регио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2008 год      % от общего количества учащихся в регио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7 клас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 – 2 человека        0,007% 292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1 человек                            0,00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8 клас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 – 1 человек          0,004% 28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37 человек                          0,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9 клас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 – 305 человек      1,25% 244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241 человек                        0,8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10 клас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 – 319 человек    1,9% 169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342 человека                      1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11 клас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 – 339 человек    1,8% 19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715 человек                        3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Всег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: 966 человек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1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1336 человек    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1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1A62-2F86-49E0-85B5-8579F4998B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4:36:24Z</dcterms:created>
  <dc:creator>Катя</dc:creator>
  <dc:description/>
  <dc:language>en-US</dc:language>
  <cp:lastModifiedBy>user</cp:lastModifiedBy>
  <dcterms:modified xsi:type="dcterms:W3CDTF">2009-10-29T17:33:25Z</dcterms:modified>
  <cp:revision>23</cp:revision>
  <dc:subject/>
  <dc:title>Слайд 1</dc:title>
</cp:coreProperties>
</file>