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365-3C84-40F5-8824-CC1411DC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2A3-A107-4249-A4DC-AB2FA71F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F79-3FBB-4D2C-A589-8EF96BB3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9D9-A08F-4F1B-9F5B-FA07397F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4EC-B931-4F7D-B043-E03F5520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B03-EF87-408A-87BC-AF3B294C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5DD-9EE4-4D92-A174-132D6DD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066-3725-4F53-A46D-92697EF5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9DE-8936-4907-9324-67BC073E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8CF3-5E33-4C26-B91A-A48920D8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158-9EE1-4221-8064-4EEDA92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292-D4A1-46AC-9D16-F10F5E7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B5BF-3CE2-4DE5-AD61-7CD54160A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34920" y="620640"/>
            <a:ext cx="7274160" cy="5510160"/>
            <a:chOff x="934920" y="620640"/>
            <a:chExt cx="7274160" cy="55101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934920" y="674640"/>
              <a:ext cx="727416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916360" y="836640"/>
              <a:ext cx="504036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ИТОГИ ВСЕРОССИЙСКОЙ ОЛИМПИАДЫ ШКОЛЬНИКОВ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В 200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-200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УЧЕБНОМ ГОД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403280" y="3068640"/>
              <a:ext cx="46087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.И. ДЕМИДОВА,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заместитель начальника Управления учреждений образования и реализации приоритетного национального проекта «Образование» Федерального агентства по образова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20640"/>
              <a:ext cx="1150920" cy="1150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95280" y="263520"/>
            <a:ext cx="8353440" cy="6337440"/>
          </a:xfrm>
          <a:prstGeom prst="rect">
            <a:avLst/>
          </a:prstGeom>
          <a:noFill/>
          <a:ln w="1015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19280" y="393840"/>
            <a:ext cx="7705440" cy="367524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50000">
                <a:srgbClr val="ffffff"/>
              </a:gs>
              <a:gs pos="100000">
                <a:srgbClr val="b8b8b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чащиеся данных субъек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ибо не имеют возможность участвовать по данным предметам в пятом завершающем этапе олимпиады вообщ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ибо  участвуют в нем, минуя  третий этап,  то есть  с нарушением процедуры  конкурсного отб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4457880"/>
            <a:ext cx="7777080" cy="199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ак, в 2008 году без проведения регионального этапа были направлены на олимпиаду  заключительного этапа по праву 4 учащихся   из  Красноярского края              и 1 учащийся на олимпиаду по экономике                                         из  Тюме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836640"/>
            <a:ext cx="8569440" cy="470340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50000">
                <a:srgbClr val="ffffff"/>
              </a:gs>
              <a:gs pos="100000">
                <a:srgbClr val="b8b8b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7 субъектах Российской Федерации были нарушены сроки проведения регионального этапа олимпи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спублика Татарстан,  Брянская,  Волгоград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ининградская, Калужская, Московская, Самарск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ратовская, Свердловская, Тамбовская, Тверск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ьяновская, Челябинская обла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. Москва и г. Санкт-Петербур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анты-Мансийский АО и Чукотский А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956720" y="6453360"/>
            <a:ext cx="502920" cy="404640"/>
          </a:xfrm>
          <a:custGeom>
            <a:avLst/>
            <a:gdLst>
              <a:gd name="textAreaLeft" fmla="*/ 68040 w 502920"/>
              <a:gd name="textAreaRight" fmla="*/ 434880 w 50292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42" h="21600">
                <a:moveTo>
                  <a:pt x="0" y="0"/>
                </a:moveTo>
                <a:lnTo>
                  <a:pt x="26842" y="0"/>
                </a:lnTo>
                <a:lnTo>
                  <a:pt x="26842" y="21600"/>
                </a:lnTo>
                <a:lnTo>
                  <a:pt x="0" y="21600"/>
                </a:lnTo>
                <a:close/>
              </a:path>
              <a:path fill="lightenLess" w="26842" h="21600">
                <a:moveTo>
                  <a:pt x="0" y="0"/>
                </a:moveTo>
                <a:lnTo>
                  <a:pt x="26842" y="0"/>
                </a:lnTo>
                <a:lnTo>
                  <a:pt x="23200" y="3642"/>
                </a:lnTo>
                <a:lnTo>
                  <a:pt x="3642" y="3642"/>
                </a:lnTo>
                <a:close/>
              </a:path>
              <a:path fill="darken" w="26842" h="21600">
                <a:moveTo>
                  <a:pt x="26842" y="0"/>
                </a:moveTo>
                <a:lnTo>
                  <a:pt x="26842" y="21600"/>
                </a:lnTo>
                <a:lnTo>
                  <a:pt x="23200" y="17958"/>
                </a:lnTo>
                <a:lnTo>
                  <a:pt x="23200" y="3642"/>
                </a:lnTo>
                <a:close/>
              </a:path>
              <a:path fill="darkenLess" w="26842" h="21600">
                <a:moveTo>
                  <a:pt x="26842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00" y="17958"/>
                </a:lnTo>
                <a:close/>
              </a:path>
              <a:path fill="lighten" w="26842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42" h="21600">
                <a:moveTo>
                  <a:pt x="8085" y="5465"/>
                </a:moveTo>
                <a:lnTo>
                  <a:pt x="18756" y="10800"/>
                </a:lnTo>
                <a:lnTo>
                  <a:pt x="808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7236000" y="6453360"/>
            <a:ext cx="504720" cy="404640"/>
          </a:xfrm>
          <a:custGeom>
            <a:avLst/>
            <a:gdLst>
              <a:gd name="textAreaLeft" fmla="*/ 59760 w 504720"/>
              <a:gd name="textAreaRight" fmla="*/ 444960 w 50472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3749" y="3189"/>
                </a:lnTo>
                <a:lnTo>
                  <a:pt x="3189" y="3189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3749" y="18411"/>
                </a:lnTo>
                <a:lnTo>
                  <a:pt x="23749" y="3189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49" y="18411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38" h="21600">
                <a:moveTo>
                  <a:pt x="7796" y="10800"/>
                </a:moveTo>
                <a:lnTo>
                  <a:pt x="19142" y="5127"/>
                </a:lnTo>
                <a:lnTo>
                  <a:pt x="19142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71640" y="378000"/>
            <a:ext cx="7897680" cy="136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нформационное сопровождение и освещение итогов  регионального этапа отслеживалось через интернет-ресурсы каждого субъекта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5121360"/>
            <a:ext cx="8185320" cy="136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а работа имела важное значение для перехода  на новую систему определения   участников заключительного этапа олимпи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2116080"/>
            <a:ext cx="6035760" cy="263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дним из требований  этого года была обязательная регистрация и заполнение базы данных по участникам  регионального этапа Всероссийской олимпиады школьников в каждом субъекте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453960"/>
            <a:ext cx="8496000" cy="52362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2008 году результаты олимпиады  оценивались по целой совокупности взаимодополняющ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йтинг команды среди регионов РФ по абсолютному числу побе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ффективность участия региональной команды в заключительном этапе олимпиа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довлетворенность участников олимпиа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сурсный потенциал олимпиады для учас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спективность участия в олимпиаде для школьников       и 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3280" y="1405080"/>
            <a:ext cx="62294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тоги Международных  олимпиад   школьников                                          по общеобразовательным предм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720" y="3151080"/>
            <a:ext cx="813600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жегодно в международных олимпиадах по семи общеобразовательным предметам – математике, химии, биологии, физике, географии, информатике, астрономии участвуют сборные команды, которые формируются из числа победителей и призеров Всероссийской олимпиады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4365720"/>
            <a:ext cx="669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04000" y="1109520"/>
            <a:ext cx="2089080" cy="20894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0600" y="84240"/>
            <a:ext cx="8362800" cy="213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зультаты, показанные на предметных олимпиадах международного уровня, говорят об общем уровне развития образования в стране и готовности этих стран создавать и воспроизводить новые техн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4149720"/>
            <a:ext cx="9036000" cy="23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этому в государствах, стремящихся занять лидирующие экономические и политические позиции в мире, придается большое значение, как развитию национальных предметных соревнований школьников, так и успехам своих команд на Международных олимпиада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02944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523280" y="6453360"/>
            <a:ext cx="504720" cy="404640"/>
          </a:xfrm>
          <a:custGeom>
            <a:avLst/>
            <a:gdLst>
              <a:gd name="textAreaLeft" fmla="*/ 59760 w 504720"/>
              <a:gd name="textAreaRight" fmla="*/ 444960 w 50472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3749" y="3189"/>
                </a:lnTo>
                <a:lnTo>
                  <a:pt x="3189" y="3189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3749" y="18411"/>
                </a:lnTo>
                <a:lnTo>
                  <a:pt x="23749" y="3189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49" y="18411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38" h="21600">
                <a:moveTo>
                  <a:pt x="7796" y="10800"/>
                </a:moveTo>
                <a:lnTo>
                  <a:pt x="19142" y="5127"/>
                </a:lnTo>
                <a:lnTo>
                  <a:pt x="19142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99880" y="15840"/>
            <a:ext cx="8615520" cy="1623960"/>
          </a:xfrm>
          <a:prstGeom prst="roundRect">
            <a:avLst>
              <a:gd name="adj" fmla="val 16667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нформация о количестве победителей и призеров международных олимпиад, обучающихся в России по общеобразовательным предметам              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3520" y="2060640"/>
            <a:ext cx="8616960" cy="1369800"/>
          </a:xfrm>
          <a:prstGeom prst="roundRect">
            <a:avLst>
              <a:gd name="adj" fmla="val 16667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этом году в «копилке» России с учетом естественнонаучной олимпиады (декабрь 2007 г.) - 36 медалей (22 золотых, 9 серебряных, 5 бронзов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547640" y="3500280"/>
            <a:ext cx="5832720" cy="3384720"/>
            <a:chOff x="1547640" y="3500280"/>
            <a:chExt cx="5832720" cy="3384720"/>
          </a:xfrm>
        </p:grpSpPr>
        <p:sp>
          <p:nvSpPr>
            <p:cNvPr id="134" name=""/>
            <p:cNvSpPr/>
            <p:nvPr/>
          </p:nvSpPr>
          <p:spPr>
            <a:xfrm>
              <a:off x="1547640" y="5597640"/>
              <a:ext cx="2232360" cy="126360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6000" y="4703760"/>
              <a:ext cx="2232000" cy="215892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48360" y="5991120"/>
              <a:ext cx="2232000" cy="89388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708360" y="3500280"/>
              <a:ext cx="1584360" cy="1584360"/>
              <a:chOff x="3708360" y="3500280"/>
              <a:chExt cx="1584360" cy="1584360"/>
            </a:xfrm>
          </p:grpSpPr>
          <p:sp>
            <p:nvSpPr>
              <p:cNvPr id="138" name=""/>
              <p:cNvSpPr/>
              <p:nvPr/>
            </p:nvSpPr>
            <p:spPr>
              <a:xfrm>
                <a:off x="3708360" y="3500280"/>
                <a:ext cx="158436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dc79"/>
                  </a:gs>
                  <a:gs pos="100000">
                    <a:srgbClr val="b89e5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4062240" y="3909600"/>
                <a:ext cx="874800" cy="76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be4ae"/>
                        </a:gs>
                        <a:gs pos="50000">
                          <a:srgbClr val="fae3b7"/>
                        </a:gs>
                        <a:gs pos="100000">
                          <a:srgbClr val="fbe4ae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663300"/>
                      </a:outerShdw>
                    </a:effectLst>
                    <a:latin typeface="Verdana"/>
                  </a:rPr>
                  <a:t>22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be4ae"/>
                      </a:gs>
                      <a:gs pos="50000">
                        <a:srgbClr val="fae3b7"/>
                      </a:gs>
                      <a:gs pos="100000">
                        <a:srgbClr val="fbe4ae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763640" y="4219560"/>
              <a:ext cx="1584360" cy="1584360"/>
              <a:chOff x="1763640" y="4219560"/>
              <a:chExt cx="1584360" cy="1584360"/>
            </a:xfrm>
          </p:grpSpPr>
          <p:sp>
            <p:nvSpPr>
              <p:cNvPr id="141" name=""/>
              <p:cNvSpPr/>
              <p:nvPr/>
            </p:nvSpPr>
            <p:spPr>
              <a:xfrm>
                <a:off x="1763640" y="4219560"/>
                <a:ext cx="158436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2201040" y="4628880"/>
                <a:ext cx="709560" cy="76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6e6e6"/>
                        </a:gs>
                        <a:gs pos="50000">
                          <a:srgbClr val="ffffff"/>
                        </a:gs>
                        <a:gs pos="100000">
                          <a:srgbClr val="e6e6e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663300"/>
                      </a:outerShdw>
                    </a:effectLst>
                    <a:latin typeface="Verdana"/>
                  </a:rPr>
                  <a:t>9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508720" y="4508640"/>
              <a:ext cx="1584360" cy="1584360"/>
              <a:chOff x="5508720" y="4508640"/>
              <a:chExt cx="1584360" cy="1584360"/>
            </a:xfrm>
          </p:grpSpPr>
          <p:sp>
            <p:nvSpPr>
              <p:cNvPr id="144" name=""/>
              <p:cNvSpPr/>
              <p:nvPr/>
            </p:nvSpPr>
            <p:spPr>
              <a:xfrm>
                <a:off x="5508720" y="4508640"/>
                <a:ext cx="158436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5945760" y="4917960"/>
                <a:ext cx="709920" cy="76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825600"/>
                        </a:gs>
                        <a:gs pos="50000">
                          <a:srgbClr val="ffa800"/>
                        </a:gs>
                        <a:gs pos="100000">
                          <a:srgbClr val="8256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663300"/>
                      </a:outerShdw>
                    </a:effectLst>
                    <a:latin typeface="Verdana"/>
                  </a:rPr>
                  <a:t>5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50000">
                        <a:srgbClr val="ffa800"/>
                      </a:gs>
                      <a:gs pos="100000">
                        <a:srgbClr val="8256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663300"/>
                    </a:outerShdw>
                  </a:effectLst>
                  <a:latin typeface="Verdana"/>
                  <a:ea typeface="Verdana"/>
                </a:endParaRPr>
              </a:p>
            </p:txBody>
          </p:sp>
        </p:grpSp>
      </p:grp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02944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730872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95280" y="189000"/>
          <a:ext cx="8282160" cy="6511680"/>
        </p:xfrm>
        <a:graphic>
          <a:graphicData uri="http://schemas.openxmlformats.org/drawingml/2006/table">
            <a:tbl>
              <a:tblPr/>
              <a:tblGrid>
                <a:gridCol w="2233800"/>
                <a:gridCol w="1222200"/>
                <a:gridCol w="1297080"/>
                <a:gridCol w="1295280"/>
                <a:gridCol w="22338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мед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ее количество участников олимпи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5000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e6e6e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c285"/>
                        </a:gs>
                        <a:gs pos="100000">
                          <a:srgbClr val="ff99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5000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e6e6e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c285"/>
                        </a:gs>
                        <a:gs pos="100000">
                          <a:srgbClr val="ff99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5000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e6e6e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c285"/>
                        </a:gs>
                        <a:gs pos="100000">
                          <a:srgbClr val="ff99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5000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e6e6e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c285"/>
                        </a:gs>
                        <a:gs pos="100000">
                          <a:srgbClr val="ff99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5000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e6e6e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c285"/>
                        </a:gs>
                        <a:gs pos="100000">
                          <a:srgbClr val="ff99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5000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e6e6e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c285"/>
                        </a:gs>
                        <a:gs pos="100000">
                          <a:srgbClr val="ff99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строно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5000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e6e6e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c285"/>
                        </a:gs>
                        <a:gs pos="100000">
                          <a:srgbClr val="ff99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ественнонаучная олимпиада (юнио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5000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e6e6e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c285"/>
                        </a:gs>
                        <a:gs pos="100000">
                          <a:srgbClr val="ff99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6dcac"/>
                        </a:gs>
                        <a:gs pos="50000">
                          <a:srgbClr val="e6dcac"/>
                        </a:gs>
                        <a:gs pos="100000">
                          <a:srgbClr val="e6dca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e6e6e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50000">
                          <a:srgbClr val="ffc285"/>
                        </a:gs>
                        <a:gs pos="100000">
                          <a:srgbClr val="ff99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02944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30872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02944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730872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47640" y="466560"/>
            <a:ext cx="784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сероссийская олимпиада школьников                    в 2007–2008 учебном год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55640" y="1484280"/>
          <a:ext cx="7632720" cy="2448000"/>
        </p:xfrm>
        <a:graphic>
          <a:graphicData uri="http://schemas.openxmlformats.org/drawingml/2006/table">
            <a:tbl>
              <a:tblPr/>
              <a:tblGrid>
                <a:gridCol w="2097000"/>
                <a:gridCol w="2349720"/>
                <a:gridCol w="3186000"/>
              </a:tblGrid>
              <a:tr h="143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предм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стников всех этапов Олимпиад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f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ствовали на заключительном этап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15000"/>
                      </a:srgbClr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ff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5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>
                        <a:alpha val="1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20720" y="4221000"/>
            <a:ext cx="7704000" cy="1617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 сравнению с 2007 годом количество участников Всероссийской олимпиады выросло на  25 000 человек, главным образом за  счет роста  участников школьного и муниципального этап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0"/>
            <a:ext cx="8496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2008 году между субъектами РФ, медали победителей и призеров Международных олимпиад школьников распределилис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952560"/>
          <a:ext cx="8496000" cy="5932440"/>
        </p:xfrm>
        <a:graphic>
          <a:graphicData uri="http://schemas.openxmlformats.org/drawingml/2006/table">
            <a:tbl>
              <a:tblPr/>
              <a:tblGrid>
                <a:gridCol w="664920"/>
                <a:gridCol w="2430720"/>
                <a:gridCol w="1800000"/>
                <a:gridCol w="36003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fb15f"/>
                        </a:gs>
                        <a:gs pos="50000">
                          <a:srgbClr val="89ff89"/>
                        </a:gs>
                        <a:gs pos="100000">
                          <a:srgbClr val="5fb15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бъект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fb15f"/>
                        </a:gs>
                        <a:gs pos="50000">
                          <a:srgbClr val="89ff89"/>
                        </a:gs>
                        <a:gs pos="100000">
                          <a:srgbClr val="5fb15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мед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fb15f"/>
                        </a:gs>
                        <a:gs pos="50000">
                          <a:srgbClr val="89ff89"/>
                        </a:gs>
                        <a:gs pos="100000">
                          <a:srgbClr val="5fb15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ы, по которым завоевали мед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fb15f"/>
                        </a:gs>
                        <a:gs pos="50000">
                          <a:srgbClr val="89ff89"/>
                        </a:gs>
                        <a:gs pos="100000">
                          <a:srgbClr val="5fb15f"/>
                        </a:gs>
                      </a:gsLst>
                      <a:lin ang="5400000"/>
                    </a:gradFill>
                  </a:tcPr>
                </a:tc>
              </a:tr>
              <a:tr h="187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с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-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естест.нау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-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-инфор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нкт-Петербу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-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золото-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-астроно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ижегород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инфор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-астроно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рат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инфор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-инфор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a9a7b"/>
                        </a:gs>
                        <a:gs pos="50000">
                          <a:srgbClr val="ffffcc"/>
                        </a:gs>
                        <a:gs pos="100000">
                          <a:srgbClr val="9a9a7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604360" y="597708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604360" y="5543640"/>
            <a:ext cx="504720" cy="404640"/>
          </a:xfrm>
          <a:custGeom>
            <a:avLst/>
            <a:gdLst>
              <a:gd name="textAreaLeft" fmla="*/ 59760 w 504720"/>
              <a:gd name="textAreaRight" fmla="*/ 444960 w 50472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3749" y="3189"/>
                </a:lnTo>
                <a:lnTo>
                  <a:pt x="3189" y="3189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3749" y="18411"/>
                </a:lnTo>
                <a:lnTo>
                  <a:pt x="23749" y="3189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49" y="18411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38" h="21600">
                <a:moveTo>
                  <a:pt x="7796" y="10800"/>
                </a:moveTo>
                <a:lnTo>
                  <a:pt x="19142" y="5127"/>
                </a:lnTo>
                <a:lnTo>
                  <a:pt x="19142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225360"/>
          <a:ext cx="8496000" cy="5940360"/>
        </p:xfrm>
        <a:graphic>
          <a:graphicData uri="http://schemas.openxmlformats.org/drawingml/2006/table">
            <a:tbl>
              <a:tblPr/>
              <a:tblGrid>
                <a:gridCol w="664920"/>
                <a:gridCol w="2430720"/>
                <a:gridCol w="2232000"/>
                <a:gridCol w="3168360"/>
              </a:tblGrid>
              <a:tr h="97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fb15f"/>
                        </a:gs>
                        <a:gs pos="50000">
                          <a:srgbClr val="89ff89"/>
                        </a:gs>
                        <a:gs pos="100000">
                          <a:srgbClr val="5fb15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бъект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fb15f"/>
                        </a:gs>
                        <a:gs pos="50000">
                          <a:srgbClr val="89ff89"/>
                        </a:gs>
                        <a:gs pos="100000">
                          <a:srgbClr val="5fb15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мед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fb15f"/>
                        </a:gs>
                        <a:gs pos="50000">
                          <a:srgbClr val="89ff89"/>
                        </a:gs>
                        <a:gs pos="100000">
                          <a:srgbClr val="5fb15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ы, по которым завоевали мед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fb15f"/>
                        </a:gs>
                        <a:gs pos="50000">
                          <a:srgbClr val="89ff89"/>
                        </a:gs>
                        <a:gs pos="100000">
                          <a:srgbClr val="5fb15f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ир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брон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за-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за-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логод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золота-естественнонау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естественнонау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-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ск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рдл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м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1b18d"/>
                        </a:gs>
                        <a:gs pos="50000">
                          <a:srgbClr val="ffffcc"/>
                        </a:gs>
                        <a:gs pos="100000">
                          <a:srgbClr val="b1b18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812000" y="6480000"/>
            <a:ext cx="503280" cy="40500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5000"/>
              <a:gd name="textAreaBottom" fmla="*/ 33696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3195" y="3642"/>
                </a:lnTo>
                <a:lnTo>
                  <a:pt x="3642" y="3642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3195" y="17958"/>
                </a:lnTo>
                <a:lnTo>
                  <a:pt x="23195" y="3642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195" y="17958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37" h="21600">
                <a:moveTo>
                  <a:pt x="8083" y="5465"/>
                </a:moveTo>
                <a:lnTo>
                  <a:pt x="18754" y="10800"/>
                </a:lnTo>
                <a:lnTo>
                  <a:pt x="8083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7164360" y="6480000"/>
            <a:ext cx="504720" cy="405000"/>
          </a:xfrm>
          <a:custGeom>
            <a:avLst/>
            <a:gdLst>
              <a:gd name="textAreaLeft" fmla="*/ 59760 w 504720"/>
              <a:gd name="textAreaRight" fmla="*/ 444960 w 504720"/>
              <a:gd name="textAreaTop" fmla="*/ 59760 h 405000"/>
              <a:gd name="textAreaBottom" fmla="*/ 34524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3725" y="3189"/>
                </a:lnTo>
                <a:lnTo>
                  <a:pt x="3189" y="3189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3725" y="18411"/>
                </a:lnTo>
                <a:lnTo>
                  <a:pt x="23725" y="3189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25" y="18411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14" h="21600">
                <a:moveTo>
                  <a:pt x="7784" y="10800"/>
                </a:moveTo>
                <a:lnTo>
                  <a:pt x="19130" y="5127"/>
                </a:lnTo>
                <a:lnTo>
                  <a:pt x="19130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24000" y="260280"/>
          <a:ext cx="8496000" cy="6072120"/>
        </p:xfrm>
        <a:graphic>
          <a:graphicData uri="http://schemas.openxmlformats.org/drawingml/2006/table">
            <a:tbl>
              <a:tblPr/>
              <a:tblGrid>
                <a:gridCol w="664920"/>
                <a:gridCol w="2430720"/>
                <a:gridCol w="2232000"/>
                <a:gridCol w="3168360"/>
              </a:tblGrid>
              <a:tr h="99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7c067"/>
                        </a:gs>
                        <a:gs pos="50000">
                          <a:srgbClr val="89ff89"/>
                        </a:gs>
                        <a:gs pos="100000">
                          <a:srgbClr val="67c06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бъект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7c067"/>
                        </a:gs>
                        <a:gs pos="50000">
                          <a:srgbClr val="89ff89"/>
                        </a:gs>
                        <a:gs pos="100000">
                          <a:srgbClr val="67c06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мед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7c067"/>
                        </a:gs>
                        <a:gs pos="50000">
                          <a:srgbClr val="89ff89"/>
                        </a:gs>
                        <a:gs pos="100000">
                          <a:srgbClr val="67c06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ы, по которым завоевали мед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7c067"/>
                        </a:gs>
                        <a:gs pos="50000">
                          <a:srgbClr val="89ff89"/>
                        </a:gs>
                        <a:gs pos="100000">
                          <a:srgbClr val="67c067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восибир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  <a:tr h="112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вгород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тай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спублика Бур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астроно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нинград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олото-астроно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лябин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-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24000" y="736560"/>
          <a:ext cx="8496000" cy="5356440"/>
        </p:xfrm>
        <a:graphic>
          <a:graphicData uri="http://schemas.openxmlformats.org/drawingml/2006/table">
            <a:tbl>
              <a:tblPr/>
              <a:tblGrid>
                <a:gridCol w="664920"/>
                <a:gridCol w="2430720"/>
                <a:gridCol w="2232000"/>
                <a:gridCol w="316836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\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fd06f"/>
                        </a:gs>
                        <a:gs pos="50000">
                          <a:srgbClr val="89ff89"/>
                        </a:gs>
                        <a:gs pos="100000">
                          <a:srgbClr val="6fd06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бъект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fd06f"/>
                        </a:gs>
                        <a:gs pos="50000">
                          <a:srgbClr val="89ff89"/>
                        </a:gs>
                        <a:gs pos="100000">
                          <a:srgbClr val="6fd06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меда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fd06f"/>
                        </a:gs>
                        <a:gs pos="50000">
                          <a:srgbClr val="89ff89"/>
                        </a:gs>
                        <a:gs pos="100000">
                          <a:srgbClr val="6fd06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ы, по которым завоевали мед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fd06f"/>
                        </a:gs>
                        <a:gs pos="50000">
                          <a:srgbClr val="89ff89"/>
                        </a:gs>
                        <a:gs pos="100000">
                          <a:srgbClr val="6fd06f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анты-Мансийский А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-естественнонау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спублика Башкорто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ребро-естественнонау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спублика Татар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за-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л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за-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р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за-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0c099"/>
                        </a:gs>
                        <a:gs pos="50000">
                          <a:srgbClr val="ffffcc"/>
                        </a:gs>
                        <a:gs pos="100000">
                          <a:srgbClr val="c0c0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260280"/>
            <a:ext cx="82090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обходимо и дальше развивать систему действий по достижению сборными    командами        школьников    России    лидерских    позиций    в международных олимпиадах по всем предметам, куда следует отне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6200" y="1844640"/>
            <a:ext cx="2448000" cy="344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роприятия по разработке программ и содержания учебно-тренировочных сборов; учебных материалов для теоретических и практических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1840" y="1844640"/>
            <a:ext cx="2737080" cy="1923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роприятия по организации научно-исследовательских работ со школь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18360" y="1844640"/>
            <a:ext cx="2449440" cy="344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здание площадок для проведения учебно-тренировочных сборов, оборудованных современной материально-технической баз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661000"/>
            <a:ext cx="8569080" cy="100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ледует также разработать меры по вопросу проведения в России международных олимпиад по различным общеобразовательным предме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16360" y="3789360"/>
            <a:ext cx="1884240" cy="1944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067280" y="3860640"/>
            <a:ext cx="2232000" cy="167508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055520" y="1413000"/>
            <a:ext cx="288000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каз  Минобразования России от 30.10.2003 № 40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«Об утверждении Положения о Всероссийской олимпиаде школьников»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25760" y="3645000"/>
            <a:ext cx="3095640" cy="29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каз  Минобрнауки  России                      от 22 октября 2007 года № 28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«Об утверждении Положения о Всероссийской олимпиаде школь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00" y="217440"/>
            <a:ext cx="6983280" cy="77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 изменениях в Положении о Всероссийской олимпиаде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800760" y="0"/>
            <a:ext cx="2343240" cy="29336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02944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730872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7a0c"/>
            </a:gs>
            <a:gs pos="50000">
              <a:srgbClr val="ffc113"/>
            </a:gs>
            <a:gs pos="100000">
              <a:srgbClr val="a17a0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5920" y="160200"/>
            <a:ext cx="8372160" cy="4791600"/>
          </a:xfrm>
          <a:prstGeom prst="horizontalScroll">
            <a:avLst>
              <a:gd name="adj" fmla="val 4893"/>
            </a:avLst>
          </a:prstGeom>
          <a:gradFill rotWithShape="0">
            <a:gsLst>
              <a:gs pos="0">
                <a:srgbClr val="a9a987"/>
              </a:gs>
              <a:gs pos="50000">
                <a:srgbClr val="ffffcc"/>
              </a:gs>
              <a:gs pos="100000">
                <a:srgbClr val="a9a987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Основными целями и задачами Олимпиады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явление и развитие у обучающихся творческих способностей и интереса к научно-исследовательск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здание необходимых условий для поддержки одаренных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паганда научных знани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360" y="5084640"/>
            <a:ext cx="8423280" cy="16239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обоих положениях цели и задачи Олимпиады практически совпадают, принципиальных различи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b1cfb1"/>
            </a:gs>
            <a:gs pos="100000">
              <a:srgbClr val="00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9280" y="2492280"/>
            <a:ext cx="4176720" cy="32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вое Положение позволяет проводить олимпиаду по «общеобразовательным предметам, перечень которых утверждается МОН РФ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920" y="466560"/>
            <a:ext cx="8424720" cy="2025720"/>
            <a:chOff x="358920" y="466560"/>
            <a:chExt cx="8424720" cy="2025720"/>
          </a:xfrm>
        </p:grpSpPr>
        <p:sp>
          <p:nvSpPr>
            <p:cNvPr id="203" name=""/>
            <p:cNvSpPr/>
            <p:nvPr/>
          </p:nvSpPr>
          <p:spPr>
            <a:xfrm>
              <a:off x="358920" y="466560"/>
              <a:ext cx="8424720" cy="146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Относительно предметов, по которым проводится олимпиада, то их список непосредственно регламентировался в Положении 2003 го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476360" y="1916280"/>
              <a:ext cx="1943280" cy="57600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355640" y="2492280"/>
            <a:ext cx="4609080" cy="3294360"/>
            <a:chOff x="4355640" y="2492280"/>
            <a:chExt cx="4609080" cy="3294360"/>
          </a:xfrm>
        </p:grpSpPr>
        <p:sp>
          <p:nvSpPr>
            <p:cNvPr id="206" name=""/>
            <p:cNvSpPr/>
            <p:nvPr/>
          </p:nvSpPr>
          <p:spPr>
            <a:xfrm>
              <a:off x="4537080" y="2492280"/>
              <a:ext cx="4427640" cy="329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Минобрнауки  России утвердил 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перечень «олимпиадных»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предметов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приказом          № 286 от 22 октября 2007 года. В нем перечислены 21 предм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16200000">
              <a:off x="3672000" y="3535920"/>
              <a:ext cx="1943280" cy="576360"/>
            </a:xfrm>
            <a:prstGeom prst="triangle">
              <a:avLst>
                <a:gd name="adj" fmla="val 500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2560" y="2492280"/>
            <a:ext cx="7777080" cy="1922760"/>
          </a:xfrm>
          <a:prstGeom prst="rect">
            <a:avLst/>
          </a:prstGeom>
          <a:gradFill rotWithShape="0">
            <a:gsLst>
              <a:gs pos="0">
                <a:srgbClr val="9a9a00"/>
              </a:gs>
              <a:gs pos="50000">
                <a:srgbClr val="ffff00"/>
              </a:gs>
              <a:gs pos="100000">
                <a:srgbClr val="9a9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праздняется 4 федеральный окружной этап, который проводился по пяти общеобразовательным предметам международного форм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549360"/>
            <a:ext cx="7632720" cy="825480"/>
          </a:xfrm>
          <a:prstGeom prst="rect">
            <a:avLst/>
          </a:prstGeom>
          <a:gradFill rotWithShape="0">
            <a:gsLst>
              <a:gs pos="0">
                <a:srgbClr val="87a965"/>
              </a:gs>
              <a:gs pos="50000">
                <a:srgbClr val="ccff99"/>
              </a:gs>
              <a:gs pos="100000">
                <a:srgbClr val="87a96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нципиально различаются два Положения количеством эта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2720" y="1752480"/>
            <a:ext cx="59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Согласно новому Поло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49160" y="5106960"/>
            <a:ext cx="1968480" cy="459720"/>
          </a:xfrm>
          <a:prstGeom prst="rect">
            <a:avLst/>
          </a:prstGeom>
          <a:gradFill rotWithShape="0">
            <a:gsLst>
              <a:gs pos="0">
                <a:srgbClr val="a1a181"/>
              </a:gs>
              <a:gs pos="50000">
                <a:srgbClr val="ffffcc"/>
              </a:gs>
              <a:gs pos="100000">
                <a:srgbClr val="a1a18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44000" y="5106960"/>
            <a:ext cx="2236680" cy="459720"/>
          </a:xfrm>
          <a:prstGeom prst="rect">
            <a:avLst/>
          </a:prstGeom>
          <a:gradFill rotWithShape="0">
            <a:gsLst>
              <a:gs pos="0">
                <a:srgbClr val="a1a181"/>
              </a:gs>
              <a:gs pos="50000">
                <a:srgbClr val="ffffcc"/>
              </a:gs>
              <a:gs pos="100000">
                <a:srgbClr val="a1a18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нфор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2640" y="5106960"/>
            <a:ext cx="1631520" cy="459720"/>
          </a:xfrm>
          <a:prstGeom prst="rect">
            <a:avLst/>
          </a:prstGeom>
          <a:gradFill rotWithShape="0">
            <a:gsLst>
              <a:gs pos="0">
                <a:srgbClr val="a1a181"/>
              </a:gs>
              <a:gs pos="50000">
                <a:srgbClr val="ffffcc"/>
              </a:gs>
              <a:gs pos="100000">
                <a:srgbClr val="a1a18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13720" y="5106960"/>
            <a:ext cx="1278000" cy="459720"/>
          </a:xfrm>
          <a:prstGeom prst="rect">
            <a:avLst/>
          </a:prstGeom>
          <a:gradFill rotWithShape="0">
            <a:gsLst>
              <a:gs pos="0">
                <a:srgbClr val="a1a181"/>
              </a:gs>
              <a:gs pos="50000">
                <a:srgbClr val="ffffcc"/>
              </a:gs>
              <a:gs pos="100000">
                <a:srgbClr val="a1a18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5120" y="5106960"/>
            <a:ext cx="1159200" cy="459720"/>
          </a:xfrm>
          <a:prstGeom prst="rect">
            <a:avLst/>
          </a:prstGeom>
          <a:gradFill rotWithShape="0">
            <a:gsLst>
              <a:gs pos="0">
                <a:srgbClr val="a1a181"/>
              </a:gs>
              <a:gs pos="50000">
                <a:srgbClr val="ffffcc"/>
              </a:gs>
              <a:gs pos="100000">
                <a:srgbClr val="a1a18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1" idx="1"/>
            <a:endCxn id="218" idx="0"/>
          </p:cNvCxnSpPr>
          <p:nvPr/>
        </p:nvCxnSpPr>
        <p:spPr>
          <a:xfrm flipH="1" flipV="1" rot="10800000">
            <a:off x="681480" y="3457080"/>
            <a:ext cx="3960" cy="1650240"/>
          </a:xfrm>
          <a:prstGeom prst="bentConnector4">
            <a:avLst>
              <a:gd name="adj1" fmla="val -7200000"/>
              <a:gd name="adj2" fmla="val 79293"/>
            </a:avLst>
          </a:prstGeom>
          <a:ln w="38160">
            <a:solidFill>
              <a:srgbClr val="00be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1" idx="3"/>
            <a:endCxn id="214" idx="0"/>
          </p:cNvCxnSpPr>
          <p:nvPr/>
        </p:nvCxnSpPr>
        <p:spPr>
          <a:xfrm flipH="1">
            <a:off x="8033760" y="3457440"/>
            <a:ext cx="425880" cy="1650240"/>
          </a:xfrm>
          <a:prstGeom prst="bentConnector4">
            <a:avLst>
              <a:gd name="adj1" fmla="val -53722"/>
              <a:gd name="adj2" fmla="val 79205"/>
            </a:avLst>
          </a:prstGeom>
          <a:ln w="38160">
            <a:solidFill>
              <a:srgbClr val="00be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rot="5400000">
            <a:off x="2393280" y="3504960"/>
            <a:ext cx="685080" cy="2520000"/>
          </a:xfrm>
          <a:prstGeom prst="bentConnector3">
            <a:avLst>
              <a:gd name="adj1" fmla="val 49842"/>
            </a:avLst>
          </a:prstGeom>
          <a:ln w="38160">
            <a:solidFill>
              <a:srgbClr val="00be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H="1" rot="16200000">
            <a:off x="5649480" y="4169160"/>
            <a:ext cx="685080" cy="1191240"/>
          </a:xfrm>
          <a:prstGeom prst="bentConnector3">
            <a:avLst>
              <a:gd name="adj1" fmla="val 49842"/>
            </a:avLst>
          </a:prstGeom>
          <a:ln w="38160">
            <a:solidFill>
              <a:srgbClr val="00be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rot="5400000">
            <a:off x="4059360" y="4501080"/>
            <a:ext cx="662760" cy="505440"/>
          </a:xfrm>
          <a:prstGeom prst="bentConnector3">
            <a:avLst>
              <a:gd name="adj1" fmla="val 49836"/>
            </a:avLst>
          </a:prstGeom>
          <a:ln w="38160">
            <a:solidFill>
              <a:srgbClr val="00be00"/>
            </a:solidFill>
            <a:miter/>
            <a:tailEnd len="med" type="triangle" w="med"/>
          </a:ln>
        </p:spPr>
      </p:cxn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e00"/>
            </a:gs>
            <a:gs pos="50000">
              <a:srgbClr val="a9e8a9"/>
            </a:gs>
            <a:gs pos="100000">
              <a:srgbClr val="00be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9640" y="519120"/>
            <a:ext cx="80647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вое Положение относительно участников дает следующее опреде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5520" y="1733400"/>
            <a:ext cx="8832960" cy="25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«обучающиеся (школьники) государственных, муниципальных и негосударственных образовательных организаций, реализующих общеобразовательные программы»  и ограничения по возрасту (классам)                       в зависимости от эта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243320"/>
            <a:ext cx="8280360" cy="1776240"/>
          </a:xfrm>
          <a:prstGeom prst="rect">
            <a:avLst/>
          </a:prstGeom>
          <a:gradFill rotWithShape="0">
            <a:gsLst>
              <a:gs pos="0">
                <a:srgbClr val="c0c099"/>
              </a:gs>
              <a:gs pos="50000">
                <a:srgbClr val="ffffcc"/>
              </a:gs>
              <a:gs pos="100000">
                <a:srgbClr val="c0c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ак самым массовым остается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школьный этап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5-11 классы),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муниципальный этап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5 и 6-е классы не участву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региональном и заключительно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этапах выступают только учащиеся 9-11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5920"/>
            <a:ext cx="91440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дним из основных этапов, обеспечивающих  успешность заключительного,  является региональный этап олимпи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052640"/>
          <a:ext cx="8496000" cy="3166920"/>
        </p:xfrm>
        <a:graphic>
          <a:graphicData uri="http://schemas.openxmlformats.org/drawingml/2006/table">
            <a:tbl>
              <a:tblPr/>
              <a:tblGrid>
                <a:gridCol w="1726920"/>
                <a:gridCol w="3241800"/>
                <a:gridCol w="3527280"/>
              </a:tblGrid>
              <a:tr h="129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2008 го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3ff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ичество участников регионального этапа Олимпиа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ля девочек, особенно среди  учащихся старших 10-11 классов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6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 6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примерно столько же в 2007 год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величение  за  счет  учащихся  9-11 кла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%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24000" y="4365720"/>
            <a:ext cx="8496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з  военных гарнизонов, закрытых территориальных объединений и пограничных городков приняли участие  в олимпиаде на региональном уровне 466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5445000"/>
            <a:ext cx="84960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2008 году  увеличилось количество участников  Всероссийской олимпиады школьников,  не имеющих Российского гражданства. ( из 20 участников двое стали победителями Всероссийской олимпиад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e00"/>
            </a:gs>
            <a:gs pos="50000">
              <a:srgbClr val="a1e6a1"/>
            </a:gs>
            <a:gs pos="100000">
              <a:srgbClr val="00be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06320" y="646200"/>
            <a:ext cx="7731360" cy="1117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бедители и призеры на всех этапах                  по новому положению опреде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66640" y="1773000"/>
            <a:ext cx="8010720" cy="4587480"/>
            <a:chOff x="566640" y="1773000"/>
            <a:chExt cx="8010720" cy="4587480"/>
          </a:xfrm>
        </p:grpSpPr>
        <p:sp>
          <p:nvSpPr>
            <p:cNvPr id="238" name=""/>
            <p:cNvSpPr/>
            <p:nvPr/>
          </p:nvSpPr>
          <p:spPr>
            <a:xfrm>
              <a:off x="566640" y="2203560"/>
              <a:ext cx="8010720" cy="415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«на основании результатов участников соответствующих этапов Олимпиады, которые заносятся в итоговую таблицу результатов участников соответствующих этапов Олимпиады, представляющую собой ранжированный список участников, расположенных по мере убывания набранных                 ими баллов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276720" y="1772640"/>
              <a:ext cx="2592360" cy="431640"/>
            </a:xfrm>
            <a:prstGeom prst="triangle">
              <a:avLst>
                <a:gd name="adj" fmla="val 50000"/>
              </a:avLst>
            </a:prstGeom>
            <a:solidFill>
              <a:srgbClr val="ffe6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e00"/>
            </a:gs>
            <a:gs pos="50000">
              <a:srgbClr val="9ae49a"/>
            </a:gs>
            <a:gs pos="100000">
              <a:srgbClr val="00be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79280" y="1052640"/>
          <a:ext cx="8713800" cy="2766960"/>
        </p:xfrm>
        <a:graphic>
          <a:graphicData uri="http://schemas.openxmlformats.org/drawingml/2006/table">
            <a:tbl>
              <a:tblPr/>
              <a:tblGrid>
                <a:gridCol w="2737080"/>
                <a:gridCol w="5976720"/>
              </a:tblGrid>
              <a:tr h="57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бор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коль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ствуют «все желающ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ниципальный                и региональ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стниками могут быть только победители и призеры предыдущего этапа только текущего учебного года по квотам организатора этапа (муниципалитета, субъекта РФ) соответствен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179280" y="115920"/>
            <a:ext cx="878544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ковы же принципы отбора участников на разных этапах Олимпи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781380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7093080" y="6453360"/>
            <a:ext cx="504720" cy="404640"/>
          </a:xfrm>
          <a:custGeom>
            <a:avLst/>
            <a:gdLst>
              <a:gd name="textAreaLeft" fmla="*/ 59760 w 504720"/>
              <a:gd name="textAreaRight" fmla="*/ 444960 w 50472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3749" y="3189"/>
                </a:lnTo>
                <a:lnTo>
                  <a:pt x="3189" y="3189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3749" y="18411"/>
                </a:lnTo>
                <a:lnTo>
                  <a:pt x="23749" y="3189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49" y="18411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38" h="21600">
                <a:moveTo>
                  <a:pt x="7796" y="10800"/>
                </a:moveTo>
                <a:lnTo>
                  <a:pt x="19142" y="5127"/>
                </a:lnTo>
                <a:lnTo>
                  <a:pt x="19142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79280" y="3789360"/>
          <a:ext cx="8713800" cy="2649600"/>
        </p:xfrm>
        <a:graphic>
          <a:graphicData uri="http://schemas.openxmlformats.org/drawingml/2006/table">
            <a:tbl>
              <a:tblPr/>
              <a:tblGrid>
                <a:gridCol w="2737080"/>
                <a:gridCol w="5976720"/>
              </a:tblGrid>
              <a:tr h="266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лючитель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стниками могут быть: «победители и призеры заключительного этапа предыдущего года, если они продолжают обучение в школе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бедители регионального этапа текущего учебного года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зеры, набравшие необходимое количество балло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e00"/>
            </a:gs>
            <a:gs pos="50000">
              <a:srgbClr val="a1e6a1"/>
            </a:gs>
            <a:gs pos="100000">
              <a:srgbClr val="00be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9640" y="474840"/>
            <a:ext cx="8064720" cy="825480"/>
          </a:xfrm>
          <a:prstGeom prst="rect">
            <a:avLst/>
          </a:prstGeom>
          <a:solidFill>
            <a:srgbClr val="caff95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рганизационное обеспечение Олимпиады по-прежнему ост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16360" y="2655720"/>
            <a:ext cx="540072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тодическое обеспечение (задания) закреплено за предметно-методическими комисс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4148280"/>
            <a:ext cx="2736720" cy="222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школьный этап проводится по заданиям муниципальных предметно-методических комисс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48000" y="4221000"/>
            <a:ext cx="2592360" cy="161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униципальный по заданиям предметно-методических комиссий рег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46720" y="4148280"/>
            <a:ext cx="2592360" cy="222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гиональный и заключительный - по заданиям Центральных предметно-методических комис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7" idx="1"/>
            <a:endCxn id="248" idx="0"/>
          </p:cNvCxnSpPr>
          <p:nvPr/>
        </p:nvCxnSpPr>
        <p:spPr>
          <a:xfrm flipV="1" rot="10800000">
            <a:off x="1672560" y="3163680"/>
            <a:ext cx="1243800" cy="98496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7" idx="3"/>
            <a:endCxn id="250" idx="0"/>
          </p:cNvCxnSpPr>
          <p:nvPr/>
        </p:nvCxnSpPr>
        <p:spPr>
          <a:xfrm flipH="1">
            <a:off x="7543440" y="3164040"/>
            <a:ext cx="774000" cy="984960"/>
          </a:xfrm>
          <a:prstGeom prst="bentConnector4">
            <a:avLst>
              <a:gd name="adj1" fmla="val -29548"/>
              <a:gd name="adj2" fmla="val 7579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2"/>
            <a:endCxn id="249" idx="0"/>
          </p:cNvCxnSpPr>
          <p:nvPr/>
        </p:nvCxnSpPr>
        <p:spPr>
          <a:xfrm rot="5400000">
            <a:off x="4855680" y="3460320"/>
            <a:ext cx="549720" cy="972360"/>
          </a:xfrm>
          <a:prstGeom prst="bentConnector3">
            <a:avLst>
              <a:gd name="adj1" fmla="val 5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54" name=""/>
          <p:cNvGrpSpPr/>
          <p:nvPr/>
        </p:nvGrpSpPr>
        <p:grpSpPr>
          <a:xfrm>
            <a:off x="3132000" y="1341360"/>
            <a:ext cx="5774760" cy="1295640"/>
            <a:chOff x="3132000" y="1341360"/>
            <a:chExt cx="5774760" cy="1295640"/>
          </a:xfrm>
        </p:grpSpPr>
        <p:sp>
          <p:nvSpPr>
            <p:cNvPr id="255" name=""/>
            <p:cNvSpPr/>
            <p:nvPr/>
          </p:nvSpPr>
          <p:spPr>
            <a:xfrm>
              <a:off x="3668040" y="1773360"/>
              <a:ext cx="5238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предметно-методическими комиссия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32000" y="1773360"/>
              <a:ext cx="360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859280" y="2205000"/>
              <a:ext cx="1800360" cy="432000"/>
            </a:xfrm>
            <a:prstGeom prst="triangle">
              <a:avLst>
                <a:gd name="adj" fmla="val 50000"/>
              </a:avLst>
            </a:prstGeom>
            <a:solidFill>
              <a:srgbClr val="ffe6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88000" y="1341000"/>
              <a:ext cx="1800000" cy="432000"/>
            </a:xfrm>
            <a:prstGeom prst="triangle">
              <a:avLst>
                <a:gd name="adj" fmla="val 50000"/>
              </a:avLst>
            </a:prstGeom>
            <a:solidFill>
              <a:srgbClr val="ffe6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62680" y="1341360"/>
            <a:ext cx="2457720" cy="830880"/>
            <a:chOff x="562680" y="1341360"/>
            <a:chExt cx="2457720" cy="830880"/>
          </a:xfrm>
        </p:grpSpPr>
        <p:sp>
          <p:nvSpPr>
            <p:cNvPr id="260" name=""/>
            <p:cNvSpPr/>
            <p:nvPr/>
          </p:nvSpPr>
          <p:spPr>
            <a:xfrm>
              <a:off x="562680" y="1773360"/>
              <a:ext cx="2457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за оргкомитет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900000" y="1341000"/>
              <a:ext cx="1800360" cy="432000"/>
            </a:xfrm>
            <a:prstGeom prst="triangle">
              <a:avLst>
                <a:gd name="adj" fmla="val 50000"/>
              </a:avLst>
            </a:prstGeom>
            <a:solidFill>
              <a:srgbClr val="ffe6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42880" y="3306600"/>
            <a:ext cx="8058240" cy="2637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существляется за счет средств федерального бюджета (исключение: расходы на проезд участников заключительного этапа Олимпиады и сопровождающих их лиц к месту проведения заключительного этапа и обра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765000"/>
            <a:ext cx="8209080" cy="2592720"/>
          </a:xfrm>
          <a:prstGeom prst="downArrowCallout">
            <a:avLst>
              <a:gd name="adj1" fmla="val -70925"/>
              <a:gd name="adj2" fmla="val 79155"/>
              <a:gd name="adj3" fmla="val 16657"/>
              <a:gd name="adj4" fmla="val 66667"/>
            </a:avLst>
          </a:prstGeom>
          <a:solidFill>
            <a:srgbClr val="caff95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915840"/>
            <a:ext cx="79930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инансовое обеспечение заключительного этапа Олимпиады и методическое обеспечение регионального этапа Олимпиа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31640" y="1247760"/>
            <a:ext cx="8280720" cy="6462720"/>
          </a:xfrm>
          <a:prstGeom prst="horizontalScroll">
            <a:avLst>
              <a:gd name="adj" fmla="val 6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«победители и призеры заключительного этапа Олимпиады принимаются без вступительных испытаний в государственные и муниципальные образовательные учреждения среднего профессионального образования и в государственные и муниципальные образовательные учреждения высшего профессионального образования для обучения по направлениям подготовки (специальностям), соответствующим профилю олимпиа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400" y="173160"/>
            <a:ext cx="7855200" cy="914040"/>
          </a:xfrm>
          <a:prstGeom prst="roundRect">
            <a:avLst>
              <a:gd name="adj" fmla="val 16667"/>
            </a:avLst>
          </a:prstGeom>
          <a:solidFill>
            <a:srgbClr val="caff95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вое Положение трактует Закон РФ «Об образовании» в части льгот победител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95280" y="330120"/>
            <a:ext cx="835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рганам управления образованием субъектов 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16360" y="4149720"/>
            <a:ext cx="48243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производить с помощью информации, размещенной на региональном сайте, своевременное информирование участников о ходе и результатах проведения региональных олимпи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3280" y="4149720"/>
            <a:ext cx="28083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обеспечить своевременное предоставление отчетности об итогах проведения регионального эта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00480" y="1117440"/>
            <a:ext cx="442764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добиться  своевременной регистрации участников  третьего регионального этапа в базе данных, устранив допускаемые ошибки  в наименовании образовательных учреждений и персональных данных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5880" y="1117440"/>
            <a:ext cx="316872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привести в соответствии с новым Положением 2007 года  региональные положения о проведении Всероссийской олимпиады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endshow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934920" y="674640"/>
            <a:ext cx="7274160" cy="5456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258920" y="620640"/>
            <a:ext cx="1150920" cy="115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263520"/>
            <a:ext cx="8353440" cy="6337440"/>
          </a:xfrm>
          <a:prstGeom prst="rect">
            <a:avLst/>
          </a:prstGeom>
          <a:noFill/>
          <a:ln w="1015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109960" y="2852640"/>
            <a:ext cx="52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8604360" y="6453360"/>
            <a:ext cx="504720" cy="404640"/>
          </a:xfrm>
          <a:custGeom>
            <a:avLst/>
            <a:gdLst>
              <a:gd name="textAreaLeft" fmla="*/ 59760 w 504720"/>
              <a:gd name="textAreaRight" fmla="*/ 444960 w 50472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3749" y="3189"/>
                </a:lnTo>
                <a:lnTo>
                  <a:pt x="3189" y="3189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3749" y="18411"/>
                </a:lnTo>
                <a:lnTo>
                  <a:pt x="23749" y="3189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49" y="18411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38" h="21600">
                <a:moveTo>
                  <a:pt x="7796" y="10800"/>
                </a:moveTo>
                <a:lnTo>
                  <a:pt x="19142" y="5127"/>
                </a:lnTo>
                <a:lnTo>
                  <a:pt x="19142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3294000"/>
            <a:ext cx="4464000" cy="32997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 ни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сква, Санкт-Петербург, Республика Татарстан, Московская, Свердловская, Челябинская области, Пермский, Краснодарский края, Нижегородская, Кировская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5440" y="4005360"/>
            <a:ext cx="388764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2008 году Новосибирская область, Удмуртская Республика не вошли в их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5440" y="260280"/>
            <a:ext cx="38876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этом году Белгородская область показала высоки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5440" y="1484280"/>
            <a:ext cx="3887640" cy="222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Еще более высокие показатели продемонстрировала Чувашская Республика, обогнавшая в 2008 году в «командном зачета» Кировскую обл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60360" y="2997360"/>
            <a:ext cx="2232000" cy="2887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5445000"/>
            <a:ext cx="4356360" cy="1008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став «Золотой дюжины» в течение последних лет менялся незначи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240" y="262080"/>
            <a:ext cx="4381200" cy="2760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ивысшие командные показатели, складывающиеся из общего числа призеров и победителей олимпиады, в 2008 году, как и в прошлые годы, стабильно показывают 10 регио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341360"/>
          <a:ext cx="8785440" cy="3986280"/>
        </p:xfrm>
        <a:graphic>
          <a:graphicData uri="http://schemas.openxmlformats.org/drawingml/2006/table">
            <a:tbl>
              <a:tblPr/>
              <a:tblGrid>
                <a:gridCol w="3888000"/>
                <a:gridCol w="504720"/>
                <a:gridCol w="4392720"/>
              </a:tblGrid>
              <a:tr h="39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ионы, которые сумели достичь за данные годы существенного роста числа призеров и побед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d0a6"/>
                        </a:gs>
                        <a:gs pos="50000">
                          <a:srgbClr val="ffffcc"/>
                        </a:gs>
                        <a:gs pos="100000">
                          <a:srgbClr val="d0d0a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d0a6"/>
                        </a:gs>
                        <a:gs pos="50000">
                          <a:srgbClr val="ffffcc"/>
                        </a:gs>
                        <a:gs pos="100000">
                          <a:srgbClr val="d0d0a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спублика Марий Эл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вропольский кра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ронежска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лининградска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арская област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 ра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улучшились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Республике Калмык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мской област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 раз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Костромской обла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d0a6"/>
                        </a:gs>
                        <a:gs pos="50000">
                          <a:srgbClr val="ffffcc"/>
                        </a:gs>
                        <a:gs pos="100000">
                          <a:srgbClr val="d0d0a6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88920" y="189000"/>
            <a:ext cx="8964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ждый пятый регион сумел за 5 последних лет улучшить свои абсолютные результаты вд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445000"/>
            <a:ext cx="8713800" cy="1236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900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озможность в ряде регионов за короткий срок значительного улучшения результатов говорит о больших неиспользованных резервах других террит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79280" y="260280"/>
          <a:ext cx="8785440" cy="6221520"/>
        </p:xfrm>
        <a:graphic>
          <a:graphicData uri="http://schemas.openxmlformats.org/drawingml/2006/table">
            <a:tbl>
              <a:tblPr/>
              <a:tblGrid>
                <a:gridCol w="3888000"/>
                <a:gridCol w="504720"/>
                <a:gridCol w="4392720"/>
              </a:tblGrid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5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некоторых регионах (9,6%) до настоящего времени результаты остаются стабильн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d029"/>
                        </a:gs>
                        <a:gs pos="50000">
                          <a:srgbClr val="ccff33"/>
                        </a:gs>
                        <a:gs pos="100000">
                          <a:srgbClr val="a6d02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d029"/>
                        </a:gs>
                        <a:gs pos="50000">
                          <a:srgbClr val="ccff33"/>
                        </a:gs>
                        <a:gs pos="100000">
                          <a:srgbClr val="a6d02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казывает на отсутствие существенного развития в самой системе олимпиадного дви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6d029"/>
                        </a:gs>
                        <a:gs pos="50000">
                          <a:srgbClr val="ccff33"/>
                        </a:gs>
                        <a:gs pos="100000">
                          <a:srgbClr val="a6d029"/>
                        </a:gs>
                      </a:gsLst>
                      <a:lin ang="10800000"/>
                    </a:gradFill>
                  </a:tcPr>
                </a:tc>
              </a:tr>
              <a:tr h="381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вух регионах Кировская и Челябинская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1d1d1"/>
                        </a:gs>
                        <a:gs pos="50000">
                          <a:srgbClr val="f8f8f8"/>
                        </a:gs>
                        <a:gs pos="100000">
                          <a:srgbClr val="d1d1d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1d1d1"/>
                        </a:gs>
                        <a:gs pos="50000">
                          <a:srgbClr val="f8f8f8"/>
                        </a:gs>
                        <a:gs pos="100000">
                          <a:srgbClr val="d1d1d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же в течение нескольких лет поддерживается высокий уровень достижений, что может говорить об эффективности сложившейся в них системы работы со школьниками при подготовке и проведении олимпиад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нако сколько-нибудь серьезного развития олимпиады в этих территориях не наблюд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1d1d1"/>
                        </a:gs>
                        <a:gs pos="50000">
                          <a:srgbClr val="f8f8f8"/>
                        </a:gs>
                        <a:gs pos="100000">
                          <a:srgbClr val="d1d1d1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 rot="5400000">
            <a:off x="3688200" y="63720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л-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9280" y="404640"/>
          <a:ext cx="8785440" cy="5999400"/>
        </p:xfrm>
        <a:graphic>
          <a:graphicData uri="http://schemas.openxmlformats.org/drawingml/2006/table">
            <a:tbl>
              <a:tblPr/>
              <a:tblGrid>
                <a:gridCol w="3456000"/>
                <a:gridCol w="936720"/>
                <a:gridCol w="4392720"/>
              </a:tblGrid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вановская область, Приморский край и Брян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7d7ac"/>
                        </a:gs>
                        <a:gs pos="50000">
                          <a:srgbClr val="ffffcc"/>
                        </a:gs>
                        <a:gs pos="100000">
                          <a:srgbClr val="d7d7a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7d7ac"/>
                        </a:gs>
                        <a:gs pos="50000">
                          <a:srgbClr val="ffffcc"/>
                        </a:gs>
                        <a:gs pos="100000">
                          <a:srgbClr val="d7d7a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течение последних пяти лет результаты достижений школьников на заключитель-ном этапе олимпиады значительно снизилис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7d7ac"/>
                        </a:gs>
                        <a:gs pos="50000">
                          <a:srgbClr val="ffffcc"/>
                        </a:gs>
                        <a:gs pos="100000">
                          <a:srgbClr val="d7d7ac"/>
                        </a:gs>
                      </a:gsLst>
                      <a:lin ang="10800000"/>
                    </a:gradFill>
                  </a:tcPr>
                </a:tc>
              </a:tr>
              <a:tr h="135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городах Уфа, Ульяновск,  Казань, Елабуга, Геленджик, Нижний Новгород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026"/>
                        </a:gs>
                        <a:gs pos="50000">
                          <a:srgbClr val="ccff33"/>
                        </a:gs>
                        <a:gs pos="100000">
                          <a:srgbClr val="99c02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026"/>
                        </a:gs>
                        <a:gs pos="50000">
                          <a:srgbClr val="ccff33"/>
                        </a:gs>
                        <a:gs pos="100000">
                          <a:srgbClr val="99c026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ый  высокий уровень  организации и проведения состязаний олимпиа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026"/>
                        </a:gs>
                        <a:gs pos="50000">
                          <a:srgbClr val="ccff33"/>
                        </a:gs>
                        <a:gs pos="100000">
                          <a:srgbClr val="99c026"/>
                        </a:gs>
                      </a:gsLst>
                      <a:lin ang="10800000"/>
                    </a:gradFill>
                  </a:tcPr>
                </a:tc>
              </a:tr>
              <a:tr h="134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Новосибирс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3b3df"/>
                        </a:gs>
                        <a:gs pos="50000">
                          <a:srgbClr val="cdcdff"/>
                        </a:gs>
                        <a:gs pos="100000">
                          <a:srgbClr val="b3b3d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3b3df"/>
                        </a:gs>
                        <a:gs pos="50000">
                          <a:srgbClr val="cdcdff"/>
                        </a:gs>
                        <a:gs pos="100000">
                          <a:srgbClr val="b3b3d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ый  низкий уровень  организации и проведения состязаний олимпиа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3b3df"/>
                        </a:gs>
                        <a:gs pos="50000">
                          <a:srgbClr val="cdcdff"/>
                        </a:gs>
                        <a:gs pos="100000">
                          <a:srgbClr val="b3b3df"/>
                        </a:gs>
                      </a:gsLst>
                      <a:lin ang="10800000"/>
                    </a:gradFill>
                  </a:tcPr>
                </a:tc>
              </a:tr>
              <a:tr h="168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гионы Российской Фед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c0c0"/>
                        </a:gs>
                        <a:gs pos="50000">
                          <a:srgbClr val="afffff"/>
                        </a:gs>
                        <a:gs pos="100000">
                          <a:srgbClr val="83c0c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c0c0"/>
                        </a:gs>
                        <a:gs pos="50000">
                          <a:srgbClr val="afffff"/>
                        </a:gs>
                        <a:gs pos="100000">
                          <a:srgbClr val="83c0c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протяжении последних пяти лет показывает либо неровные, либо стабильно низкие результ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c0c0"/>
                        </a:gs>
                        <a:gs pos="50000">
                          <a:srgbClr val="afffff"/>
                        </a:gs>
                        <a:gs pos="100000">
                          <a:srgbClr val="83c0c0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57320"/>
            <a:ext cx="83534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-прежнему тревожной остается ситуация  с соблюдением сроков  и полнотой  проведения регионального этапа олимпи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87400"/>
            <a:ext cx="8424720" cy="338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1b1b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лимпиады по 21 предмету проводились в 2008 году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только  в 14 субъектах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Российской Федера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еспублики Кабардино-Балкарская, Чувашская, Татарст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мский кра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елгородская, Курская, Ленинградская, Мурманская, Ростовская, Самарская, Свердловская, Тульская, Челябинская области,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1690560"/>
            <a:ext cx="259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237280"/>
            <a:ext cx="8496000" cy="1465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остальных субъектах  РФ  по  целому ряду предметов региональный этап олимпиады не провод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730872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658800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5653080"/>
            <a:ext cx="84960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а проблема наиболее актуальна для олимпиад по  астрономии,  праву, обществознанию, физической культуре, француз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4000" y="836640"/>
          <a:ext cx="8496000" cy="4608360"/>
        </p:xfrm>
        <a:graphic>
          <a:graphicData uri="http://schemas.openxmlformats.org/drawingml/2006/table">
            <a:tbl>
              <a:tblPr/>
              <a:tblGrid>
                <a:gridCol w="2879640"/>
                <a:gridCol w="5616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предметных олимпи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d000"/>
                        </a:gs>
                        <a:gs pos="50000">
                          <a:srgbClr val="ffff00"/>
                        </a:gs>
                        <a:gs pos="100000">
                          <a:srgbClr val="d0d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Республиках Адыгея, Алта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bdb1"/>
                        </a:gs>
                        <a:gs pos="50000">
                          <a:srgbClr val="f0e1d2"/>
                        </a:gs>
                        <a:gs pos="100000">
                          <a:srgbClr val="cabdb1"/>
                        </a:gs>
                      </a:gsLst>
                      <a:lin ang="5400000"/>
                    </a:gra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олимпи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d000"/>
                        </a:gs>
                        <a:gs pos="50000">
                          <a:srgbClr val="ffff00"/>
                        </a:gs>
                        <a:gs pos="100000">
                          <a:srgbClr val="d0d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Дагестане, Чеченской Республике. Амурской, Магаданской, Пензенской, Саратовской, Сахалинской  област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bdb1"/>
                        </a:gs>
                        <a:gs pos="50000">
                          <a:srgbClr val="f0e1d2"/>
                        </a:gs>
                        <a:gs pos="100000">
                          <a:srgbClr val="cabdb1"/>
                        </a:gs>
                      </a:gsLst>
                      <a:lin ang="5400000"/>
                    </a:gradFill>
                  </a:tcPr>
                </a:tc>
              </a:tr>
              <a:tr h="13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олимпи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d000"/>
                        </a:gs>
                        <a:gs pos="50000">
                          <a:srgbClr val="ffff00"/>
                        </a:gs>
                        <a:gs pos="100000">
                          <a:srgbClr val="d0d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Республике Тыва, Алтайском и Камчатском  краях, Владимирской, Иркутской, Курганской, Тюменской областях, Ненецком А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bdb1"/>
                        </a:gs>
                        <a:gs pos="50000">
                          <a:srgbClr val="f0e1d2"/>
                        </a:gs>
                        <a:gs pos="100000">
                          <a:srgbClr val="cabdb1"/>
                        </a:gs>
                      </a:gsLst>
                      <a:lin ang="5400000"/>
                    </a:gradFill>
                  </a:tcPr>
                </a:tc>
              </a:tr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предметных олимпиад - почти 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d000"/>
                        </a:gs>
                        <a:gs pos="50000">
                          <a:srgbClr val="ffff00"/>
                        </a:gs>
                        <a:gs pos="100000">
                          <a:srgbClr val="d0d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Красноярском крае,  Еврейском  и Чукотском А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bdb1"/>
                        </a:gs>
                        <a:gs pos="50000">
                          <a:srgbClr val="f0e1d2"/>
                        </a:gs>
                        <a:gs pos="100000">
                          <a:srgbClr val="cabdb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24000" y="223920"/>
            <a:ext cx="8496000" cy="703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егионы, в которых  не проводились некоторые предметные олимпи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29440" y="6453360"/>
            <a:ext cx="503280" cy="404640"/>
          </a:xfrm>
          <a:custGeom>
            <a:avLst/>
            <a:gdLst>
              <a:gd name="textAreaLeft" fmla="*/ 68040 w 503280"/>
              <a:gd name="textAreaRight" fmla="*/ 435240 w 503280"/>
              <a:gd name="textAreaTop" fmla="*/ 68040 h 404640"/>
              <a:gd name="textAreaBottom" fmla="*/ 33660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3219" y="3642"/>
                </a:lnTo>
                <a:lnTo>
                  <a:pt x="3642" y="3642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3219" y="17958"/>
                </a:lnTo>
                <a:lnTo>
                  <a:pt x="23219" y="3642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3642" y="17958"/>
                </a:lnTo>
                <a:lnTo>
                  <a:pt x="23219" y="17958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3642" y="3642"/>
                </a:lnTo>
                <a:lnTo>
                  <a:pt x="3642" y="17958"/>
                </a:lnTo>
                <a:close/>
              </a:path>
              <a:path fill="darken" w="26861" h="21600">
                <a:moveTo>
                  <a:pt x="8095" y="5465"/>
                </a:moveTo>
                <a:lnTo>
                  <a:pt x="18766" y="10800"/>
                </a:lnTo>
                <a:lnTo>
                  <a:pt x="8095" y="1613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308720" y="6453360"/>
            <a:ext cx="505080" cy="404640"/>
          </a:xfrm>
          <a:custGeom>
            <a:avLst/>
            <a:gdLst>
              <a:gd name="textAreaLeft" fmla="*/ 59760 w 505080"/>
              <a:gd name="textAreaRight" fmla="*/ 445320 w 505080"/>
              <a:gd name="textAreaTop" fmla="*/ 59760 h 404640"/>
              <a:gd name="textAreaBottom" fmla="*/ 344880 h 404640"/>
            </a:gdLst>
            <a:ahLst/>
            <a:rect l="textAreaLeft" t="textAreaTop" r="textAreaRight" b="textAreaBottom"/>
            <a:pathLst>
              <a:path w="26957" h="21600">
                <a:moveTo>
                  <a:pt x="0" y="0"/>
                </a:moveTo>
                <a:lnTo>
                  <a:pt x="26957" y="0"/>
                </a:lnTo>
                <a:lnTo>
                  <a:pt x="26957" y="21600"/>
                </a:lnTo>
                <a:lnTo>
                  <a:pt x="0" y="21600"/>
                </a:lnTo>
                <a:close/>
              </a:path>
              <a:path fill="lightenLess" w="26957" h="21600">
                <a:moveTo>
                  <a:pt x="0" y="0"/>
                </a:moveTo>
                <a:lnTo>
                  <a:pt x="26957" y="0"/>
                </a:lnTo>
                <a:lnTo>
                  <a:pt x="23768" y="3189"/>
                </a:lnTo>
                <a:lnTo>
                  <a:pt x="3189" y="3189"/>
                </a:lnTo>
                <a:close/>
              </a:path>
              <a:path fill="darken" w="26957" h="21600">
                <a:moveTo>
                  <a:pt x="26957" y="0"/>
                </a:moveTo>
                <a:lnTo>
                  <a:pt x="26957" y="21600"/>
                </a:lnTo>
                <a:lnTo>
                  <a:pt x="23768" y="18411"/>
                </a:lnTo>
                <a:lnTo>
                  <a:pt x="23768" y="3189"/>
                </a:lnTo>
                <a:close/>
              </a:path>
              <a:path fill="darkenLess" w="26957" h="21600">
                <a:moveTo>
                  <a:pt x="26957" y="21600"/>
                </a:moveTo>
                <a:lnTo>
                  <a:pt x="0" y="21600"/>
                </a:lnTo>
                <a:lnTo>
                  <a:pt x="3189" y="18411"/>
                </a:lnTo>
                <a:lnTo>
                  <a:pt x="23768" y="18411"/>
                </a:lnTo>
                <a:close/>
              </a:path>
              <a:path fill="lighten" w="26957" h="21600">
                <a:moveTo>
                  <a:pt x="0" y="21600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1"/>
                </a:lnTo>
                <a:close/>
              </a:path>
              <a:path fill="darken" w="26957" h="21600">
                <a:moveTo>
                  <a:pt x="7805" y="10800"/>
                </a:moveTo>
                <a:lnTo>
                  <a:pt x="19151" y="5127"/>
                </a:lnTo>
                <a:lnTo>
                  <a:pt x="19151" y="1647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04360" y="6477120"/>
            <a:ext cx="5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8:49:27Z</dcterms:created>
  <dc:creator>Алексей</dc:creator>
  <dc:description/>
  <dc:language>en-US</dc:language>
  <cp:lastModifiedBy>user</cp:lastModifiedBy>
  <dcterms:modified xsi:type="dcterms:W3CDTF">2008-11-12T10:25:23Z</dcterms:modified>
  <cp:revision>142</cp:revision>
  <dc:subject/>
  <dc:title>Слайд 1</dc:title>
</cp:coreProperties>
</file>